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8.wmf" ContentType="image/x-wmf"/>
  <Override PartName="/ppt/media/image11.png" ContentType="image/png"/>
  <Override PartName="/ppt/media/image6.wmf" ContentType="image/x-wmf"/>
  <Override PartName="/ppt/media/image10.wmf" ContentType="image/x-wmf"/>
  <Override PartName="/ppt/media/image9.png" ContentType="image/png"/>
  <Override PartName="/ppt/media/image7.png" ContentType="image/png"/>
  <Override PartName="/ppt/media/image1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4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9256D-39AC-455A-BEFF-3BD1277EE6B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63DEC-BA83-44E6-B525-D0E30B35960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AA686-4CA6-4F43-BF1F-E514F17E1FD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41905-10E9-4208-A81C-1A42340F857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617D7-7EC5-4DAA-B315-4C5A4350FD3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1028D-C89A-4CD0-81D9-6A52C1E3D99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5DA6F-6689-4613-B5BC-989BA440733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oorish occupation c.1000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Lasted 781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4FADD-C6EB-4853-BBF0-4D61472D364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The Moors left a lot beh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2D96F-B930-4512-BFE5-844A24DB7E7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A3242-9E6C-44B9-8A19-41952B6B0F1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1BA3B-1D53-4C85-AFC2-D24FCA5288C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Alhambra mosaics vs Gaudi – Moorish mosaics are symmetrical, Gaudi is rand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Colours – blue, gold, green, bla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49DDE-DB31-46EA-A587-68676E0274F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1BBA-F3E4-4807-9158-8B717CD72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2BA2-D4A1-4094-98BE-DB2B62E04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848E-AF68-49A0-97A7-BCA75C7C3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A789-68CF-49FB-860B-585340214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B397-1013-4712-BF99-BE146AF3F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E0A5-8403-464A-AAFA-BC5306AD3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E219-C0D5-4972-A740-9EDEEEBA9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9D20-CD06-4A95-A37D-53A0584BA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E69D-CD1F-4E1B-9461-55DAC3FCA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C544-B0AB-4305-9CF8-4B6A88DD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1F42-DEF5-4C03-A5F9-B3B71DAB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98C3-09D8-4D3B-849F-297B32D8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9647A-E2EF-48F6-BE22-9B4420C1D36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2.xml"/><Relationship Id="rId10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image" Target="../media/image8.wmf"/><Relationship Id="rId6" Type="http://schemas.openxmlformats.org/officeDocument/2006/relationships/image" Target="../media/image9.png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42920" y="2708280"/>
            <a:ext cx="81010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buClr>
                <a:srgbClr val="ffffd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d9"/>
                </a:solidFill>
                <a:latin typeface="Comic Sans MS"/>
              </a:rPr>
              <a:t>Moorish Spai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buClr>
                <a:srgbClr val="ffffd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d9"/>
                </a:solidFill>
                <a:latin typeface="Comic Sans MS"/>
              </a:rPr>
              <a:t>Shapes making shap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55640" y="0"/>
            <a:ext cx="7632720" cy="6867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284720" y="2924280"/>
            <a:ext cx="576360" cy="504720"/>
          </a:xfrm>
          <a:prstGeom prst="triangle">
            <a:avLst>
              <a:gd name="adj" fmla="val 50000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0800000">
            <a:off x="4284360" y="2421000"/>
            <a:ext cx="576360" cy="504720"/>
          </a:xfrm>
          <a:prstGeom prst="triangle">
            <a:avLst>
              <a:gd name="adj" fmla="val 50000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0800000">
            <a:off x="4284360" y="3429000"/>
            <a:ext cx="576360" cy="504720"/>
          </a:xfrm>
          <a:prstGeom prst="triangle">
            <a:avLst>
              <a:gd name="adj" fmla="val 50000"/>
            </a:avLst>
          </a:prstGeom>
          <a:solidFill>
            <a:srgbClr val="5dff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84720" y="1989000"/>
            <a:ext cx="574560" cy="432000"/>
          </a:xfrm>
          <a:prstGeom prst="triangle">
            <a:avLst>
              <a:gd name="adj" fmla="val 50000"/>
            </a:avLst>
          </a:prstGeom>
          <a:solidFill>
            <a:srgbClr val="5dff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0800000">
            <a:off x="4571640" y="1989000"/>
            <a:ext cx="576360" cy="432000"/>
          </a:xfrm>
          <a:prstGeom prst="triangle">
            <a:avLst>
              <a:gd name="adj" fmla="val 50000"/>
            </a:avLst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10800000">
            <a:off x="3995280" y="1989000"/>
            <a:ext cx="576360" cy="432000"/>
          </a:xfrm>
          <a:prstGeom prst="triangle">
            <a:avLst>
              <a:gd name="adj" fmla="val 50000"/>
            </a:avLst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95640" y="3429000"/>
            <a:ext cx="576360" cy="504720"/>
          </a:xfrm>
          <a:prstGeom prst="triangle">
            <a:avLst>
              <a:gd name="adj" fmla="val 50000"/>
            </a:avLst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3429000"/>
            <a:ext cx="576360" cy="504720"/>
          </a:xfrm>
          <a:prstGeom prst="triangle">
            <a:avLst>
              <a:gd name="adj" fmla="val 50000"/>
            </a:avLst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788000" y="2924280"/>
            <a:ext cx="576000" cy="50472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08360" y="2924280"/>
            <a:ext cx="576360" cy="50472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10800000">
            <a:off x="4788000" y="2421000"/>
            <a:ext cx="576000" cy="50472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0800000">
            <a:off x="3708000" y="2421000"/>
            <a:ext cx="576360" cy="50472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 rot="10096800">
            <a:off x="0" y="404280"/>
            <a:ext cx="3352680" cy="2448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 rot="20232600">
            <a:off x="5829120" y="2565000"/>
            <a:ext cx="3314520" cy="3314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3708360" y="0"/>
            <a:ext cx="3295800" cy="33433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2556000" y="2852640"/>
            <a:ext cx="2292120" cy="2143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179280" y="2924280"/>
            <a:ext cx="2289240" cy="2124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1258920" y="4754520"/>
            <a:ext cx="2306520" cy="21034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8"/>
          <a:stretch/>
        </p:blipFill>
        <p:spPr>
          <a:xfrm>
            <a:off x="3995640" y="4767120"/>
            <a:ext cx="229896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rcRect l="0" t="5295" r="0" b="5002"/>
          <a:stretch/>
        </p:blipFill>
        <p:spPr>
          <a:xfrm>
            <a:off x="0" y="981000"/>
            <a:ext cx="9144000" cy="4830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 flipV="1">
            <a:off x="-1332000" y="2204640"/>
            <a:ext cx="5399280" cy="4032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 flipV="1">
            <a:off x="-468360" y="5157360"/>
            <a:ext cx="3384720" cy="107964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rcRect l="0" t="5295" r="0" b="5002"/>
          <a:stretch/>
        </p:blipFill>
        <p:spPr>
          <a:xfrm>
            <a:off x="0" y="981000"/>
            <a:ext cx="9144000" cy="48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File:Al Andalus.gif"/>
          <p:cNvPicPr/>
          <p:nvPr/>
        </p:nvPicPr>
        <p:blipFill>
          <a:blip r:embed="rId2"/>
          <a:stretch/>
        </p:blipFill>
        <p:spPr>
          <a:xfrm>
            <a:off x="684360" y="549360"/>
            <a:ext cx="7777080" cy="5769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0"/>
            <a:ext cx="2484360" cy="764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711 AD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659640" y="6095880"/>
            <a:ext cx="2484360" cy="764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1492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1241200">
            <a:off x="574560" y="690120"/>
            <a:ext cx="3168720" cy="1434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lbarico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271200">
            <a:off x="6084360" y="691920"/>
            <a:ext cx="2305080" cy="764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jedr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293000">
            <a:off x="7092720" y="5445000"/>
            <a:ext cx="1441440" cy="764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tú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21241200">
            <a:off x="4572000" y="4221000"/>
            <a:ext cx="1368360" cy="764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zu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598200">
            <a:off x="971280" y="5444640"/>
            <a:ext cx="1800000" cy="764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iraf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2781360"/>
            <a:ext cx="2735280" cy="1434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zanaho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21241200">
            <a:off x="4643280" y="2709720"/>
            <a:ext cx="2232360" cy="764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ar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708360" y="4292640"/>
            <a:ext cx="934920" cy="9367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730920" y="2492280"/>
            <a:ext cx="935280" cy="9367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7667640" y="2492280"/>
            <a:ext cx="939960" cy="9399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 rot="21220800">
            <a:off x="3635280" y="404640"/>
            <a:ext cx="1224000" cy="9129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3059280" y="2708280"/>
            <a:ext cx="1011240" cy="10112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 rot="811200">
            <a:off x="163440" y="4489560"/>
            <a:ext cx="1150920" cy="1701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 rot="535800">
            <a:off x="5219280" y="333360"/>
            <a:ext cx="1058760" cy="10587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7"/>
          <a:stretch/>
        </p:blipFill>
        <p:spPr>
          <a:xfrm rot="1062000">
            <a:off x="6803640" y="4797000"/>
            <a:ext cx="183672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8496000" cy="64278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292720" y="6095880"/>
            <a:ext cx="3851280" cy="764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a Alhamb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95280" y="3643200"/>
            <a:ext cx="3960720" cy="2970360"/>
          </a:xfrm>
          <a:prstGeom prst="rect">
            <a:avLst/>
          </a:prstGeom>
          <a:ln w="19080">
            <a:solidFill>
              <a:srgbClr val="ffffd9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395280" y="333360"/>
            <a:ext cx="3809880" cy="2857680"/>
          </a:xfrm>
          <a:prstGeom prst="rect">
            <a:avLst/>
          </a:prstGeom>
          <a:ln w="19080">
            <a:solidFill>
              <a:srgbClr val="ffffd9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4716360" y="3571920"/>
            <a:ext cx="4073760" cy="3056040"/>
          </a:xfrm>
          <a:prstGeom prst="rect">
            <a:avLst/>
          </a:prstGeom>
          <a:ln w="19080">
            <a:solidFill>
              <a:srgbClr val="ffffd9"/>
            </a:solidFill>
            <a:miter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4716360" y="404640"/>
            <a:ext cx="3745080" cy="2810160"/>
          </a:xfrm>
          <a:prstGeom prst="rect">
            <a:avLst/>
          </a:prstGeom>
          <a:ln w="19080">
            <a:solidFill>
              <a:srgbClr val="ffffd9"/>
            </a:solidFill>
            <a:miter/>
          </a:ln>
        </p:spPr>
      </p:pic>
      <p:sp>
        <p:nvSpPr>
          <p:cNvPr id="86" name=""/>
          <p:cNvSpPr/>
          <p:nvPr/>
        </p:nvSpPr>
        <p:spPr>
          <a:xfrm>
            <a:off x="0" y="6095880"/>
            <a:ext cx="3851280" cy="764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a Alhamb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008760"/>
          </a:xfrm>
          <a:prstGeom prst="rect">
            <a:avLst/>
          </a:prstGeom>
          <a:ln w="19080">
            <a:solidFill>
              <a:srgbClr val="ffffd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2-06-29T11:38:45Z</dcterms:modified>
  <cp:revision>189</cp:revision>
  <dc:subject/>
  <dc:title>TITLE</dc:title>
</cp:coreProperties>
</file>