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10.wmf" ContentType="image/x-wmf"/>
  <Override PartName="/ppt/media/image9.png" ContentType="image/png"/>
  <Override PartName="/ppt/media/image7.png" ContentType="image/png"/>
  <Override PartName="/ppt/media/image1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2EA3-C58A-4913-AA40-875A4FC5B4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1DA5-9AED-4C4E-A726-B32212C836B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1D4F-E2D7-4C2F-8DCA-A935C4E7D6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46D0-F37A-438E-92FB-F94E5D8846D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086E-A1E7-405E-A387-C332A8C941F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36A3-9F32-4FE9-9A7C-462A115141C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D655-6A37-4222-9167-EB780348D7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oorish occupation c.1000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Lasted 781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4AFC-7EC2-4FBB-9AA8-D5E27F3EF6A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The Moors left a lot beh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6AA7-3B3B-48F8-B5FE-2F5A700F72C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5433-AB40-4E69-9A87-44D463261A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70BB-A476-4C35-B555-BF0F703BCE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Alhambra mosaics vs Gaudi – Moorish mosaics are symmetrical, Gaudi is rand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Colours – blue, gold, green, bl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13B2-0B42-4391-B3EB-26F6CB5477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F5D-1105-4E01-9140-C25B77E3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922-0658-4AB4-B647-551BA5E3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D0D-0271-4D0E-9306-67CD9461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E912-F13B-4D88-92A3-068F78E3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E65-C82F-4D06-AD75-A4E7AEC8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942-B78F-4704-87AA-2CE196C7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467-426F-49C3-AE46-D09C5F59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B14-136F-474C-B7B4-EEE458EE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6FC-3689-4350-B1AD-28DB11AF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BC6D-9661-495F-AACD-72FA0711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227-AF60-4FA2-BB72-6EFF7E7C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71C-4BF1-48D5-8165-90CBA2FD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F4BB-C54A-4FB9-8377-2978B88E2C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2708280"/>
            <a:ext cx="8101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ffffd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Moorish Sp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ffffd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d9"/>
                </a:solidFill>
                <a:latin typeface="Comic Sans MS"/>
              </a:rPr>
              <a:t>Shapes making shap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7632720" cy="6867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84720" y="2924280"/>
            <a:ext cx="576360" cy="50472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4284360" y="2421000"/>
            <a:ext cx="576360" cy="50472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284360" y="3429000"/>
            <a:ext cx="576360" cy="504720"/>
          </a:xfrm>
          <a:prstGeom prst="triangle">
            <a:avLst>
              <a:gd name="adj" fmla="val 50000"/>
            </a:avLst>
          </a:prstGeom>
          <a:solidFill>
            <a:srgbClr val="5d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4720" y="1989000"/>
            <a:ext cx="574560" cy="432000"/>
          </a:xfrm>
          <a:prstGeom prst="triangle">
            <a:avLst>
              <a:gd name="adj" fmla="val 50000"/>
            </a:avLst>
          </a:prstGeom>
          <a:solidFill>
            <a:srgbClr val="5d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4571640" y="1989000"/>
            <a:ext cx="576360" cy="432000"/>
          </a:xfrm>
          <a:prstGeom prst="triangle">
            <a:avLst>
              <a:gd name="adj" fmla="val 50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3995280" y="1989000"/>
            <a:ext cx="576360" cy="432000"/>
          </a:xfrm>
          <a:prstGeom prst="triangle">
            <a:avLst>
              <a:gd name="adj" fmla="val 50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3429000"/>
            <a:ext cx="576360" cy="504720"/>
          </a:xfrm>
          <a:prstGeom prst="triangle">
            <a:avLst>
              <a:gd name="adj" fmla="val 50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429000"/>
            <a:ext cx="576360" cy="504720"/>
          </a:xfrm>
          <a:prstGeom prst="triangle">
            <a:avLst>
              <a:gd name="adj" fmla="val 50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88000" y="2924280"/>
            <a:ext cx="576000" cy="5047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2924280"/>
            <a:ext cx="576360" cy="5047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4788000" y="2421000"/>
            <a:ext cx="576000" cy="5047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3708000" y="2421000"/>
            <a:ext cx="576360" cy="5047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10096800">
            <a:off x="0" y="404280"/>
            <a:ext cx="3352680" cy="244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20232600">
            <a:off x="5829120" y="2565000"/>
            <a:ext cx="3314520" cy="331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708360" y="0"/>
            <a:ext cx="3295800" cy="3343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556000" y="2852640"/>
            <a:ext cx="2292120" cy="2143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79280" y="2924280"/>
            <a:ext cx="2289240" cy="2124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58920" y="4754520"/>
            <a:ext cx="2306520" cy="2103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3995640" y="4767120"/>
            <a:ext cx="22989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5295" r="0" b="5002"/>
          <a:stretch/>
        </p:blipFill>
        <p:spPr>
          <a:xfrm>
            <a:off x="0" y="981000"/>
            <a:ext cx="9144000" cy="483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-1332000" y="2204640"/>
            <a:ext cx="5399280" cy="403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-468360" y="5157360"/>
            <a:ext cx="3384720" cy="1079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5295" r="0" b="5002"/>
          <a:stretch/>
        </p:blipFill>
        <p:spPr>
          <a:xfrm>
            <a:off x="0" y="981000"/>
            <a:ext cx="91440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ile:Al Andalus.gif"/>
          <p:cNvPicPr/>
          <p:nvPr/>
        </p:nvPicPr>
        <p:blipFill>
          <a:blip r:embed="rId2"/>
          <a:stretch/>
        </p:blipFill>
        <p:spPr>
          <a:xfrm>
            <a:off x="684360" y="549360"/>
            <a:ext cx="7777080" cy="576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248436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11 AD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9640" y="6095880"/>
            <a:ext cx="248436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492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41200">
            <a:off x="574560" y="690120"/>
            <a:ext cx="316872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bari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71200">
            <a:off x="6084360" y="691920"/>
            <a:ext cx="230508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jedr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293000">
            <a:off x="7092720" y="5445000"/>
            <a:ext cx="144144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tú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241200">
            <a:off x="4572000" y="4221000"/>
            <a:ext cx="136836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98200">
            <a:off x="971280" y="5444640"/>
            <a:ext cx="180000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ira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2781360"/>
            <a:ext cx="2735280" cy="1434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zanah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1241200">
            <a:off x="4643280" y="2709720"/>
            <a:ext cx="223236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4292640"/>
            <a:ext cx="934920" cy="936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30920" y="2492280"/>
            <a:ext cx="935280" cy="936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67640" y="2492280"/>
            <a:ext cx="939960" cy="939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 rot="21220800">
            <a:off x="3635280" y="404640"/>
            <a:ext cx="1224000" cy="912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059280" y="2708280"/>
            <a:ext cx="101124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 rot="811200">
            <a:off x="163440" y="4489560"/>
            <a:ext cx="1150920" cy="1701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 rot="535800">
            <a:off x="5219280" y="333360"/>
            <a:ext cx="1058760" cy="1058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 rot="1062000">
            <a:off x="6803640" y="4797000"/>
            <a:ext cx="1836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96000" cy="6427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92720" y="6095880"/>
            <a:ext cx="385128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Alham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5280" y="3643200"/>
            <a:ext cx="3960720" cy="2970360"/>
          </a:xfrm>
          <a:prstGeom prst="rect">
            <a:avLst/>
          </a:prstGeom>
          <a:ln w="19080">
            <a:solidFill>
              <a:srgbClr val="ffffd9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3809880" cy="2857680"/>
          </a:xfrm>
          <a:prstGeom prst="rect">
            <a:avLst/>
          </a:prstGeom>
          <a:ln w="19080">
            <a:solidFill>
              <a:srgbClr val="ffffd9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716360" y="3571920"/>
            <a:ext cx="4073760" cy="3056040"/>
          </a:xfrm>
          <a:prstGeom prst="rect">
            <a:avLst/>
          </a:prstGeom>
          <a:ln w="19080">
            <a:solidFill>
              <a:srgbClr val="ffffd9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4716360" y="404640"/>
            <a:ext cx="3745080" cy="2810160"/>
          </a:xfrm>
          <a:prstGeom prst="rect">
            <a:avLst/>
          </a:prstGeom>
          <a:ln w="19080">
            <a:solidFill>
              <a:srgbClr val="ffffd9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0" y="6095880"/>
            <a:ext cx="3851280" cy="764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a Alham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08760"/>
          </a:xfrm>
          <a:prstGeom prst="rect">
            <a:avLst/>
          </a:prstGeom>
          <a:ln w="19080">
            <a:solidFill>
              <a:srgbClr val="ffffd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6-29T11:38:45Z</dcterms:modified>
  <cp:revision>189</cp:revision>
  <dc:subject/>
  <dc:title>TITLE</dc:title>
</cp:coreProperties>
</file>