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E71-6CEF-467C-BF9E-6E3F096A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BC2-7F3A-4E13-BEB6-C3B1B9B3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B6B-162D-4787-A4CB-4FE2A50E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480-49D4-4882-AC7A-C1DB2519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760-8B8E-441A-882F-60836CC4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419D-4D93-4A34-9E57-9E6D062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484E-45C8-42A4-B5F9-9705174E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8475-CFF0-47C9-ADB0-2A4BA276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6D69-0F28-48F3-B2DA-6A87FFF3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BEA6-046A-4EBC-B1D6-23CBCC5E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028E-FD05-491E-8AB5-3BBD6E57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48B-C475-446B-B8C1-8174F9E0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6313-829A-4843-825F-D6CCB43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C2F5-A573-4162-9868-0362BADE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D156-CFDC-4A77-B28D-DD70B3E2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3E94-52F1-4760-A68E-2F674540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ACE0-7B50-4E22-AC52-6CCA46E9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98EE-5F30-4A13-8583-49CE3625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E850-68D1-47B8-A336-3E6EAFD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808B-E3EF-4C84-979B-8382579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9032-C558-4901-B9AE-09E9A8F0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7F76-869D-40DE-AA5F-9E28B679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8CF-27F8-4DEB-ACAF-585DACB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4DF0-C1E3-41EC-AA98-29E14236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716E-8850-48F4-874B-329F2D28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8742-3958-4AA4-A807-26B1D92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58FC-CA23-4B22-89BC-E78DF60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456E-97E2-443C-8851-FC0AD250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13DF-82B9-4F43-9571-D6B9FC7F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BFE5-CD66-4EB4-BAF4-04AC8EA9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999-935B-488A-B91C-393EA35F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BBE-4899-43F8-BB3F-6485C123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5A2-A887-4809-B773-19616BC0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3E2-4DBA-42A1-9BA9-1DFA566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30D-76B2-4E30-9F12-BC0DB54E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8FB-C552-4C5E-AD51-A04C903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F730-23E7-474B-B610-B5C7A806B1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8E25-5F5C-49E7-96FC-A179D6442CD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FE66-FC59-486E-9711-D3EE3E9CF96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42100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br>
              <a:rPr sz="9600"/>
            </a:b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y med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2T12:42:43Z</dcterms:modified>
  <cp:revision>251</cp:revision>
  <dc:subject/>
  <dc:title>TITLE</dc:title>
</cp:coreProperties>
</file>