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FF4-74D2-4CC1-839D-8043BC77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E28-7FC8-4872-9B71-72756478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23F-C90D-4BB0-BEB6-B3413EAD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99D-599C-4176-9E49-251282FE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9FE7-E430-486C-B46E-FA842AEE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DE3C-52CC-4803-A042-8B42B9A4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17F3-6A7D-49A1-AC77-C5255706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8C28-1E2E-4E79-907E-55657C9D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80E7-AD41-4A2C-8511-47D94BE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1CEC-2D49-4E30-8CD0-3ACACB5B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7692-2C62-46F6-963C-7BD9B268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DBD-A086-471B-A878-57A0EC60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04A3-9B1E-4843-A380-D4C4190C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697E-D26D-44E8-AB8F-358385CC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9787-DFDF-416B-B6FB-B8C4B23F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354E-C3F1-48E0-AC26-94E497CA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25F6-3908-4763-A638-881415CB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3607-39F1-4ABE-B925-369699E3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5043-49F0-4C69-AABE-434A3400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7F81-D8F7-4F74-A1D2-01E78F67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75B4-7E3C-4609-93AA-4B07EF3C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EB7B-9C12-42E1-A72D-C18FE2EC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DC2-22F6-45B7-AC9D-6A576F2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4B62-F848-4C3F-AF0F-E463D6C2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CFD2-2DE1-4987-95FC-7DD3643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9DB0-4803-428A-BFCC-CD6B4BE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8A0B-2285-43E9-B09B-1C49EEC9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7CB1-856C-4640-BFC9-2C46F43E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C577-07B8-4B14-AF07-3124EC31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4C52-9559-4683-8A71-599043EB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44D-C3EF-4CAD-BD5D-4EE1329C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62C-FEF4-4F57-B561-C8CBB487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358-E2DB-49D9-A4B6-5B3A6BB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22A-4305-4EE3-B69B-BB8519AA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9D0-9ED6-41BA-9663-0835A89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94D-1390-401F-8E3A-C85F43E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40BC-6E27-4059-BDDB-0465C4A229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A13C-8E22-4EEA-BD01-53FC6F960A4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D8AF-81F6-422D-BDF7-40AED7E93B8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22T12:42:43Z</dcterms:modified>
  <cp:revision>251</cp:revision>
  <dc:subject/>
  <dc:title>TITLE</dc:title>
</cp:coreProperties>
</file>