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3C5E-FF36-4727-81CF-976CEB2A015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301B-828C-4796-B11C-35A73D6A063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0EDB-FDD4-45EC-A9F2-01EBCD65CD3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8DD0-EE09-470F-A6F9-A13AB59AE9F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3BE6-E4D2-44DD-9EFC-5260C8383C2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9812-3DA6-4A0A-A795-E2FB4D3198E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676C-1FE8-4058-9535-0D887823A1F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20AD-2778-4DB6-A35F-DD1E9A27D0A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116F-2A3C-4D5C-B637-3A96F79242D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62D6-11E3-4D5F-9251-45B7E0C165F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A318-A000-40CF-AB2A-FAD1C16AE40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6A97-EE97-4611-91B4-54E8F827256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026A-938E-47A6-860A-683EF88D35B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489E-5172-4EEA-BB5A-AE3547FD768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945D-2144-40A4-BCB6-38C321F3833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FEFB-BE59-4816-883F-E1F74FFBC05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F7DB-8EB1-4330-9D85-6644AA5AC89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FA6B-0027-4133-89D8-102DD276976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D109-F524-4992-80E3-B4173A02E2E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524F-55C7-4FC9-8DA2-40772DE2B9C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6FFF-8CF9-4E1B-8524-10D51DF9C23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53C2-F2FA-4460-97A3-26582CE232A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64C4-8E23-4D92-A5CE-E11F679A4C1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4415-AFC9-47E7-BEB0-82D13A30885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1A23-9D1B-4109-998D-B2CA662B5AF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5502-02DD-4C45-912D-6318FADAC1A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3F7D-F2C8-41A0-8977-0F4F797F163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34C5-50C8-464C-B82F-DA05865E2FD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9D49-9EFB-4F88-925C-5F9C05E2B2E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1A5D-6DE3-4D2D-B7A2-E441A960275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9C57-17FA-4C66-AC6E-51EC1221E00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8E57-7EA6-47DD-96BD-FDE1E4EECA1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FF8E-950E-4F9C-9DF4-6DC2E23D7B4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17D1-0620-4E04-AD8B-11093EF2337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40F1-6160-40DF-A7DC-D300DE9452B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427F-4C62-4F45-B54C-763F6FA6542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1B74-2C5F-4107-B32E-4B8A2558315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2C30-ABCE-4954-8012-FD302C255E0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89EE-75EA-4145-A280-0C1B53B639C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E5DD-5C87-4879-B773-053C8B04C94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72D8-5858-44D9-B3AA-D4B79E4875E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34ED-A513-4A35-8404-48177FB2E81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E540-E03E-4297-85D1-C9EA9D2FDC3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A977-DE80-4CC7-B697-F77222160AB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5C61-6EF5-48D7-934D-E6A37B0A5FB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C886-507F-4010-90C2-EB4E16789B4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C539-2F72-4F40-AC87-BAC41E55066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BFC2-7018-44B5-B46F-953FD412484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87F7-A888-49C9-BE66-6BA54387ABD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80E2-0A82-4D0D-982D-A09F429A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1C26-70F8-4407-A1B2-D7743323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0E2A-C828-4019-A0C5-5F7A12B3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E28A-C39C-4D3A-855D-083B459E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CAC0-DDF6-4247-A67C-B8E72E81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F33E-3E8B-4047-848C-E951145D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7179-3E11-4802-91BC-404A0519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3AE3-0E0A-4621-A709-2A6F4370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DA4D-A87E-4BCA-B9BC-28A2B200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940B-34DD-4335-815A-5C064E8D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94E3-B41B-4598-B0AC-561E1BD6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31BE-BC5D-44A2-8E3E-91E3396D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81A7-F8A2-4D1D-9B01-61364AFF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1CD9-DB85-4014-ACAE-481E4E0C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D660-3166-4320-8870-CB14B932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4573-D369-4DB5-8CC5-3D07C2EA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B0F9-AAAE-4485-A059-D5210169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90F32-7ADD-4CBA-865B-3C35FB93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0F5AB-3D7D-44C7-A462-F1A807C4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95861-A69C-4A04-A25E-10BB675F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F0AF1-328B-4946-A18B-F554EC33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AD45F-E538-4173-9BB2-263D592C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1230-DD09-41B2-BFD1-634DBE78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FC984-BB14-4E75-92E0-51D30ABB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5A8B2-5734-4B7A-B439-E1C01C5F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E6B0C-11A4-4CF6-9282-94BB018C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B863D-1507-492B-932A-321060CB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B13C9-F758-4D93-80F2-F96BB04D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840B0-75CA-4099-84CD-E2B5DB7F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04142-5DE1-49E0-9BCD-101D805A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B8F4-A0F1-4DA5-8EE9-CB7F6776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9B1C-8CA2-4C2A-9AC6-5FB69B1D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F3AC-BA0B-4598-BE56-AB20BBEB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A0B7-B199-447C-9CA9-9D94B4C9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26D8-5AED-449B-A792-3CE7AD45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6241-7704-445A-A2DF-D3685F47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0DB0-340E-47D3-A6D4-50590C9AC93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0BDB-3E58-47AA-AC37-403F4FDA2D7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1334-8747-4606-9227-833C0E7E4A2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es la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un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11600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i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on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o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es la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un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o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tr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cuatr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cinc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se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siet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o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och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nue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i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on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o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nue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cinc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on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es la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un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se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tr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tr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i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siet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o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cuatr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o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och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nue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cinc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on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cuatr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es la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un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se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tr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i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siet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o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cuatr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o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och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cinc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se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siet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och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nue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6-22T12:41:27Z</dcterms:modified>
  <cp:revision>251</cp:revision>
  <dc:subject/>
  <dc:title>TITLE</dc:title>
</cp:coreProperties>
</file>