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B8F56-DA30-4385-8424-818329E912A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8A59B-78F5-496A-9701-A78EA8AC0BA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EDBED-5892-45D6-8E41-B820F0DFE18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2D80F-C19F-4B03-92BE-CA2CD5E09D6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2D95B-86A6-4F9E-BC51-6FF1F3BEC5D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67DA4-7AE4-4DC5-A7B7-6A668FA87D5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B6F33-CE9B-496A-8F28-7794422870C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846C4-F5FF-4A4C-9474-ABAF0A992F5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8DDB9-A623-44AB-B983-AB1435C4BE3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6FF08-A169-41E0-80C2-EF3BD9A4CF6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370B3-21F8-4DC6-9C03-56C05F080F5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640D7-F9C4-43DC-A3B5-F0A3B875B03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C1D2D-79BC-443F-B8CD-56DA6804130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9349C-EBE7-4233-B72D-24BEB50E7B0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D16F3-BD34-4926-86BB-7F2A7DC26B1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2D6CB-9B2C-4AA4-8B59-E44D265A327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89088-274B-4DBF-B127-96623693CDA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1CCA8-79C5-4CE7-9F1A-081DF50D42F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59638-2517-4F06-8005-1CE20054257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7D776-0739-434B-BC0E-0BD9C6EFCEC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09581-9FAE-4F4D-92F6-8FA9536DB75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AAFDA-FE76-432C-AFAA-24B9938893B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DF6A8-6E3A-4722-ACB3-01F9626C04B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A18B0-BA7A-4C95-A71A-596A2EBF72A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E1DDC-142E-4C6F-B121-22C675DA4E4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6F98C-BD75-486C-B0E0-C09EBA913B9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F2C84-19AF-484A-8201-E17B4B66B4C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529CD-81C0-4303-805E-9CD9FA13E8A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47273-1541-4F29-A5BC-8819BD75D04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F43AB-5888-47E8-8C45-1CFCDDC4E97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DB016-8726-47C6-A92B-EB16BBCC469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45D8F-C1BC-4BBC-807C-F5EF0D6E683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339BD-9856-4F38-9E7A-FA82983D678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798C7-186E-41DC-815D-DF3E85B0EE8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5CCAF-A156-4759-A526-A32283AB712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9A1F6-7A89-4EDE-944B-43D3A422BE9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87A16-64E0-4C6E-9F35-61C1A28B09D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0088A-5BA5-4F35-ABE6-4D96E243CF5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4B9B2-322E-4EFB-B07E-FCED2AABCD5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B5C94-9C58-458C-BB43-479F12BCCDE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AE197-5582-4372-9328-33DCFAB3B50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111DF-E089-4A77-A560-5EFBBEE9A95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E8367-FC2B-4BCD-B3EC-2CFD7E4B57F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4E462-A974-4620-8171-5B0EDBB37A8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8DB67-94E4-4E28-ACA1-5A2B650009D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595CB-3F1D-4E4E-BEA9-96FCBA07D75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30899-4357-4607-AEF7-1805C21647D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EEB94-2F0C-412E-B530-5399798E395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E0464-80F3-442A-99F6-0F5758DAF0F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95A9-71FA-4052-94B4-B868DEEC8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DD37-234C-4AF5-87DD-F25387057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81DA-57E2-4342-A59D-34A7E0DA1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64BC-7B50-4571-99DA-CF4D7F569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DE37B-D89A-4993-9355-BB4B2E382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30399-B5A1-45AD-A556-7C29C19A4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3A68B-E2C3-485E-A9A9-188932518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5159C-F2E2-4177-B9B1-740171222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4DFA6-755F-40D6-93BD-A2822E17C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05CF2-2A0F-4159-BC50-F0C059FA3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D8969-DE5E-4BF7-936C-BCBAE00A3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2F98-5A30-4287-8BE1-337E3B60D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F6BC7-2563-4ACE-97B9-AF0A1F540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3155A-36AB-4C7A-A62F-DF05B678F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A4944-8E1E-49BC-9292-E38CA85E4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96110-6334-44FB-A9A9-296A98261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03D21-58EB-4EFB-A9B6-9ED4BF803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A6BD0-3FFB-47F9-BD65-8B44098F4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1AF23-E93E-451C-BF2F-C36B4E696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98309-02A8-49CE-B59D-32A5D5884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5C7BC-6F04-4A8F-B857-61385A025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C4011-B121-483E-AA57-92AEFC918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628E-8C9A-4FDB-946F-BB2939B30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602B5-6A8A-486C-AA11-2EBA38084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9D3B2-BC5F-4B84-BD09-9F696D836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A1567-E3A4-4474-A76F-563849B5C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2604B-7B6A-4801-841F-056CF09AB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22F1D-98D2-40E9-A433-9804413A5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368B4-3178-4EB2-B0E2-9854645FE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B9D8B-3388-47D1-9EF0-216BF8862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5940-E1AA-4A36-8AE1-AA28F6D2D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12C8-E023-4E8E-8675-EA0961A88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FE6C-80E5-41D3-A4FA-CE58BDEF9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C553-0067-4441-8B76-B741B2173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036C-A6A2-4D77-B84B-7B02394A5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7132-B32A-4CBE-ABCC-287C948C4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7B767-0154-431A-8D01-CA2FFDDDB0A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A6A1C-BFB2-44A9-8E36-07F64D660B31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1C174-679B-4619-8AE7-3478BE41E06E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8360" y="2852640"/>
            <a:ext cx="83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es la </a:t>
            </a: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un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116000" y="5877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8360" y="2852640"/>
            <a:ext cx="83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son las </a:t>
            </a: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diez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68360" y="2852640"/>
            <a:ext cx="83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son las </a:t>
            </a: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onc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2852640"/>
            <a:ext cx="83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son las </a:t>
            </a: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doc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852640"/>
            <a:ext cx="83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es la </a:t>
            </a: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un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2852640"/>
            <a:ext cx="83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son las </a:t>
            </a: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do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2852640"/>
            <a:ext cx="83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son las </a:t>
            </a: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tre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2852640"/>
            <a:ext cx="83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son las </a:t>
            </a: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cuatr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68360" y="2852640"/>
            <a:ext cx="83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son las </a:t>
            </a: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cinc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68360" y="2852640"/>
            <a:ext cx="83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son las </a:t>
            </a: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sei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68360" y="2852640"/>
            <a:ext cx="83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son las </a:t>
            </a: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siet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2852640"/>
            <a:ext cx="83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son las </a:t>
            </a: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do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68360" y="2852640"/>
            <a:ext cx="83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son las </a:t>
            </a: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och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8360" y="2852640"/>
            <a:ext cx="83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son las </a:t>
            </a: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nuev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68360" y="2852640"/>
            <a:ext cx="83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son las </a:t>
            </a: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diez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8360" y="2852640"/>
            <a:ext cx="83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son las </a:t>
            </a: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onc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68360" y="2852640"/>
            <a:ext cx="83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son las </a:t>
            </a: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doc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68360" y="2852640"/>
            <a:ext cx="83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son las </a:t>
            </a: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nuev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8360" y="2852640"/>
            <a:ext cx="83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son las </a:t>
            </a: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cinc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8360" y="2852640"/>
            <a:ext cx="83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son las </a:t>
            </a: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onc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68360" y="2852640"/>
            <a:ext cx="83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es la </a:t>
            </a: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un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68360" y="2852640"/>
            <a:ext cx="83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son las </a:t>
            </a: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sei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68360" y="2852640"/>
            <a:ext cx="83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son las </a:t>
            </a: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tre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68360" y="2852640"/>
            <a:ext cx="83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son las </a:t>
            </a: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tre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68360" y="2852640"/>
            <a:ext cx="83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son las </a:t>
            </a: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diez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8360" y="2852640"/>
            <a:ext cx="83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son las </a:t>
            </a: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siet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68360" y="2852640"/>
            <a:ext cx="83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son las </a:t>
            </a: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do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68360" y="2852640"/>
            <a:ext cx="83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son las </a:t>
            </a: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cuatr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2852640"/>
            <a:ext cx="83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son las </a:t>
            </a: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doc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68360" y="2852640"/>
            <a:ext cx="83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son las </a:t>
            </a: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och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68360" y="2852640"/>
            <a:ext cx="83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son las </a:t>
            </a: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nuev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68360" y="2852640"/>
            <a:ext cx="83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son las </a:t>
            </a: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cinc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8360" y="2852640"/>
            <a:ext cx="83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son las </a:t>
            </a: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onc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8360" y="2852640"/>
            <a:ext cx="83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son las </a:t>
            </a: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cuatr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68360" y="2852640"/>
            <a:ext cx="83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es la </a:t>
            </a: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un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68360" y="2852640"/>
            <a:ext cx="83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son las </a:t>
            </a: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sei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68360" y="2852640"/>
            <a:ext cx="83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son las </a:t>
            </a: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tre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68360" y="2852640"/>
            <a:ext cx="83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son las </a:t>
            </a: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diez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68360" y="2852640"/>
            <a:ext cx="83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son las </a:t>
            </a: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siet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68360" y="2852640"/>
            <a:ext cx="83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son las </a:t>
            </a: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do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68360" y="2852640"/>
            <a:ext cx="83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son las </a:t>
            </a: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cuatr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8360" y="2852640"/>
            <a:ext cx="83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son las </a:t>
            </a: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doc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68360" y="2852640"/>
            <a:ext cx="83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son las </a:t>
            </a: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och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2852640"/>
            <a:ext cx="83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son las </a:t>
            </a: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cinc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68360" y="2852640"/>
            <a:ext cx="83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son las </a:t>
            </a: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sei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2852640"/>
            <a:ext cx="83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son las </a:t>
            </a: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siet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2852640"/>
            <a:ext cx="83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son las </a:t>
            </a: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och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8360" y="2852640"/>
            <a:ext cx="83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son las </a:t>
            </a: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nuev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2-06-22T12:41:27Z</dcterms:modified>
  <cp:revision>251</cp:revision>
  <dc:subject/>
  <dc:title>TITLE</dc:title>
</cp:coreProperties>
</file>