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49BC-6662-40CB-9A07-81AD536DBC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9877-51B9-45FB-8C59-EC95A18222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B14-6396-417A-BBA8-35AC1F05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A44-FA54-4410-880A-A4387C1F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7F3-8CB7-436C-8DB5-FC90E93D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27E-3EC4-4CA7-A016-E38A151F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A63A-BB81-4517-907D-1DBEBDF6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93ED-7324-407B-922B-9FE6968B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E6E1-DECA-47A1-8D2F-65A945BD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B522-5F8F-4B29-A77C-8F33D22F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B31A-C739-46F4-AA24-CC50746B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B896-C8EC-4035-9687-B43A69A5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0AA2-407E-4054-9BC4-C1FBA335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AE6-63D2-465C-A8D3-53A5DAC9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89EC-DA7A-4A9F-AC03-56610E2C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6504-9183-4912-8856-0AFB3C36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F613-AE95-44A2-95C0-4EBDA4A4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92DD-3B50-483A-91AF-97AE3BB3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2327-1A0F-4CC7-9F9E-13732D3B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1E7A-9D2D-4E42-AE78-DEC82E23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735D-2D60-4272-BA00-28323EC0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C1B8-CE8F-4851-BA91-DAC345AC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3455-3D66-49E9-81FF-D0AE496E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0E07-2CFC-49BB-BA90-D20BE73A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73A-3446-4E89-8DDB-358A4BC0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A73F-6155-4356-87EC-8B373E8F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6143-4DEA-41F4-BEC0-F84EC6B5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F1B0-86BF-4377-9859-FE2E789F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D166-133C-487A-B1EE-4B68EC46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76AB-6BE5-4BA5-9082-BD772154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D6C3B-524D-4220-9B8E-CACAA8A4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7B68-AAA2-4D9D-B892-24C3285A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298-947B-45ED-BC3D-98B470BB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C40-F04C-45F7-A6B9-5B67F73F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07A-D067-487A-9190-3988E093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484-8442-4BED-82F7-2EB2E5F2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7C9-8889-4ED1-AB83-4DDBAA34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0DD-38D9-47CD-8D71-67648BB0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D7E2-9568-4F8B-B2F7-4F44F32460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2F4F-323A-4C25-B9FE-C0FFFD72942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EFB2-EC00-4B45-9C42-ABE323C209B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79640" y="836640"/>
            <a:ext cx="1440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1052640"/>
            <a:ext cx="1440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1844640"/>
            <a:ext cx="14396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133720"/>
            <a:ext cx="1440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3141720"/>
            <a:ext cx="14396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80360" y="3716280"/>
            <a:ext cx="14396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19280" y="4292640"/>
            <a:ext cx="1440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4292640"/>
            <a:ext cx="14396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5516640"/>
            <a:ext cx="1440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5734080"/>
            <a:ext cx="144000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09:07Z</dcterms:modified>
  <cp:revision>275</cp:revision>
  <dc:subject/>
  <dc:title>TITLE</dc:title>
</cp:coreProperties>
</file>