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D70D-B0A4-4DD4-BEE0-F63AE33488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009C-EE46-4C9F-98A0-6436DCC142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E60-B254-49BA-95E9-12D60F6C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329-3206-4B9A-AA55-04FCEA5D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2A2-78BA-4A1D-BEEC-2DD7BE88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603-3B39-4A1F-876D-7E993560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862B-6350-4DF3-954A-A0E586C7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A47E-0814-42A9-B0E0-CB9C503F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558A-55D3-4F43-A736-78F22DB4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D4D-6399-4EFD-9106-3C3E5D36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A775-3006-48B1-9D86-79791A40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9D59-C61D-4B80-B3FA-05A90AEC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BA09-0D43-4073-9630-71CCE34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F91-0B6D-4DC8-8B22-5010F40E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60A8-ECBE-44ED-8DE0-4443B0F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618E-0698-4455-BC55-EDE5007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9FD5-77D4-4C39-951F-F328B922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E6FA-95D8-4AC3-BD06-DE24E9BE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259B-70A7-4E5F-86C1-83C26A7A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4417-AF12-495F-A4FF-23B4EA53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8C66-614F-4AE8-A2E4-5E0A1F43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E264-3F4A-4097-A270-523D1035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F311-1CA4-47D0-9455-F0EC4A8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6047-5A89-4229-A2FD-B335C8D2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6DC-CF4A-4BB6-84B5-AC3A42E6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68F1-8B26-4495-95D1-38582B6B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1B69-EF94-46AC-B16C-6C7F7AE1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2E47-F247-42E1-8D32-A51D7218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C2A1B-C2BB-4BBF-B82C-3CDC1EE2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6BB8-5816-4E64-B948-755A7DAD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9457-F120-44EF-B491-BFEFBC01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3E74-246F-45CF-9A2B-3040C495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5A7-4790-40C5-9D3F-9C5EDF8A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B9A-8A33-4A62-A313-38574EF7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2C3-0372-4CA2-A301-C99C2FBB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16C-F688-4893-858A-795EBB6C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FE9-1940-4348-B13D-5DD13334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192-8533-4DA3-969D-C01501FD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F151-167B-46A0-8CCB-A2BDEF9C96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3A7A-B58D-40BD-91A6-39C354824EE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EA74-FE15-4F93-B81B-E9BACF9A109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79640" y="83664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105264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844640"/>
            <a:ext cx="14396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13372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3141720"/>
            <a:ext cx="14396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80360" y="3716280"/>
            <a:ext cx="14396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19280" y="429264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4292640"/>
            <a:ext cx="14396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551664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573408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09:07Z</dcterms:modified>
  <cp:revision>275</cp:revision>
  <dc:subject/>
  <dc:title>TITLE</dc:title>
</cp:coreProperties>
</file>