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9EF7-32B9-4380-9BA8-83D2FF9965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5314-F930-4778-9E20-C2D493387C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5CA-A38F-4B3D-868C-FF2E11F1CC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151-536E-412D-990F-77039CA3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F81-537A-488E-A880-310875BE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17F-15B4-4114-B853-BF342811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8EE-3304-493D-B939-89AD5C1E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9426-7A18-4DBD-94FC-2B323885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CCEB-08FE-449D-A3C0-1416A5EE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7616-82D1-418E-AA97-C53956D2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A759-99AA-4D80-9187-0FF18C91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C8C3-7B35-443C-87EA-97121DEC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7E58-4BE3-41CF-A0BF-FB51B689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A9E4-661D-4309-8CCB-B45884D4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982-6EC2-4A6A-9101-E5F702F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3DE0-B6B4-4C9D-BBD1-E3FAC4E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FE6-6930-4F41-AC08-994CE56E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8482-6A2B-4041-99E0-0E947708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DDB-0C3D-403E-BDB7-1B78D029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FA41-498D-44F3-B86E-E40878DD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71C0-4CAB-4F0A-A545-7D086BD3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45FA-DFFC-4CC5-8DB0-65D55427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159F-1FE4-4C6E-A456-9D8A5946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DA40-5EBB-4A1A-85FE-FCD26CC8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D9FA-7C2B-4582-92F2-F82E15CF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99E-5948-4314-8B6F-3297F844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5020-E8E2-4C4C-B6DF-1B7C7FC6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C3A1-045A-46FA-B9DC-4FC5600F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BCD7-4D9F-4534-8A6D-AA04FCA7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D557-DA42-49A5-BE81-B5D03D5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AEEB-ED75-4F21-A5A0-5A15ABFC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23E2-CDAC-4E3E-9521-29CD9418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BCD6-AA95-42E6-9CE8-14DB016F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84E-E4FE-4C92-8DD8-E681AA7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898-7C65-4968-8356-3DEBA34F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26D-1B39-49E0-AF3D-099B29DC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B90-F349-42DE-BF8C-E6E2340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BF5-363C-4EC9-AE78-8C874A9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48D-611A-48EC-875D-845A82C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A5A5-A8AE-4138-965A-390593B66B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76F0-832C-491C-AFC9-418C4D93E86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8C5A-F026-4B09-86B1-A4B66C20F6A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359" t="11817" r="51575" b="12141"/>
          <a:stretch/>
        </p:blipFill>
        <p:spPr>
          <a:xfrm>
            <a:off x="2124000" y="333360"/>
            <a:ext cx="4635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765000"/>
            <a:ext cx="5472000" cy="417672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7080" y="909720"/>
            <a:ext cx="2232360" cy="2151000"/>
          </a:xfrm>
          <a:prstGeom prst="rect">
            <a:avLst/>
          </a:prstGeom>
          <a:ln w="0">
            <a:noFill/>
          </a:ln>
        </p:spPr>
      </p:pic>
      <p:pic>
        <p:nvPicPr>
          <p:cNvPr id="134" name="mercado" descr=""/>
          <p:cNvPicPr/>
          <p:nvPr/>
        </p:nvPicPr>
        <p:blipFill>
          <a:blip r:embed="rId3"/>
          <a:stretch/>
        </p:blipFill>
        <p:spPr>
          <a:xfrm>
            <a:off x="3637080" y="1419120"/>
            <a:ext cx="1944720" cy="1898640"/>
          </a:xfrm>
          <a:prstGeom prst="rect">
            <a:avLst/>
          </a:prstGeom>
          <a:ln w="0">
            <a:noFill/>
          </a:ln>
        </p:spPr>
      </p:pic>
      <p:pic>
        <p:nvPicPr>
          <p:cNvPr id="135" name="hi_ho_silver" descr=""/>
          <p:cNvPicPr/>
          <p:nvPr/>
        </p:nvPicPr>
        <p:blipFill>
          <a:blip r:embed="rId4"/>
          <a:stretch/>
        </p:blipFill>
        <p:spPr>
          <a:xfrm>
            <a:off x="1836720" y="2997360"/>
            <a:ext cx="1797120" cy="180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6000" y="3773520"/>
            <a:ext cx="4530960" cy="2865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8360" y="458136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a al mercado a caball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5:25Z</dcterms:modified>
  <cp:revision>285</cp:revision>
  <dc:subject/>
  <dc:title>TITLE</dc:title>
</cp:coreProperties>
</file>