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90A6-F45A-41E2-9167-EF44DB4305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225D-BD59-4181-BBDA-25E17BFFAF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26D5-D101-4236-B4EA-DD87A95223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B19-6648-4288-848C-46F28836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280-92F1-4A35-BB2A-E09AF303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5EE-9165-481B-89A9-50A6F344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514-6A6F-4419-9BE5-2139B363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678C-EA06-4B6B-801D-30D8CA35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8EB3-30DC-4702-95C6-7F5870DA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9547-C488-4EF1-9609-69AD91B8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E0FE-5041-4D8F-8229-86A440C5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A545-0F5D-4CAD-A7CC-74EEE9CC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B01F-92EF-4833-9F51-2922E58A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0D66-A317-4314-AEFB-361D823A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6A2-B7A2-4A4C-A5FB-785A3E35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765C-00A0-43FE-A4CA-EC6287B2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CB83-EAEC-4603-809A-62A7C5A9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A309-48EE-48F7-8A9E-6284F195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ED0F-123F-4CEB-B13E-A8BA2231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85C1-BDAD-49C7-9372-222A8FFD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C8AD-5ACB-40D4-97EC-0665361D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5315B-436D-4BD4-A969-89FEB8AC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EA081-802C-40FF-9186-6F6E72C8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6885-915F-40E4-9954-742F5408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7AFB0-6F40-4950-B382-219329A2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06D-85F7-4A5F-8E9D-05D36053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E135-F971-42E4-B245-9E1A96D2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6F23C-D63D-4D2D-A5EE-85DE0197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46648-9B3C-4C98-986E-82D9F8A5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6188-18E8-4FFC-8D3B-32B591ED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71FC7-DFE4-44B3-8B4C-856BEAA2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EA4BF-1A26-4BF0-8A59-681D8F48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6AE6F-97AF-4646-A469-C77480B0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1E2-1471-4A9C-845B-52F13826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1B4-DFDB-4685-8009-2E5BCE67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614-70CC-4C70-B2D4-58CD9CFC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6AF-7C75-4BAA-BD14-BDB374F6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3DA-3511-4683-A21A-E08AA77C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C3F7-B00D-421F-A8E8-C793267E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EE98-6261-4785-900A-D246ED74FC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927A-1D59-48DA-8D98-983A69946C9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427F-AFD0-4D8E-8618-EA7A499F16C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359" t="11817" r="51575" b="12141"/>
          <a:stretch/>
        </p:blipFill>
        <p:spPr>
          <a:xfrm>
            <a:off x="2124000" y="333360"/>
            <a:ext cx="4635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765000"/>
            <a:ext cx="5472000" cy="4176720"/>
          </a:xfrm>
          <a:prstGeom prst="rect">
            <a:avLst/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7080" y="909720"/>
            <a:ext cx="2232360" cy="2151000"/>
          </a:xfrm>
          <a:prstGeom prst="rect">
            <a:avLst/>
          </a:prstGeom>
          <a:ln w="0">
            <a:noFill/>
          </a:ln>
        </p:spPr>
      </p:pic>
      <p:pic>
        <p:nvPicPr>
          <p:cNvPr id="134" name="mercado" descr=""/>
          <p:cNvPicPr/>
          <p:nvPr/>
        </p:nvPicPr>
        <p:blipFill>
          <a:blip r:embed="rId3"/>
          <a:stretch/>
        </p:blipFill>
        <p:spPr>
          <a:xfrm>
            <a:off x="3637080" y="1419120"/>
            <a:ext cx="1944720" cy="1898640"/>
          </a:xfrm>
          <a:prstGeom prst="rect">
            <a:avLst/>
          </a:prstGeom>
          <a:ln w="0">
            <a:noFill/>
          </a:ln>
        </p:spPr>
      </p:pic>
      <p:pic>
        <p:nvPicPr>
          <p:cNvPr id="135" name="hi_ho_silver" descr=""/>
          <p:cNvPicPr/>
          <p:nvPr/>
        </p:nvPicPr>
        <p:blipFill>
          <a:blip r:embed="rId4"/>
          <a:stretch/>
        </p:blipFill>
        <p:spPr>
          <a:xfrm>
            <a:off x="1836720" y="2997360"/>
            <a:ext cx="1797120" cy="1800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356000" y="3773520"/>
            <a:ext cx="4530960" cy="2865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148360" y="4581360"/>
            <a:ext cx="352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a al mercado a caball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2-15T09:15:25Z</dcterms:modified>
  <cp:revision>285</cp:revision>
  <dc:subject/>
  <dc:title>TITLE</dc:title>
</cp:coreProperties>
</file>