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674D-147B-4E11-8B96-ECAA161699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FB2B-3052-4C61-8155-0031EB3E0F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EDA-3308-4FE7-8366-4CAF751E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B8F-8E51-4F3C-9EFF-55057C3F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951-3583-4A7E-9329-7C5EACA5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F38-2EE4-41E9-BE8A-26A4BC86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0370-70FA-48AD-825A-B0A7928C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F099-DC3E-49F6-8588-4947A5F7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F377-9E34-4D77-B3F1-95834A55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BF2F-B471-4A4A-B364-23E1167D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283B-8417-465A-8EA3-EBE19689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1B34-BE4E-44F2-919C-6FAC4DB0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F2CB-FB89-4040-A57A-569B0B86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1431-C5B0-42A0-B227-1E0F5CE3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209B-B14A-4FE1-8947-33176B66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ED13-1A17-400A-9DAB-89D91C06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E7E7-9374-41DB-B490-56695403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0149-8753-4B9C-9E15-29A8E40B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7ED8-824E-435A-8020-D47CA2BC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402FE-E008-4F98-A605-4E46339C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BC9D-2D1E-4192-878B-263FCB31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18163-2674-4DB9-A01B-493DED49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4BCE-6E93-49C8-B81F-FF6D3466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C21F8-08DF-4BB8-A631-1062D11B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B6F-5073-421C-BE4D-6AF3F3D6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83A4-6DDA-4581-9F09-3FAC6D5E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2335A-C178-4C94-A47A-FE6BCCE1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76CF3-158C-4345-8362-B4286B01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E7581-7F41-4A5C-AC1C-2E6DEDDF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F267-FCF1-46A3-8BEB-3BAA3781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941D3-F636-4C65-8577-9582C422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C0002-194C-4341-AF78-928133C3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891-776B-4037-B668-91914CA9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8FE-A0F2-4AEE-BA74-FA142536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B92-C32B-4CF8-964A-6EDDD4CB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510-1E37-45EB-A3B7-9B0C8BA9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B4C-4739-4891-99D6-CFF8510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ECE-8530-48CA-80E4-A42328E8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DA58-7806-489C-A941-30F23099E2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3C7E-8395-4BBE-A821-397CE234F87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57DF-C03B-40DE-B2D2-2266F46A348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016360" cy="134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9280" y="1370160"/>
            <a:ext cx="2016360" cy="1358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79280" y="2751120"/>
            <a:ext cx="2016360" cy="1357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79280" y="4127400"/>
            <a:ext cx="2016360" cy="1352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179280" y="5502240"/>
            <a:ext cx="2016360" cy="1355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4643280" y="0"/>
            <a:ext cx="2016360" cy="1355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4643280" y="1376280"/>
            <a:ext cx="2016360" cy="1346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4643280" y="2744640"/>
            <a:ext cx="2016360" cy="1352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4643280" y="4119480"/>
            <a:ext cx="2016360" cy="1355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4643280" y="5497560"/>
            <a:ext cx="2016360" cy="1360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04000" y="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autobú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137808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bar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275760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a 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caba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04000" y="413712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co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551664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bicicl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40000" y="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t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0" y="137808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coh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40000" y="275760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a 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p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40000" y="413712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m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551664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av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12:15Z</dcterms:modified>
  <cp:revision>282</cp:revision>
  <dc:subject/>
  <dc:title>TITLE</dc:title>
</cp:coreProperties>
</file>