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3DA-FF3C-430E-A059-C14682D449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520-059E-446A-A1E1-FD28FBCDB6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506-3497-4A47-9CC4-FE1C5773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A7F-325E-4A2B-AC28-C8157E0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258-62FF-499C-923C-2486905C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BD9-FE74-44CA-8EBE-5FD9F9F2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1D22-70F0-4E00-BC49-6182854D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E776-0F96-4825-8D73-9747FCC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5DC9-EB55-4D1F-9579-285E2A5D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CC7A-DD1A-4CD8-8101-7B02C762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396-D131-4385-89C1-1C72DA4A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E3E-4462-46AD-829E-20808E3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DA8-DBD6-457C-A4A7-FDD5BE9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259-8878-4841-9F5C-2DE83B32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E5AA-B088-452E-BE7C-D6F11C8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CDC-AF95-43C7-987C-155D0F5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C494-D039-469A-931A-4AE51B0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E00-005E-434A-AA13-CFEBEE7F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6BCD-3997-4C78-8129-E2573939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B5CE-2817-422D-B03B-02C53E4E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3343-15A6-4CE3-850C-E8717D08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5B49-4393-43B8-8FAA-9E33B4F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3D70-CA5F-48B3-BA23-5337BA4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D2EF-246A-47BA-B08C-C1287D2F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F6B-A04D-4B31-9892-9901EAB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8344-5157-4CD3-9261-59E8DE29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AD41-4227-4739-8B97-7729273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9E20-540B-4258-B028-7A73A73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2F3A-7E6D-456A-BB3E-2FE43CE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B7FA-138E-43A6-81AF-176D46F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C707-8A1E-4DB7-8DDF-B319B5D3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3E71-17B8-4113-94AD-5537CFA4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2F8-68B8-43ED-ABA9-B2D065F4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C9D-1196-464E-996A-08CB01D8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F39-7CB9-458B-B3F1-30106489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43B-9A78-4C59-A605-E95F4109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431-BA38-43BF-AEC5-67CEB31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CAE-5BE8-48F4-8072-80BC415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554-1D74-4BBA-BCFA-0454821692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5CA-EF96-448A-AE4E-109501DBA1C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A20-3A1A-43DE-B9B7-12AEC79B48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01636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1370160"/>
            <a:ext cx="2016360" cy="135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2751120"/>
            <a:ext cx="201636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79280" y="412740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79280" y="550224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643280" y="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643280" y="1376280"/>
            <a:ext cx="2016360" cy="134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43280" y="274464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4643280" y="4119480"/>
            <a:ext cx="2016360" cy="1355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643280" y="5497560"/>
            <a:ext cx="201636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04000" y="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utobú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137808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bar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75760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 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aba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413712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o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51664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bicic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t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37808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coh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75760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 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p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413712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m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5516640"/>
            <a:ext cx="2016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en</a:t>
            </a:r>
            <a:br>
              <a:rPr sz="3000"/>
            </a:br>
            <a:r>
              <a:rPr b="0" lang="en-GB" sz="3000" spc="-1" strike="noStrike">
                <a:solidFill>
                  <a:srgbClr val="008000"/>
                </a:solidFill>
                <a:latin typeface="Comic Sans MS"/>
              </a:rPr>
              <a:t>av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2:15Z</dcterms:modified>
  <cp:revision>282</cp:revision>
  <dc:subject/>
  <dc:title>TITLE</dc:title>
</cp:coreProperties>
</file>