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5ADF-5A24-46F1-B75C-90A7D5E6E7E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43FC-6636-4648-BCA0-F99250BEA0C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1494-129A-4DC5-93D1-21D1FAC189A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9F87-D9BB-432B-AC91-002D4AB3E0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371C-34C8-4684-A1BA-E29BC629AF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91BF-ED58-42AF-8542-07590CB7938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B7C7-3E69-472C-A35C-D051E5F0834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FBF-E3F7-4A2B-A1A5-D28D2A4A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5CE-B3E0-4BE5-B804-47CAEA47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25D1-A56A-4A34-AEA2-14B74713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599A-57AF-444E-822C-6089B7BF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F2CF-2A42-4145-8656-9E2A60D2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93AD-F060-4711-AA30-7FB444FA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D941-E7F4-4D78-9C73-EC8D095B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3DA2-7564-4C55-BA01-994BC59B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2B4D-C986-4643-BA6A-358F78FC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D4AA-C459-4AE5-B57B-2F0C455A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6543-3A12-47AC-AB68-288350D3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D99F-D626-4A13-A17D-0FBCF979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9226-F7D5-4961-A670-E1A9F70A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367D-C290-4C51-9FAE-D28F529B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B0C9-4C4D-4CC3-86AC-F20A517E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59AA-0A28-4324-9653-26EB5C2F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AA43-5D57-4D6D-A37F-831218B0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0B11B-65B1-43BB-86E4-39843736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2D502-965B-4F07-A218-8CF561F3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BF229-8F66-401E-A02E-04DAEAFC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68A0D-740F-4FD6-BE78-6ADDB8BC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586C7-8901-43D1-BBF3-C1E72098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EFE6-F844-4F3A-B39C-F25210DA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61F7E-7939-43F3-9965-86029000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83234-9E3F-4029-9D81-12F9830D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3C339-656E-4B0F-AC25-EA2E8A32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430CC-9340-433D-ADC5-BC6E5EE1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7D2B7-432C-40A3-B247-33F7F04B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538AA-A795-4BE2-BCFF-80636D69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052B8-8355-42ED-913F-3899994D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2F08-0604-427E-AC40-DFBF87C3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94C-22A3-4895-A7C2-CB9A3E3F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274-808C-4FFA-A2B2-1DFF76B0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F77B-C22F-4CA1-81B0-CC619E34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439F-7BA3-4774-BBD9-03F9A4CF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A63-F95F-4414-B18E-9B38411C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0872-51D2-462D-AAAC-CBBE17653A3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748F-7810-4A10-A267-F2208A2E76F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EE51-DD5D-48B8-96AD-DB52BF5E033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024360" cy="2033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258920" y="1197000"/>
            <a:ext cx="3025800" cy="2050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3789360"/>
            <a:ext cx="82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Voy al banco en autobú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024360" cy="2033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3789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Voy ________ en autobú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332000" y="1197000"/>
            <a:ext cx="3087720" cy="2090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47640" y="371628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al hospit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024360" cy="203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3789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Voy ________ en autobú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371628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al parq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332000" y="1197000"/>
            <a:ext cx="29970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024360" cy="2033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3789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Voy ________  en autobú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378936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a la cafeterí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403280" y="1197000"/>
            <a:ext cx="29973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024360" cy="2033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3789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Voy ________  en autobú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378936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a la est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403280" y="1197000"/>
            <a:ext cx="3070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932360" y="3716280"/>
            <a:ext cx="3024360" cy="2033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5805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Voy ________  en autobú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0" y="580536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ff"/>
                </a:solidFill>
                <a:latin typeface="Comic Sans MS"/>
              </a:rPr>
              <a:t>a la</a:t>
            </a: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 est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476360" y="3716280"/>
            <a:ext cx="3070080" cy="2060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4859280" y="333360"/>
            <a:ext cx="3024360" cy="2033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2592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Voy ________ en autobú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251928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ff"/>
                </a:solidFill>
                <a:latin typeface="Comic Sans MS"/>
              </a:rPr>
              <a:t>al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parq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476360" y="333360"/>
            <a:ext cx="2997360" cy="2022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50920" y="620640"/>
            <a:ext cx="1081080" cy="1152720"/>
          </a:xfrm>
          <a:prstGeom prst="star5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4076640"/>
            <a:ext cx="1081080" cy="1152720"/>
          </a:xfrm>
          <a:prstGeom prst="star5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2-15T09:10:58Z</dcterms:modified>
  <cp:revision>281</cp:revision>
  <dc:subject/>
  <dc:title>TITLE</dc:title>
</cp:coreProperties>
</file>