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6F87-7EEC-445A-A32E-0B727D6A1B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ECD-96F4-4F03-B119-1B4C15CC4F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7999-F29B-45D5-A9BE-4212BBD7D8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728D-85C8-4C71-BDC3-01E950A260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0FD-66FE-40E5-BF29-C2DCE0EA70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8E6-893E-43E2-B487-16EF2840A1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3922-E3D4-48CA-A8CC-A65FA9BEF4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6E9-E641-4A57-BFF2-E24408E0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89B-7B31-437F-8049-0F60244E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46F-0CFC-4C9B-BA14-D35238FD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3E2-B4AF-4CA6-8D89-FE7B5FCC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AE9D-97CD-4218-8E0B-67A90422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628E-D191-4B59-9DDE-3A57B780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64B0-9218-4C7E-BE0A-EA1EE850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65E9-A3AB-4A9E-BF71-0BAF3AEE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8EF-33E1-4B51-A0FA-ACF1A34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EED5-BAF6-430B-89F3-32BC25CC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EF6A-B8E3-4C3B-9D30-E04BDE07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EED-9E26-42DF-9845-6BCAE41A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C143-C655-445B-A49C-576204F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3E06-E6EE-4E03-9938-F5E23B9C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43A-68E1-4A81-989D-1E9E9FD9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E79B-2517-4990-87DE-5E13A42F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71B8-B048-4EF2-A7A6-AE34F6AA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C6FF-13F0-487A-B6C3-44D53F5A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1ACDB-870D-410C-A71A-F1619BF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3685-4AB7-4353-B696-D7149D68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9F9B-D973-4B40-AC7C-E527062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486C-CEF9-4924-A1B4-440159E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C4F-C152-40C1-BA84-4F9FFC4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0A7E-4C9C-45FB-BEDB-AFB05995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25E1-68A3-4773-A81F-E3EEB9B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C9C5-19ED-45B0-9DA7-19E3BA8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FB44-928D-4D42-AEE3-28E5D62A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DC62-E186-4AAA-8CD2-29C8B10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91B1-6B46-4F19-862D-41D6F720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C864-1818-406D-938B-6D8E9336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8C6-2C10-4E9B-A77A-7DB9E5D0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617-07BF-4618-8AEE-5CEAFD61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92B-EFBF-4F28-8555-3C4CCBF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59A-314E-438E-9E0E-22E5FB9E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9BE-55B0-4972-934B-94851D3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262-83A8-47FE-80A3-76C08BE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1FA7-EFDC-459E-A074-96862F3D31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F87-F414-464E-870B-5D798A64B90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98E-863E-4303-BCF8-D3F103FC753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3025800" cy="205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378936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al banco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3087720" cy="2090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47640" y="3716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l hospi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3716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l par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29970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378936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la cafeter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2997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78936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la es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3070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8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580536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ff"/>
                </a:solidFill>
                <a:latin typeface="Comic Sans MS"/>
              </a:rPr>
              <a:t>a la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 es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3070080" cy="206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859280" y="33336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592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2519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al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par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476360" y="333360"/>
            <a:ext cx="2997360" cy="202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620640"/>
            <a:ext cx="1081080" cy="1152720"/>
          </a:xfrm>
          <a:prstGeom prst="star5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081080" cy="1152720"/>
          </a:xfrm>
          <a:prstGeom prst="star5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0:58Z</dcterms:modified>
  <cp:revision>281</cp:revision>
  <dc:subject/>
  <dc:title>TITLE</dc:title>
</cp:coreProperties>
</file>