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FDD5-A261-4544-A3D8-E8D879C7B5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444F-653F-4296-A7C9-FDF5417962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79D-7FC1-4696-8E34-14530F86D1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69D-F58C-4CFB-ADE7-B0C61EF395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7A5-892B-4722-94D2-E76897B796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EA8-1699-4B69-9879-44E7C55F62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6E8-A9D2-401D-84CE-FB91E6F42D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161-FEB7-4D9F-A0E6-5F4E90FFF7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9F7-1A49-4BFD-9B05-AEFA515858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05A-3302-49E0-B678-D88F740869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2363-184E-432B-9CF5-B937A5926C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88F-EF8D-49FE-8AB2-565BC01735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652-C039-4E0F-889A-D9CC0F5B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BE5-22DC-45C8-B195-204ECC0B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665-369A-45A7-96FA-4DF98235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12E-D425-4658-8258-38D2C5FA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4E1-249D-45C5-8B08-B003DEB9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DF4-AFF0-4FE5-8952-7952EA9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F2D-5E7F-41EE-8D9E-7B78C5D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2B2-BC0D-4B52-AAD9-8C8EE485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D13-3B24-4255-8C67-AD6224A9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FBB-B3DC-42D7-B2F5-6978B8A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DC1-AC52-48AC-9CD0-BD98735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817-2033-4A57-974F-ACA2A69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3B21-9861-4456-8D1E-CA3F81EF01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273640" y="3973680"/>
            <a:ext cx="1035000" cy="29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03640" y="3540240"/>
            <a:ext cx="2854440" cy="285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110280" y="3540240"/>
            <a:ext cx="2854440" cy="28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110280" y="189000"/>
            <a:ext cx="2854440" cy="285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ight Arrow 18"/>
          <p:cNvSpPr/>
          <p:nvPr/>
        </p:nvSpPr>
        <p:spPr>
          <a:xfrm>
            <a:off x="5838840" y="1447920"/>
            <a:ext cx="110952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4"/>
          <a:stretch/>
        </p:blipFill>
        <p:spPr>
          <a:xfrm>
            <a:off x="108000" y="3448080"/>
            <a:ext cx="2954160" cy="2954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5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80360" cy="63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50920" y="18900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ractise the first sentence –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un ojo azul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– using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scuchad y repetid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actions to help embed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Discuss the meaning (I have a/one blue eye) and ask the children what they notice about the word order (adjectives come after the noun.)  What is the difference between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un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, which was used in the hair sentence? 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el 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= the, we can’t say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un pelo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 as it isn’t one single hair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Repeat the other three sentences in the same way (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un ojo negro/ tengo un ojo rojo/ tengo un ojo verde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 2, give children one minute to practise the sentences in 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ing slides 3-9, ask the children to tell you what the sentence is.  Note that the support is gradually withdra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Use the grid on slide 10 to practise listening and speaking these sentences.  You can do just eyes, just hair or both using the structure </a:t>
            </a:r>
            <a:r>
              <a:rPr b="0" i="1" lang="en-GB" sz="2000" spc="-1" strike="noStrike">
                <a:solidFill>
                  <a:srgbClr val="fffffa"/>
                </a:solidFill>
                <a:latin typeface="Arial"/>
              </a:rPr>
              <a:t>Tengo el pelo rojo y un ojo azul</a:t>
            </a: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222720" y="40464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Callout 12"/>
          <p:cNvSpPr/>
          <p:nvPr/>
        </p:nvSpPr>
        <p:spPr>
          <a:xfrm>
            <a:off x="87480" y="11592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22720" y="208296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neg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Callout 14"/>
          <p:cNvSpPr/>
          <p:nvPr/>
        </p:nvSpPr>
        <p:spPr>
          <a:xfrm>
            <a:off x="87480" y="1779480"/>
            <a:ext cx="3135240" cy="155916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22720" y="543708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ver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Callout 16"/>
          <p:cNvSpPr/>
          <p:nvPr/>
        </p:nvSpPr>
        <p:spPr>
          <a:xfrm>
            <a:off x="87480" y="344340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17"/>
          <p:cNvSpPr/>
          <p:nvPr/>
        </p:nvSpPr>
        <p:spPr>
          <a:xfrm>
            <a:off x="87480" y="5106960"/>
            <a:ext cx="3135240" cy="15588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3222720" y="3759120"/>
            <a:ext cx="56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 r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5"/>
          <p:cNvSpPr/>
          <p:nvPr/>
        </p:nvSpPr>
        <p:spPr>
          <a:xfrm>
            <a:off x="8172360" y="692280"/>
            <a:ext cx="576360" cy="57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8172360" y="2271600"/>
            <a:ext cx="576360" cy="57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20"/>
          <p:cNvSpPr/>
          <p:nvPr/>
        </p:nvSpPr>
        <p:spPr>
          <a:xfrm>
            <a:off x="8172360" y="3979800"/>
            <a:ext cx="576360" cy="57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8172360" y="5657760"/>
            <a:ext cx="576360" cy="576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259160" y="1693800"/>
            <a:ext cx="50896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222720" y="89532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176800" y="4525920"/>
            <a:ext cx="1508040" cy="460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Callout 17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8" descr=""/>
          <p:cNvPicPr/>
          <p:nvPr/>
        </p:nvPicPr>
        <p:blipFill>
          <a:blip r:embed="rId1"/>
          <a:stretch/>
        </p:blipFill>
        <p:spPr>
          <a:xfrm>
            <a:off x="4111560" y="1649520"/>
            <a:ext cx="4899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259160" y="1628640"/>
            <a:ext cx="5089680" cy="5088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04000" y="6237360"/>
            <a:ext cx="2340000" cy="62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Callout 4"/>
          <p:cNvSpPr/>
          <p:nvPr/>
        </p:nvSpPr>
        <p:spPr>
          <a:xfrm>
            <a:off x="108000" y="29844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59160" y="1525680"/>
            <a:ext cx="5089680" cy="5089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3419640" y="692280"/>
            <a:ext cx="2376360" cy="1015920"/>
          </a:xfrm>
          <a:prstGeom prst="rect">
            <a:avLst/>
          </a:prstGeom>
          <a:noFill/>
          <a:ln w="2844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50Z</dcterms:modified>
  <cp:revision>145</cp:revision>
  <dc:subject/>
  <dc:title>TITLE</dc:title>
</cp:coreProperties>
</file>