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0BEE-0271-417C-B5E7-8DC61DFF13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CEDD-543F-493C-BA72-949DC1826C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942-D8DA-416E-9203-AEAC20AF3F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F129-D0B1-4BB4-A553-85CC562156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5F4-1593-4E0D-9940-B91C98CF1A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539-E41F-45F2-9EB9-7F7D77AAB1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949-99D0-4DE3-98E9-6879FC72FD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BF7-63E9-43D1-865C-A5C176D037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3E4-D6CF-45EA-81EE-66E0FEF467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1225-D33D-4429-B5C9-92B9DB8B50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828-76EA-4979-8604-F6A9D39055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B86-AC4F-47F5-8740-E39BF64D82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627-43EA-415B-942E-A7615669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7D5-E2A0-49D7-9340-034DB8D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4D6-C562-42FB-AFF1-125559AB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E80-36A7-4C13-98F1-13BAAE5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F2C-B6D5-4C07-965C-8A25E8D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849-AEF1-4181-845B-6DE8EA6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5FE-B00E-42ED-B959-DF3807F4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14B-43EC-4A7A-A46D-81D5B53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0AE-6C23-4775-BA61-F8E9E3F5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885-AD9B-4F2F-BABB-0098538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375-2531-412B-9743-9862EFE2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5F8-10E5-4458-B95E-E223604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EAF-8EC0-44C7-993C-6A13A3C992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273640" y="3973680"/>
            <a:ext cx="1035000" cy="29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03640" y="3540240"/>
            <a:ext cx="2854440" cy="285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110280" y="3540240"/>
            <a:ext cx="2854440" cy="28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110280" y="189000"/>
            <a:ext cx="2854440" cy="285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ight Arrow 18"/>
          <p:cNvSpPr/>
          <p:nvPr/>
        </p:nvSpPr>
        <p:spPr>
          <a:xfrm>
            <a:off x="5838840" y="1447920"/>
            <a:ext cx="110952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4"/>
          <a:stretch/>
        </p:blipFill>
        <p:spPr>
          <a:xfrm>
            <a:off x="108000" y="3448080"/>
            <a:ext cx="2954160" cy="2954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80360" cy="63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50920" y="18900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un ojo azul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a/one blue eye) and ask the children what they notice about the word order (adjectives come after the noun.)  What is the difference betwee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un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which was used in the hair sentence? 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= the, we can’t say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un pel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s it isn’t one single hair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un ojo negro/ tengo un ojo rojo/ tengo un ojo verd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9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the grid on slide 10 to practise listening and speaking these sentences.  You can do just eyes, just hair or both using the structur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rojo y un ojo azul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222720" y="40464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Callout 12"/>
          <p:cNvSpPr/>
          <p:nvPr/>
        </p:nvSpPr>
        <p:spPr>
          <a:xfrm>
            <a:off x="87480" y="11592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22720" y="208296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Callout 14"/>
          <p:cNvSpPr/>
          <p:nvPr/>
        </p:nvSpPr>
        <p:spPr>
          <a:xfrm>
            <a:off x="87480" y="1779480"/>
            <a:ext cx="313524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22720" y="543708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ver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Callout 16"/>
          <p:cNvSpPr/>
          <p:nvPr/>
        </p:nvSpPr>
        <p:spPr>
          <a:xfrm>
            <a:off x="87480" y="344340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17"/>
          <p:cNvSpPr/>
          <p:nvPr/>
        </p:nvSpPr>
        <p:spPr>
          <a:xfrm>
            <a:off x="87480" y="510696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3222720" y="375912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r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259160" y="1693800"/>
            <a:ext cx="50896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176800" y="4525920"/>
            <a:ext cx="1508040" cy="460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8" descr=""/>
          <p:cNvPicPr/>
          <p:nvPr/>
        </p:nvPicPr>
        <p:blipFill>
          <a:blip r:embed="rId1"/>
          <a:stretch/>
        </p:blipFill>
        <p:spPr>
          <a:xfrm>
            <a:off x="4111560" y="1649520"/>
            <a:ext cx="4899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59160" y="1525680"/>
            <a:ext cx="5089680" cy="5089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50Z</dcterms:modified>
  <cp:revision>145</cp:revision>
  <dc:subject/>
  <dc:title>TITLE</dc:title>
</cp:coreProperties>
</file>