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91B8-3FB9-4FD3-AE5D-42B35ED8D05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EE41-11C5-42DC-97F5-57A165D7843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E32B-E82D-4536-8EEA-3A94953D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33F9-0DEB-45D8-9956-AED4EBA2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D8A2-F945-40EA-BAB8-42DF0BB3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03DA-9480-4838-85B8-C4EA768D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02E9-32E2-4738-A69E-A10D4F6C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276C-194D-48BD-A2E7-A5710363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F2F5-16DF-49A1-B464-E85935A9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8E50-7A0E-4630-9496-94E6EB46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1F9A-4B27-47C0-A374-603BE8B0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3488-13A3-4475-9101-6306BADC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6955-7691-440C-8E90-6EFE9830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5F8B-0314-4CCF-9BBF-D668B765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2661-030A-4602-BC30-634A30EF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1ADF-AF00-4553-BAC4-E1ACFC8F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4408-7411-4B98-A8C9-F5DD56FA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9B53-E59A-435D-B5F4-EF4A4CC1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D04F-4CCE-45EA-B4D6-B431557D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41434-9D07-4737-BF1B-117D4845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F8CAD-0745-43E4-8525-8D46F78E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35F97-AA8F-46BA-B264-83B40C1C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49EE4-F427-4BB0-8C14-29C883C7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B50A3-8F65-45D8-928C-C61BEE44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6DE9-B57D-4E0A-979E-3C21E90D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27984-6518-4954-85C9-36CCF29D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EC40B-0BB2-4B4E-966E-4B2882D7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5F214-8965-4B64-90EF-55D19AAB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0EA1A-9B31-4A5E-93AA-2D0EF86D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64361-CADB-499F-A99F-0164CC52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0BB6C-FD06-42D5-8C8E-B9FCE57A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E248E-E79A-4C3D-B2EC-B4874413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B45-B4A2-4DAB-AE8D-80DB18BF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2229-E8B7-4F2C-8BCE-A56F3C00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E0B-5D09-4BF9-A73D-469637FA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0E58-218B-4C54-9295-3A3B5152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D694-9E7C-47D8-9F05-2273B400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F736-2687-41C4-9DF6-37D7DAE9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EAAE-904E-494C-9684-EFC4810B10B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D787-A1EE-4439-93A2-EFB136CE02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8C85-2ED4-481D-8551-F0E42BD53CB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1258920" y="-2700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7c"/>
                </a:solidFill>
                <a:latin typeface="Comic Sans MS"/>
              </a:rPr>
              <a:t>un poco de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 </a:t>
            </a:r>
            <a:r>
              <a:rPr b="0" lang="en-GB" sz="4400" spc="-1" strike="noStrike">
                <a:solidFill>
                  <a:srgbClr val="adebeb"/>
                </a:solidFill>
                <a:latin typeface="Comic Sans MS"/>
              </a:rPr>
              <a:t>a bit 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25"/>
          <p:cNvSpPr/>
          <p:nvPr/>
        </p:nvSpPr>
        <p:spPr>
          <a:xfrm>
            <a:off x="0" y="549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7c"/>
                </a:solidFill>
                <a:latin typeface="Comic Sans MS"/>
              </a:rPr>
              <a:t>un poquito de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 </a:t>
            </a:r>
            <a:r>
              <a:rPr b="0" lang="en-GB" sz="4400" spc="-1" strike="noStrike">
                <a:solidFill>
                  <a:srgbClr val="adebeb"/>
                </a:solidFill>
                <a:latin typeface="Comic Sans MS"/>
              </a:rPr>
              <a:t>a little bit 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0" y="143496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2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I speak a bit of Italia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2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I speak a little bit of Japanes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2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You speak a bit of Dutch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2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Do you speak a little bit of Greek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2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She speaks a bit of Russia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2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He speaks a little bit of Arabic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2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A little bit of Swedish is spoke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59:11Z</dcterms:modified>
  <cp:revision>385</cp:revision>
  <dc:subject/>
  <dc:title>TITLE</dc:title>
</cp:coreProperties>
</file>