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0363-5B25-43B3-9328-2D1E07774E5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DA94-18E1-45F6-818C-FF6B8A12A6E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F11C-E00D-43F6-AE72-4B26F837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C443-E0C5-4309-ABEB-D7C813EB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8021-C394-45CD-B3A1-AF86359E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1F7D-4A06-481B-BE70-942555E3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D1B4-E4B8-4235-8F3E-CC84DFDC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F779-5610-456D-9C8E-CF768DBF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C70D-6435-4981-A4D5-FCC62597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55A2-11F7-421E-809A-66F7A429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3ED8-2E0C-408E-BD2A-327470E2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A838-5FAE-4D7E-80B9-757D0745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92CA-5CCA-4E79-B92B-B0F321F1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EED0-F7DD-468A-ABDF-D4E4C300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16B1-CAED-46F6-BB6C-5A98AA5D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B0F8-32F6-4803-8326-C4228FB2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C135-14E0-46F7-90F7-B5CA0B71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0CF1-DEBE-4114-8403-08D86656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D207-AF1E-4981-A95A-2D6BEE6F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5DF97-F989-4796-9A4D-BD96A582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390D2-8918-4544-B0C9-B3DB3443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1CC8C-1F77-46CC-A9CC-9C496114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447A6-E0FA-4B41-A952-0FD92D35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90E16-6253-4C66-A58B-94A76568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47EC-89F3-48F3-BF68-45753A9F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1A48E-BAB5-4553-9EB5-301C8347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1207B-07FF-49A2-86C9-DC7830C1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A2F90-A5C2-402E-90FA-18538308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2ED38-1542-4673-8CFA-25F766A9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7A522-CA85-4968-B777-A5226A2D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D6C4A-E823-42B5-9D1E-FBEFD5E2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586D5-E21B-45CE-927A-D75AE457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D1EB-B852-44D9-935F-FA34A5B6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75A7-3A4C-47B9-B3A8-1AACF9FA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1A07-2524-482D-85F7-E467E2F4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B5C4-9E1E-4C25-9D6A-EC98B01A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44AF-EF02-4222-BECC-6DFE39E5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5EA4-00F8-4DD5-96E9-D08F30D5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8278-4164-47DB-88AA-000653D2225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22FD-D377-4850-B887-7BD0D754EF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1B32-CBE3-4F7C-A0E8-C8A34045FAF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1258920" y="-2700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7c"/>
                </a:solidFill>
                <a:latin typeface="Comic Sans MS"/>
              </a:rPr>
              <a:t>un poco de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 </a:t>
            </a:r>
            <a:r>
              <a:rPr b="0" lang="en-GB" sz="4400" spc="-1" strike="noStrike">
                <a:solidFill>
                  <a:srgbClr val="adebeb"/>
                </a:solidFill>
                <a:latin typeface="Comic Sans MS"/>
              </a:rPr>
              <a:t>a bit 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25"/>
          <p:cNvSpPr/>
          <p:nvPr/>
        </p:nvSpPr>
        <p:spPr>
          <a:xfrm>
            <a:off x="0" y="549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7c"/>
                </a:solidFill>
                <a:latin typeface="Comic Sans MS"/>
              </a:rPr>
              <a:t>un poquito de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 </a:t>
            </a:r>
            <a:r>
              <a:rPr b="0" lang="en-GB" sz="4400" spc="-1" strike="noStrike">
                <a:solidFill>
                  <a:srgbClr val="adebeb"/>
                </a:solidFill>
                <a:latin typeface="Comic Sans MS"/>
              </a:rPr>
              <a:t>a little bit 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0" y="143496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2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I speak a bit of Italia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2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I speak a little bit of Japanes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2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You speak a bit of Dutch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2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Do you speak a little bit of Greek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2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She speaks a bit of Russia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2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He speaks a little bit of Arabic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2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A little bit of Swedish is spoke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2:59:11Z</dcterms:modified>
  <cp:revision>385</cp:revision>
  <dc:subject/>
  <dc:title>TITLE</dc:title>
</cp:coreProperties>
</file>