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F177-F1A5-490D-BB69-136D7FF6CB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E68E-9056-4EBD-B835-A7BC0330B2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AEC-5447-4901-B106-4E2B7DF8AC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A345-929F-4459-AB05-D69FB1F4FE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9FD6-0442-45E7-B8CE-A5003238DE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5E8E-C0E0-4E38-8BB3-E39E4A6E19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5B45-14C0-467B-A454-234DC6C22A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6A65-DB53-4B48-B0EE-9074F82E47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07C-164A-4C80-9C31-B3EE921C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CCD-F9D6-490B-8947-2A00838E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84E-CA4E-4A63-B5FF-62B5403F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CCB-51AE-44D9-93D1-C7CD4B13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85FC-63AB-4161-9D61-13E8ED1F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F122-4B3B-4253-9A0D-A530FDAC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BAB5-B39E-4D42-A01B-0755AE9C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9E46-AED7-43B6-A1A4-64ECCAE1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0356-C7ED-4A0C-A56D-83D91E5A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AD7C-3036-4C9F-93E0-51C93973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FB8F-AB74-47EC-8B00-F198BC45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590-F90B-4B7B-BED5-7814604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1882-695A-415C-BF2E-3AC45640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D974-8E2E-49C7-BE55-2F3C1817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323A-4E2B-4EB1-BAEF-943355C5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CDA7-82D7-44B8-8C22-B63114CB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C8CB-9159-4013-918C-D3AC2F81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4D37-57C3-4E60-811D-D8EA7DA0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47FB-881A-4B30-9C3E-CD305A8F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E843-B1A4-4FAF-A4AB-E7E0F39E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D127-B816-4830-A182-C15C0E47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DAA8C-FE4C-4797-A392-71ADAD71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EFB-72C5-44CC-88A2-E01CD21D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854A-753D-4101-9C91-850FD91A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C262-483C-49F1-BB89-7C020A5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26DD-B2DD-44EB-8EEA-BA0A653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87C9-C39B-40DA-B065-AB147EEC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EF39-D25F-459D-85B5-E37F0722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2880-AB2B-4230-89D9-EC5FA4F8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7192-C734-451C-8302-525C6221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C1E-EF48-44F6-9683-5B9D9482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DAD-7CE6-4842-AAE7-4612779A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A00-F538-421E-B230-0532F971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FD7-1E18-4BE9-A18C-C5F7038E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4B9-6430-4D3E-BF44-D6DEEE3C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DB2-3D59-4492-BA3D-3A69292F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485E-370C-4E44-9412-547F6CEA25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8AF1-0498-4EC7-9F81-107FAD83481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3ADE-9331-4A66-A341-D0C9774600E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052640"/>
            <a:ext cx="8785440" cy="545652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, 5, 6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r favor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, 8, 9, 10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por favor!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797040" cy="1679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9280" y="189000"/>
            <a:ext cx="2233800" cy="7642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frá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125360"/>
            <a:ext cx="8785440" cy="41158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s la un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Españ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s la un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uermo con la luna.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s la un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Españ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s la un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la mañ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164360" y="4437000"/>
            <a:ext cx="1819440" cy="1670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4000" y="1197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5589720"/>
            <a:ext cx="165744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125360"/>
            <a:ext cx="8785440" cy="41158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ocho y medi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Bolivi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och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evanto cada día.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ocho y medi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Bolivi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ocho y medi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la mañ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1819440" cy="1670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844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751040" cy="117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1052640"/>
            <a:ext cx="8785440" cy="545652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, 5, 6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r favor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, 8, 9, 10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por favor!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797040" cy="1679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189000"/>
            <a:ext cx="2233800" cy="7642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frá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125360"/>
            <a:ext cx="8785440" cy="41158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nuev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Costa Ric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nuev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escuela.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nuev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Costa Ric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nueve y cuart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la mañ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819440" cy="1670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126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6560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125360"/>
            <a:ext cx="8785440" cy="41158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doc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Ibiz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doc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si mediodía.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doc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n Ibiza,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n las doce menos cuart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la mañ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819440" cy="1670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0920" y="126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871640" cy="12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052640"/>
            <a:ext cx="8785440" cy="545652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, 5, 6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r favor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, 2, 3,</a:t>
            </a:r>
            <a:br>
              <a:rPr sz="4400"/>
            </a:b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, 8, 9, 10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por favor! 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¿qué hora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797040" cy="1679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189000"/>
            <a:ext cx="2233800" cy="76428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frá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29T11:37:08Z</dcterms:modified>
  <cp:revision>258</cp:revision>
  <dc:subject/>
  <dc:title>TITLE</dc:title>
</cp:coreProperties>
</file>