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5650-ADBF-4619-A042-D8CAE455A9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E3DE-B95E-4E43-B18F-E9DE673546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0F94-426B-4B7F-B74E-B3E033E7E3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EEF2-E84E-4723-B653-364D147F9C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0C6A-78D1-440A-B638-7BFB177092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EEDC-CE55-4FBA-8F21-49DB54B24D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E5DB-C7AB-498E-88B9-3C88C48CD9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B8E-0AE0-4DC3-821A-FAD39369A1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4B7-BB2B-4B5A-B42F-737A0079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B92-A0F6-4033-83CC-5A77F684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052-DAB7-4E3C-9298-FB18B705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FD6-AA50-4500-91ED-689964A4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ED99-DD7A-4424-BF41-B37ED0DC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DFB2-065F-456E-9D2F-3160C62E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AEA0-4D24-4D84-B9EA-76BAB602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90C4-F6C5-4C35-B372-63989215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D312-FC38-456C-B71E-B87D6AF5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FA48-64F7-40B9-BF8A-30DD71A2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152D-D1E2-4B47-A912-D446897B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7D8-C04F-4730-9F2D-FE00A3AB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E8D4-DECA-4783-97A0-18EE18C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FFE5-A83C-46E1-9BB1-BC83C2C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6FC-8936-4112-9AA8-34452D67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2A62-17F4-4E21-A50A-CDF48352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99AF-D1BC-4930-9C0C-C59C8C63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C2A6F-C86D-427C-B630-AA3D01CD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94FD-A13B-4D35-9277-F3FE47CD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FD99-E024-4D87-9447-3AADBCB6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E49A-A27E-4163-AE18-884D0970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39365-324F-4776-BCDC-D23780E8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EB8-2746-4BE3-A497-9B6C63E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FBA5-D8CC-4737-A80A-E01B5541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2007-11E0-44CE-9872-126A5BCE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F518-A67E-47C3-B6D7-7371B29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9858-13C9-4996-BB0D-BA0C9656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80E8-7CEC-4749-A044-D6D1CAE7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03B7-7B45-409E-9552-4BAD2089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CCA1-6336-4068-91A2-305366AC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C86-920C-4EE4-ABBC-547D57F1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283-F2E8-44D3-BD59-D6F5C647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86A-77A9-45B5-9A30-B08C6427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616-DFFB-4B76-9732-EED4ED17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975-37CC-480E-9368-06D9A9D2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F56-2A5F-49BC-94A7-062E8A7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D334-C5FE-4E5D-B0DB-12760837DB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3CF7-F44B-4555-889B-BE10C8380FB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3E11-D3FE-419F-A376-DAD4F342EEC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052640"/>
            <a:ext cx="8785440" cy="545652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, 5, 6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 favor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, 8, 9, 10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por favor!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797040" cy="1679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189000"/>
            <a:ext cx="2233800" cy="7642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frá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125360"/>
            <a:ext cx="8785440" cy="41158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s la un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Españ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s la un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uermo con la luna.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s la un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Españ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s la un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 mañ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164360" y="4437000"/>
            <a:ext cx="1819440" cy="1670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4000" y="1197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5589720"/>
            <a:ext cx="165744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25360"/>
            <a:ext cx="8785440" cy="41158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ocho y medi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Bolivi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och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evanto cada día.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ocho y medi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Bolivi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ocho y medi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 mañ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1819440" cy="1670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844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751040" cy="117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1052640"/>
            <a:ext cx="8785440" cy="545652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, 5, 6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 favor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, 8, 9, 10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por favor!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797040" cy="1679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189000"/>
            <a:ext cx="2233800" cy="7642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frá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125360"/>
            <a:ext cx="8785440" cy="41158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nuev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Costa Ric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nuev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escuela.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nuev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Costa Ric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nueve y cuart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 mañ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819440" cy="1670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6560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125360"/>
            <a:ext cx="8785440" cy="41158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doc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Ibiz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doc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si mediodía.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doc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Ibiz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doce menos cuart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 mañ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819440" cy="1670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092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871640" cy="12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052640"/>
            <a:ext cx="8785440" cy="545652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, 5, 6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 favor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, 8, 9, 10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por favor!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797040" cy="1679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89000"/>
            <a:ext cx="2233800" cy="7642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frá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29T11:37:08Z</dcterms:modified>
  <cp:revision>258</cp:revision>
  <dc:subject/>
  <dc:title>TITLE</dc:title>
</cp:coreProperties>
</file>