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D893-DA65-4B45-B0BD-F7630BACFD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DC5C-A694-460F-B73D-FFF3809DD3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43F4-B25D-4D33-B8B8-052F509CDE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7A08-1CD9-4F7A-934E-D25A1DF74D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8B4E-7377-49F9-9F8F-4F6F100D69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4FB5-5FB1-4879-B854-D72893EF60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CB8A-C04B-443D-B201-94E634D930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6C5C-F58C-4846-94A5-D8FC265D23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B5C0-D228-4DE5-8293-324E7AD662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FFE-EE12-4999-AD75-771189D55F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960-628F-42D9-B318-2D52747ADA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3905-67BB-496A-9D6D-26EEFCF5B5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152-FF38-40D7-9173-5EB2CC6F49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2615-18AB-4A38-9825-16297DCAE7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D5AE-A7C4-4F2D-88A5-9C90BAA20A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55D2-E361-4247-BAF0-B390C9F412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1CE8-EF37-4DA4-9AB3-C92E5F6ED5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C39A-41C9-4FB5-9F2B-94944D6E5D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2F6-3739-49EF-99F9-8795972311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D5C8-17D7-4B1F-B9D0-AEA3925469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A3BC-7E88-4B9F-BFAA-7C1EBACA9C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CF00-CD17-416F-93AF-8F508F6F70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804E-AB14-4E23-BA83-A9E975D483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83E-4201-4EE1-9498-3CFC9D42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2AD-8BF5-453C-9EF6-3D52BF5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37C-2B3B-46B4-ABAB-9A2C3DA2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2DA-9F19-46C8-9998-0AD30DEF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EB5-5C96-464E-956E-9507D5E9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AC6-6319-4288-870C-3B16BFBD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CC8-6FAD-415B-8A43-2206BC6C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E7D-8CE9-4D60-8B18-0D080D3A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D5B-B8AB-4747-BAA4-C11F68E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F76-72E5-4610-8EBE-63912C3A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D39-9380-4A38-A71E-D40C4DDA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A6D-00CD-49EA-80EE-C4FC47A3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4FA1-5B20-46C2-8DE0-0FC7E00576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0" y="6597720"/>
            <a:ext cx="6192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2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Straight Connector 18"/>
          <p:cNvSpPr/>
          <p:nvPr/>
        </p:nvSpPr>
        <p:spPr>
          <a:xfrm flipH="1">
            <a:off x="979200" y="5075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traight Connector 19"/>
          <p:cNvSpPr/>
          <p:nvPr/>
        </p:nvSpPr>
        <p:spPr>
          <a:xfrm flipH="1">
            <a:off x="863280" y="450864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traight Connector 22"/>
          <p:cNvSpPr/>
          <p:nvPr/>
        </p:nvSpPr>
        <p:spPr>
          <a:xfrm flipH="1">
            <a:off x="979200" y="344484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Straight Connector 18"/>
          <p:cNvSpPr/>
          <p:nvPr/>
        </p:nvSpPr>
        <p:spPr>
          <a:xfrm flipH="1">
            <a:off x="979200" y="5075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Straight Connector 19"/>
          <p:cNvSpPr/>
          <p:nvPr/>
        </p:nvSpPr>
        <p:spPr>
          <a:xfrm flipH="1">
            <a:off x="863280" y="450864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Straight Connector 22"/>
          <p:cNvSpPr/>
          <p:nvPr/>
        </p:nvSpPr>
        <p:spPr>
          <a:xfrm flipH="1">
            <a:off x="979200" y="344484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Straight Connector 23"/>
          <p:cNvSpPr/>
          <p:nvPr/>
        </p:nvSpPr>
        <p:spPr>
          <a:xfrm flipH="1">
            <a:off x="863280" y="23637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7729560" y="147168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Box 26"/>
          <p:cNvSpPr/>
          <p:nvPr/>
        </p:nvSpPr>
        <p:spPr>
          <a:xfrm>
            <a:off x="7729560" y="147168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27"/>
          <p:cNvSpPr/>
          <p:nvPr/>
        </p:nvSpPr>
        <p:spPr>
          <a:xfrm>
            <a:off x="7723080" y="2863800"/>
            <a:ext cx="71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7729560" y="147168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7723080" y="2863800"/>
            <a:ext cx="71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Box 28"/>
          <p:cNvSpPr/>
          <p:nvPr/>
        </p:nvSpPr>
        <p:spPr>
          <a:xfrm>
            <a:off x="7750080" y="418932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Box 26"/>
          <p:cNvSpPr/>
          <p:nvPr/>
        </p:nvSpPr>
        <p:spPr>
          <a:xfrm>
            <a:off x="7729560" y="147168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Box 27"/>
          <p:cNvSpPr/>
          <p:nvPr/>
        </p:nvSpPr>
        <p:spPr>
          <a:xfrm>
            <a:off x="7723080" y="2863800"/>
            <a:ext cx="71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Box 28"/>
          <p:cNvSpPr/>
          <p:nvPr/>
        </p:nvSpPr>
        <p:spPr>
          <a:xfrm>
            <a:off x="7750080" y="418932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Box 29"/>
          <p:cNvSpPr/>
          <p:nvPr/>
        </p:nvSpPr>
        <p:spPr>
          <a:xfrm>
            <a:off x="7750080" y="5516640"/>
            <a:ext cx="71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Straight Connector 18"/>
          <p:cNvSpPr/>
          <p:nvPr/>
        </p:nvSpPr>
        <p:spPr>
          <a:xfrm flipH="1">
            <a:off x="979200" y="5075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Straight Connector 18"/>
          <p:cNvSpPr/>
          <p:nvPr/>
        </p:nvSpPr>
        <p:spPr>
          <a:xfrm flipH="1">
            <a:off x="979200" y="5075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Straight Connector 19"/>
          <p:cNvSpPr/>
          <p:nvPr/>
        </p:nvSpPr>
        <p:spPr>
          <a:xfrm flipH="1">
            <a:off x="863280" y="450864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6-17T10:40:40Z</dcterms:modified>
  <cp:revision>166</cp:revision>
  <dc:subject/>
  <dc:title>TITLE</dc:title>
</cp:coreProperties>
</file>