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679-7679-40F0-87E7-B2B5593D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232-DA51-4C15-840E-D1735B33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9A1-9C40-4394-A374-69A3CD5B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41C-9BA0-48B3-B334-4AF37F9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4F5-31CC-407F-A343-50FD409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1CB-495C-4AD4-AFFE-8CC49304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404-7F81-4D45-A233-9D9F50F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A0F-342C-4F8D-9C45-4B4CD4E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50E-792E-4EA9-9B3B-3ACA4D6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75C-4974-40C9-9D29-E23D928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E59-66F3-435A-8151-FAC0E85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DDB-483A-4CD8-8CF4-3B7684E7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B32-E469-47DA-A941-AFF0406013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300720" y="5105520"/>
            <a:ext cx="2843280" cy="17524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4000" y="270828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a"/>
                </a:solidFill>
                <a:latin typeface="Comic Sans MS"/>
              </a:rPr>
              <a:t>How do we form the plural in English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79280" y="-27000"/>
            <a:ext cx="8496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add 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at &gt; ca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hurch &gt; chur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double the letter and 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quiz &gt; quizz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f to v and add 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wolf &gt; wol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ake off y and add ies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lady &gt; la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us to i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cactus &gt; cac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um to a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forum &gt; fo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ange a to ae    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formula &gt; formula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ouse &gt; m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goose &gt; g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sheep &gt; she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tooth &gt;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foot &gt; fe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child &gt;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man &gt; 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lnSpc>
                <a:spcPct val="100000"/>
              </a:lnSpc>
              <a:buClr>
                <a:srgbClr val="fffff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a"/>
                </a:solidFill>
                <a:latin typeface="Comic Sans MS"/>
              </a:rPr>
              <a:t>person &gt;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22-01-25T11:19:26Z</dcterms:modified>
  <cp:revision>126</cp:revision>
  <dc:subject/>
  <dc:title>TITLE</dc:title>
</cp:coreProperties>
</file>