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3C9-D646-4B3E-9BEA-27A7692E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682-AE15-4598-BBDD-3BFED74A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C54-EE7D-4AA7-BC16-4BBDDB5C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DE5-A73B-4FEF-A4A7-52348157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FCC-F5F3-4B17-AC3E-F3F33AB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1B6-F938-4D08-9F11-54300B60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0C2-1C50-4DA5-9294-97E3F1B9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D97-06EA-47E9-9CD6-40776316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140-62F2-48EE-BC34-A55518F7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536-4032-4981-AD52-90625D1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C90-F100-49C4-8720-4115477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8B6-A4F9-4A6B-B51B-E7B9DE1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FA7-7515-47DA-98C1-6779B6F5EC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300720" y="5105520"/>
            <a:ext cx="2843280" cy="17524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4000" y="270828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How do we form the plural in English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79280" y="-27000"/>
            <a:ext cx="8496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add 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cat &gt; ca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add 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church &gt; chur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double the letter and add 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quiz &gt; quizz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f to v and add 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wolf &gt; wol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ake off y and add i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lady &gt; la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us to i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cactus &gt; cac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um to a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forum &gt; fo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a to ae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formula &gt; formula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ouse &gt; m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goose &gt; ge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sheep &gt; she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ooth &gt; tee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foot &gt; fe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ild &gt;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an &gt; 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person &gt;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5T11:19:26Z</dcterms:modified>
  <cp:revision>126</cp:revision>
  <dc:subject/>
  <dc:title>TITLE</dc:title>
</cp:coreProperties>
</file>