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5652-B879-4FA6-9648-0203BAE726C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C8B4-E68F-4F47-B56E-651BCA6F6E9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4C46-0FBD-4D91-B912-11BD19E7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357D-1CD4-403B-AA44-20F5A776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9EA7-C321-4413-9F84-21883EB8C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021E-8B02-4475-9AD8-7981B429C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21CF-0146-4322-86DB-DF34CE8A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5C95-6EAF-48CB-B5EF-5A5CD134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9766-29FA-455F-870E-78CEE4E9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621D-82D7-43C6-9F8E-35D26919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9B01-ADC9-4DF9-88F0-936B4190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8071-5F3C-46B0-971E-76C0B227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1395-F1C5-4ED0-BDE5-3AE948FF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426F-C83F-40EB-A94C-69801BAF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2B13-8258-4B77-BB49-926B0138F26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hyperlink" Target="http://www.lightbulblanguages.co.uk/" TargetMode="Externa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08000" y="44280"/>
          <a:ext cx="8928000" cy="679140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  <a:gridCol w="2232000"/>
              </a:tblGrid>
              <a:tr h="22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62000" y="549360"/>
            <a:ext cx="2160360" cy="1406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rcRect l="15955" t="0" r="22995" b="0"/>
          <a:stretch/>
        </p:blipFill>
        <p:spPr>
          <a:xfrm>
            <a:off x="2411280" y="520560"/>
            <a:ext cx="2089440" cy="1729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rcRect l="0" t="0" r="9629" b="0"/>
          <a:stretch/>
        </p:blipFill>
        <p:spPr>
          <a:xfrm>
            <a:off x="4643280" y="520560"/>
            <a:ext cx="2089440" cy="173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4"/>
          <a:srcRect l="16986" t="0" r="0" b="0"/>
          <a:stretch/>
        </p:blipFill>
        <p:spPr>
          <a:xfrm>
            <a:off x="6853320" y="549360"/>
            <a:ext cx="2124000" cy="1704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162000" y="2781360"/>
            <a:ext cx="2160360" cy="177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6"/>
          <a:stretch/>
        </p:blipFill>
        <p:spPr>
          <a:xfrm>
            <a:off x="2403360" y="2781360"/>
            <a:ext cx="2097360" cy="1749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7"/>
          <a:srcRect l="0" t="0" r="21619" b="0"/>
          <a:stretch/>
        </p:blipFill>
        <p:spPr>
          <a:xfrm>
            <a:off x="4643280" y="2781360"/>
            <a:ext cx="2089440" cy="1774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8"/>
          <a:srcRect l="8957" t="0" r="6223" b="0"/>
          <a:stretch/>
        </p:blipFill>
        <p:spPr>
          <a:xfrm>
            <a:off x="6853320" y="2865600"/>
            <a:ext cx="2124000" cy="1665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/>
          <p:cNvPicPr/>
          <p:nvPr/>
        </p:nvPicPr>
        <p:blipFill>
          <a:blip r:embed="rId9"/>
          <a:srcRect l="8772" t="0" r="8938" b="0"/>
          <a:stretch/>
        </p:blipFill>
        <p:spPr>
          <a:xfrm>
            <a:off x="173160" y="5084640"/>
            <a:ext cx="2136600" cy="1729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"/>
          <p:cNvPicPr/>
          <p:nvPr/>
        </p:nvPicPr>
        <p:blipFill>
          <a:blip r:embed="rId10"/>
          <a:srcRect l="7915" t="2740" r="10493" b="0"/>
          <a:stretch/>
        </p:blipFill>
        <p:spPr>
          <a:xfrm>
            <a:off x="2411280" y="5084640"/>
            <a:ext cx="2089440" cy="1659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"/>
          <p:cNvPicPr/>
          <p:nvPr/>
        </p:nvPicPr>
        <p:blipFill>
          <a:blip r:embed="rId11"/>
          <a:srcRect l="8027" t="0" r="4751" b="0"/>
          <a:stretch/>
        </p:blipFill>
        <p:spPr>
          <a:xfrm>
            <a:off x="4627440" y="5084640"/>
            <a:ext cx="2127240" cy="1722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"/>
          <p:cNvPicPr/>
          <p:nvPr/>
        </p:nvPicPr>
        <p:blipFill>
          <a:blip r:embed="rId12"/>
          <a:srcRect l="2798" t="10294" r="3335" b="38756"/>
          <a:stretch/>
        </p:blipFill>
        <p:spPr>
          <a:xfrm>
            <a:off x="6850080" y="5092560"/>
            <a:ext cx="2138400" cy="165132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2951280" y="6620040"/>
            <a:ext cx="61927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777777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3"/>
              </a:rPr>
              <a:t>http://www.lightbulblanguages.co.uk</a:t>
            </a:r>
            <a:r>
              <a:rPr b="0" lang="en-GB" sz="800" spc="-1" strike="noStrike">
                <a:solidFill>
                  <a:srgbClr val="777777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6-17T14:51:26Z</dcterms:modified>
  <cp:revision>170</cp:revision>
  <dc:subject/>
  <dc:title>TITLE</dc:title>
</cp:coreProperties>
</file>