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3A34-EBEA-4305-AB21-194222F512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B15E-73A4-4E53-9067-D79BA5AC45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8E2-7C88-4794-9F6D-B22277A7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DB5-AA9A-4409-AA28-BBC7CE34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C85-5D82-4DD8-B53A-912A0D41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F68-EDAE-4AE5-A4D0-82306BA3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6F1-6541-4A37-922E-2A7325EB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FBE-A469-4FE5-92BE-9B897963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916-77C1-4EC2-81F4-088D1646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A4C-E686-4E30-8698-6721EBA9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203-6D61-48D0-88C9-2C7C7FF4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BC5-C2B8-44AB-8E01-EFB3E7C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DEA-07B9-4E20-A40D-C7718562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352-9731-4C6F-A36F-806E004D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D584-F3A5-483A-9ED3-458F9215A8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hyperlink" Target="http://www.lightbulblanguages.co.uk/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44280"/>
          <a:ext cx="8928000" cy="679140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22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2000" y="549360"/>
            <a:ext cx="2160360" cy="140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15955" t="0" r="22995" b="0"/>
          <a:stretch/>
        </p:blipFill>
        <p:spPr>
          <a:xfrm>
            <a:off x="2411280" y="520560"/>
            <a:ext cx="2089440" cy="172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rcRect l="0" t="0" r="9629" b="0"/>
          <a:stretch/>
        </p:blipFill>
        <p:spPr>
          <a:xfrm>
            <a:off x="4643280" y="520560"/>
            <a:ext cx="2089440" cy="173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rcRect l="16986" t="0" r="0" b="0"/>
          <a:stretch/>
        </p:blipFill>
        <p:spPr>
          <a:xfrm>
            <a:off x="6853320" y="549360"/>
            <a:ext cx="212400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rcRect l="15992" t="0" r="15485" b="0"/>
          <a:stretch/>
        </p:blipFill>
        <p:spPr>
          <a:xfrm>
            <a:off x="162000" y="2781360"/>
            <a:ext cx="2160360" cy="177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6"/>
          <a:stretch/>
        </p:blipFill>
        <p:spPr>
          <a:xfrm>
            <a:off x="2403360" y="2781360"/>
            <a:ext cx="2097360" cy="174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7"/>
          <a:srcRect l="0" t="0" r="21619" b="0"/>
          <a:stretch/>
        </p:blipFill>
        <p:spPr>
          <a:xfrm>
            <a:off x="4643280" y="2781360"/>
            <a:ext cx="2089440" cy="177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8"/>
          <a:srcRect l="8957" t="0" r="6223" b="0"/>
          <a:stretch/>
        </p:blipFill>
        <p:spPr>
          <a:xfrm>
            <a:off x="6853320" y="2865600"/>
            <a:ext cx="2124000" cy="166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9"/>
          <a:srcRect l="8772" t="0" r="8938" b="0"/>
          <a:stretch/>
        </p:blipFill>
        <p:spPr>
          <a:xfrm>
            <a:off x="173160" y="5084640"/>
            <a:ext cx="2136600" cy="17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10"/>
          <a:srcRect l="7915" t="2740" r="10493" b="0"/>
          <a:stretch/>
        </p:blipFill>
        <p:spPr>
          <a:xfrm>
            <a:off x="2411280" y="5084640"/>
            <a:ext cx="2089440" cy="1659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11"/>
          <a:srcRect l="8027" t="0" r="4751" b="0"/>
          <a:stretch/>
        </p:blipFill>
        <p:spPr>
          <a:xfrm>
            <a:off x="4627440" y="5084640"/>
            <a:ext cx="2127240" cy="172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12"/>
          <a:srcRect l="2798" t="10294" r="3335" b="38756"/>
          <a:stretch/>
        </p:blipFill>
        <p:spPr>
          <a:xfrm>
            <a:off x="6850080" y="5092560"/>
            <a:ext cx="2138400" cy="16513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951280" y="6620040"/>
            <a:ext cx="6192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777777"/>
                </a:solidFill>
                <a:latin typeface="Arial Rounded MT Bold"/>
              </a:rPr>
              <a:t>© Light Bulb Languages 2020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3"/>
              </a:rPr>
              <a:t>http://www.lightbulblanguages.co.uk</a:t>
            </a:r>
            <a:r>
              <a:rPr b="0" lang="en-GB" sz="800" spc="-1" strike="noStrike">
                <a:solidFill>
                  <a:srgbClr val="777777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6-17T14:51:26Z</dcterms:modified>
  <cp:revision>170</cp:revision>
  <dc:subject/>
  <dc:title>TITLE</dc:title>
</cp:coreProperties>
</file>