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92F8-D54C-4A3A-89AE-D7AF5CD0780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ED3F-5A97-44BA-BD7C-9D623631B33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8AE6-A2E8-46DA-A2E6-57B85C72408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717B-EE88-4648-9690-E7270630D5B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F723-51BB-4D03-BD80-9658F7F1809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27E5-8E2E-4C4A-9E56-2C08A76CB39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EDD9-E575-44D3-BDDA-299EE0C9D8A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CD04-173B-402B-8CC4-12BF00C4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4C48-E2F9-4D01-8282-1EB7DAD0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CC49-3AFC-494B-8167-4A17E337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CEE4-82EF-4F7B-9ECB-BC7632CB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E006-6795-49CD-897C-27CB5D55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44D6-D9DD-4214-84F6-5AA0393F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DBE5-7CAD-4A96-A5A7-59D7ED6B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67E9-1BE4-41E4-9096-BBFEC9D6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D2CC-F97B-4A5B-8764-73F789BA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02BB-EA9F-46D5-A2E7-170BB11F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1571-C775-482F-8A6D-A08C62AB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E6F0-BFDA-45E6-A551-877D5A07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1FB2-1816-4611-9C8A-BA255FBCAEE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12500" r="9940" b="14311"/>
          <a:stretch/>
        </p:blipFill>
        <p:spPr>
          <a:xfrm>
            <a:off x="6732720" y="836640"/>
            <a:ext cx="1849320" cy="2232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8395" t="7677" r="8395" b="0"/>
          <a:stretch/>
        </p:blipFill>
        <p:spPr>
          <a:xfrm>
            <a:off x="179280" y="836640"/>
            <a:ext cx="2880000" cy="20844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6227640" y="3500280"/>
            <a:ext cx="2665440" cy="2195640"/>
            <a:chOff x="6227640" y="3500280"/>
            <a:chExt cx="2665440" cy="2195640"/>
          </a:xfrm>
        </p:grpSpPr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6877080" y="4581360"/>
              <a:ext cx="13683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5"/>
            <a:stretch/>
          </p:blipFill>
          <p:spPr>
            <a:xfrm>
              <a:off x="6227640" y="3500280"/>
              <a:ext cx="136872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6"/>
            <a:stretch/>
          </p:blipFill>
          <p:spPr>
            <a:xfrm>
              <a:off x="7524720" y="3500280"/>
              <a:ext cx="1368360" cy="111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3492360" y="3500280"/>
            <a:ext cx="2159280" cy="2159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324000" y="3429000"/>
            <a:ext cx="2842920" cy="2214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rcRect l="0" t="7646" r="0" b="10227"/>
          <a:stretch/>
        </p:blipFill>
        <p:spPr>
          <a:xfrm>
            <a:off x="3492360" y="981000"/>
            <a:ext cx="30258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8395" t="7677" r="8395" b="0"/>
          <a:stretch/>
        </p:blipFill>
        <p:spPr>
          <a:xfrm>
            <a:off x="6084720" y="3068640"/>
            <a:ext cx="2880000" cy="20844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179280" y="2637000"/>
            <a:ext cx="2665440" cy="2194920"/>
            <a:chOff x="179280" y="2637000"/>
            <a:chExt cx="2665440" cy="219492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828720" y="3717720"/>
              <a:ext cx="136836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179280" y="2637000"/>
              <a:ext cx="136872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5"/>
            <a:stretch/>
          </p:blipFill>
          <p:spPr>
            <a:xfrm>
              <a:off x="1476360" y="2637000"/>
              <a:ext cx="1368360" cy="111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6588000" y="620640"/>
            <a:ext cx="2159280" cy="2158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2987640" y="4076640"/>
            <a:ext cx="2843280" cy="2214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rcRect l="0" t="7646" r="0" b="10227"/>
          <a:stretch/>
        </p:blipFill>
        <p:spPr>
          <a:xfrm>
            <a:off x="2843280" y="549360"/>
            <a:ext cx="30258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8395" t="7677" r="8395" b="0"/>
          <a:stretch/>
        </p:blipFill>
        <p:spPr>
          <a:xfrm>
            <a:off x="4500720" y="1052640"/>
            <a:ext cx="2879640" cy="208440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971640" y="4076640"/>
            <a:ext cx="2665440" cy="2195640"/>
            <a:chOff x="971640" y="4076640"/>
            <a:chExt cx="2665440" cy="2195640"/>
          </a:xfrm>
        </p:grpSpPr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1621080" y="5157720"/>
              <a:ext cx="13683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4"/>
            <a:stretch/>
          </p:blipFill>
          <p:spPr>
            <a:xfrm>
              <a:off x="971640" y="4076640"/>
              <a:ext cx="136872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5"/>
            <a:stretch/>
          </p:blipFill>
          <p:spPr>
            <a:xfrm>
              <a:off x="2268720" y="4076640"/>
              <a:ext cx="1368360" cy="111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1763640" y="26028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rcRect l="0" t="7646" r="0" b="10227"/>
          <a:stretch/>
        </p:blipFill>
        <p:spPr>
          <a:xfrm>
            <a:off x="5003640" y="3645000"/>
            <a:ext cx="30258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427640" y="549360"/>
            <a:ext cx="2665440" cy="2194920"/>
            <a:chOff x="4427640" y="549360"/>
            <a:chExt cx="2665440" cy="219492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5077080" y="1630080"/>
              <a:ext cx="136836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3"/>
            <a:stretch/>
          </p:blipFill>
          <p:spPr>
            <a:xfrm>
              <a:off x="4427640" y="549360"/>
              <a:ext cx="136872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4"/>
            <a:stretch/>
          </p:blipFill>
          <p:spPr>
            <a:xfrm>
              <a:off x="5724720" y="549360"/>
              <a:ext cx="1368360" cy="111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5364000" y="4149720"/>
            <a:ext cx="2159280" cy="2158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rcRect l="0" t="7646" r="0" b="10227"/>
          <a:stretch/>
        </p:blipFill>
        <p:spPr>
          <a:xfrm>
            <a:off x="755640" y="4437000"/>
            <a:ext cx="30258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356000" y="3933720"/>
            <a:ext cx="2665440" cy="2195640"/>
            <a:chOff x="4356000" y="3933720"/>
            <a:chExt cx="2665440" cy="219564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5005440" y="5014800"/>
              <a:ext cx="13683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4356000" y="3933720"/>
              <a:ext cx="136872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5653080" y="3933720"/>
              <a:ext cx="1368360" cy="111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" descr=""/>
          <p:cNvPicPr/>
          <p:nvPr/>
        </p:nvPicPr>
        <p:blipFill>
          <a:blip r:embed="rId5"/>
          <a:srcRect l="0" t="7646" r="0" b="10227"/>
          <a:stretch/>
        </p:blipFill>
        <p:spPr>
          <a:xfrm>
            <a:off x="5219640" y="404640"/>
            <a:ext cx="302580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0" t="7646" r="0" b="10227"/>
          <a:stretch/>
        </p:blipFill>
        <p:spPr>
          <a:xfrm>
            <a:off x="2771640" y="2708280"/>
            <a:ext cx="30258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0-06-21T13:37:04Z</dcterms:modified>
  <cp:revision>175</cp:revision>
  <dc:subject/>
  <dc:title>TITLE</dc:title>
</cp:coreProperties>
</file>