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A0F9D-7BBD-468D-A021-95234333657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EB30F-1340-401F-AFD7-DA8F5EA366B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6C9F7-7D3A-4361-8AFB-35C78973563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100D5-CF0D-4542-B06F-AD31897A831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7EEDE-E9D8-4A54-B2F5-46C9AAF300A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D3E6A-1DF8-4212-8BE1-1A6AF864328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EED0C-FE95-4BD8-A0D1-5870B3A8C30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20AE-30E7-49D2-AB12-27EE43075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508D-60F0-4FA8-9FE6-8B48DB123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BBF3-9D65-462F-97E1-9931380CC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311C-8D32-4F1C-9F31-AECA40C31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C81A-AD97-4D35-B8E0-D80C2F7E9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3847-7128-419C-BAAF-99094E02B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69AA-FDF2-4054-A5C4-FC80ED9DE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7B71-D86C-47B1-B8EF-C16A2E30B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B29A-78EE-4B95-8183-BD87052C6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95B2-08F8-4D7E-9275-BB36CAFE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69B3-13A8-4EBE-8763-4328376D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A283-38B9-4EC6-B0E5-1F95CAB7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68AA3-BF90-41D0-932A-C49F2D2DC7D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2.xml"/><Relationship Id="rId11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2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rcRect l="0" t="12500" r="9940" b="14311"/>
          <a:stretch/>
        </p:blipFill>
        <p:spPr>
          <a:xfrm>
            <a:off x="6732720" y="836640"/>
            <a:ext cx="1849320" cy="2232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rcRect l="8395" t="7677" r="8395" b="0"/>
          <a:stretch/>
        </p:blipFill>
        <p:spPr>
          <a:xfrm>
            <a:off x="179280" y="836640"/>
            <a:ext cx="2880000" cy="208440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6227640" y="3500280"/>
            <a:ext cx="2665440" cy="2195640"/>
            <a:chOff x="6227640" y="3500280"/>
            <a:chExt cx="2665440" cy="2195640"/>
          </a:xfrm>
        </p:grpSpPr>
        <p:pic>
          <p:nvPicPr>
            <p:cNvPr id="52" name="" descr=""/>
            <p:cNvPicPr/>
            <p:nvPr/>
          </p:nvPicPr>
          <p:blipFill>
            <a:blip r:embed="rId4"/>
            <a:stretch/>
          </p:blipFill>
          <p:spPr>
            <a:xfrm>
              <a:off x="6877080" y="4581360"/>
              <a:ext cx="1368360" cy="11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5"/>
            <a:stretch/>
          </p:blipFill>
          <p:spPr>
            <a:xfrm>
              <a:off x="6227640" y="3500280"/>
              <a:ext cx="1368720" cy="11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6"/>
            <a:stretch/>
          </p:blipFill>
          <p:spPr>
            <a:xfrm>
              <a:off x="7524720" y="3500280"/>
              <a:ext cx="1368360" cy="1114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3492360" y="3500280"/>
            <a:ext cx="2159280" cy="2159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8"/>
          <a:stretch/>
        </p:blipFill>
        <p:spPr>
          <a:xfrm>
            <a:off x="324000" y="3429000"/>
            <a:ext cx="2842920" cy="2214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9"/>
          <a:srcRect l="0" t="7646" r="0" b="10227"/>
          <a:stretch/>
        </p:blipFill>
        <p:spPr>
          <a:xfrm>
            <a:off x="3492360" y="981000"/>
            <a:ext cx="302580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rcRect l="8395" t="7677" r="8395" b="0"/>
          <a:stretch/>
        </p:blipFill>
        <p:spPr>
          <a:xfrm>
            <a:off x="6084720" y="3068640"/>
            <a:ext cx="2880000" cy="208440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179280" y="2637000"/>
            <a:ext cx="2665440" cy="2194920"/>
            <a:chOff x="179280" y="2637000"/>
            <a:chExt cx="2665440" cy="2194920"/>
          </a:xfrm>
        </p:grpSpPr>
        <p:pic>
          <p:nvPicPr>
            <p:cNvPr id="61" name="" descr=""/>
            <p:cNvPicPr/>
            <p:nvPr/>
          </p:nvPicPr>
          <p:blipFill>
            <a:blip r:embed="rId3"/>
            <a:stretch/>
          </p:blipFill>
          <p:spPr>
            <a:xfrm>
              <a:off x="828720" y="3717720"/>
              <a:ext cx="1368360" cy="11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4"/>
            <a:stretch/>
          </p:blipFill>
          <p:spPr>
            <a:xfrm>
              <a:off x="179280" y="2637000"/>
              <a:ext cx="1368720" cy="11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5"/>
            <a:stretch/>
          </p:blipFill>
          <p:spPr>
            <a:xfrm>
              <a:off x="1476360" y="2637000"/>
              <a:ext cx="1368360" cy="1114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6588000" y="620640"/>
            <a:ext cx="2159280" cy="2158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7"/>
          <a:stretch/>
        </p:blipFill>
        <p:spPr>
          <a:xfrm>
            <a:off x="2987640" y="4076640"/>
            <a:ext cx="2843280" cy="2214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8"/>
          <a:srcRect l="0" t="7646" r="0" b="10227"/>
          <a:stretch/>
        </p:blipFill>
        <p:spPr>
          <a:xfrm>
            <a:off x="2843280" y="549360"/>
            <a:ext cx="302580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rcRect l="8395" t="7677" r="8395" b="0"/>
          <a:stretch/>
        </p:blipFill>
        <p:spPr>
          <a:xfrm>
            <a:off x="4500720" y="1052640"/>
            <a:ext cx="2879640" cy="2084400"/>
          </a:xfrm>
          <a:prstGeom prst="rect">
            <a:avLst/>
          </a:prstGeom>
          <a:ln w="0">
            <a:noFill/>
          </a:ln>
        </p:spPr>
      </p:pic>
      <p:grpSp>
        <p:nvGrpSpPr>
          <p:cNvPr id="69" name=""/>
          <p:cNvGrpSpPr/>
          <p:nvPr/>
        </p:nvGrpSpPr>
        <p:grpSpPr>
          <a:xfrm>
            <a:off x="971640" y="4076640"/>
            <a:ext cx="2665440" cy="2195640"/>
            <a:chOff x="971640" y="4076640"/>
            <a:chExt cx="2665440" cy="2195640"/>
          </a:xfrm>
        </p:grpSpPr>
        <p:pic>
          <p:nvPicPr>
            <p:cNvPr id="70" name="" descr=""/>
            <p:cNvPicPr/>
            <p:nvPr/>
          </p:nvPicPr>
          <p:blipFill>
            <a:blip r:embed="rId3"/>
            <a:stretch/>
          </p:blipFill>
          <p:spPr>
            <a:xfrm>
              <a:off x="1621080" y="5157720"/>
              <a:ext cx="1368360" cy="11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4"/>
            <a:stretch/>
          </p:blipFill>
          <p:spPr>
            <a:xfrm>
              <a:off x="971640" y="4076640"/>
              <a:ext cx="1368720" cy="11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5"/>
            <a:stretch/>
          </p:blipFill>
          <p:spPr>
            <a:xfrm>
              <a:off x="2268720" y="4076640"/>
              <a:ext cx="1368360" cy="1114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1763640" y="260280"/>
            <a:ext cx="2158920" cy="2158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7"/>
          <a:srcRect l="0" t="7646" r="0" b="10227"/>
          <a:stretch/>
        </p:blipFill>
        <p:spPr>
          <a:xfrm>
            <a:off x="5003640" y="3645000"/>
            <a:ext cx="302580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4427640" y="549360"/>
            <a:ext cx="2665440" cy="2194920"/>
            <a:chOff x="4427640" y="549360"/>
            <a:chExt cx="2665440" cy="2194920"/>
          </a:xfrm>
        </p:grpSpPr>
        <p:pic>
          <p:nvPicPr>
            <p:cNvPr id="77" name="" descr=""/>
            <p:cNvPicPr/>
            <p:nvPr/>
          </p:nvPicPr>
          <p:blipFill>
            <a:blip r:embed="rId2"/>
            <a:stretch/>
          </p:blipFill>
          <p:spPr>
            <a:xfrm>
              <a:off x="5077080" y="1630080"/>
              <a:ext cx="1368360" cy="11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3"/>
            <a:stretch/>
          </p:blipFill>
          <p:spPr>
            <a:xfrm>
              <a:off x="4427640" y="549360"/>
              <a:ext cx="1368720" cy="11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4"/>
            <a:stretch/>
          </p:blipFill>
          <p:spPr>
            <a:xfrm>
              <a:off x="5724720" y="549360"/>
              <a:ext cx="1368360" cy="1114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5364000" y="4149720"/>
            <a:ext cx="2159280" cy="2158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rcRect l="0" t="7646" r="0" b="10227"/>
          <a:stretch/>
        </p:blipFill>
        <p:spPr>
          <a:xfrm>
            <a:off x="755640" y="4437000"/>
            <a:ext cx="302580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356000" y="3933720"/>
            <a:ext cx="2665440" cy="2195640"/>
            <a:chOff x="4356000" y="3933720"/>
            <a:chExt cx="2665440" cy="2195640"/>
          </a:xfrm>
        </p:grpSpPr>
        <p:pic>
          <p:nvPicPr>
            <p:cNvPr id="84" name="" descr=""/>
            <p:cNvPicPr/>
            <p:nvPr/>
          </p:nvPicPr>
          <p:blipFill>
            <a:blip r:embed="rId2"/>
            <a:stretch/>
          </p:blipFill>
          <p:spPr>
            <a:xfrm>
              <a:off x="5005440" y="5014800"/>
              <a:ext cx="1368360" cy="11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3"/>
            <a:stretch/>
          </p:blipFill>
          <p:spPr>
            <a:xfrm>
              <a:off x="4356000" y="3933720"/>
              <a:ext cx="1368720" cy="11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4"/>
            <a:stretch/>
          </p:blipFill>
          <p:spPr>
            <a:xfrm>
              <a:off x="5653080" y="3933720"/>
              <a:ext cx="1368360" cy="1114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7" name="" descr=""/>
          <p:cNvPicPr/>
          <p:nvPr/>
        </p:nvPicPr>
        <p:blipFill>
          <a:blip r:embed="rId5"/>
          <a:srcRect l="0" t="7646" r="0" b="10227"/>
          <a:stretch/>
        </p:blipFill>
        <p:spPr>
          <a:xfrm>
            <a:off x="5219640" y="404640"/>
            <a:ext cx="3025800" cy="19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rcRect l="0" t="7646" r="0" b="10227"/>
          <a:stretch/>
        </p:blipFill>
        <p:spPr>
          <a:xfrm>
            <a:off x="2771640" y="2708280"/>
            <a:ext cx="302580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0-06-21T13:37:04Z</dcterms:modified>
  <cp:revision>175</cp:revision>
  <dc:subject/>
  <dc:title>TITLE</dc:title>
</cp:coreProperties>
</file>