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D489-B5A9-4EC1-890A-A14178AFA2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0CD3-D076-4E37-936C-AF6C8AC547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DDDC-63B8-48E6-9EE6-7E87E5F9CE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3D0F-7720-4FBF-997E-E2FDBF6C16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CA5-426A-4DE3-9E4B-9D6865E78D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FF29-F95F-48E4-BFA6-59DED2B4AB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26AE-46C7-444A-B21D-1E7C4394D7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E33-E00A-4608-BBE9-D95D82CCBA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1436-278B-449B-B31F-6A00D22713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ED46-3B2C-4DB9-B92D-5BCF87792B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D778-D779-4907-A531-0C8B7BA40C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BD0B-FEF3-4031-8160-42378E5C99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B59F-2DC0-4C0D-B833-DA52222723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21D2-B051-4C52-8CC2-79DD11AC18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841-4F8F-4EB9-BDAF-BC0D6E72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CA1-1AEE-44A3-8273-2B54D73A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FBA-4B92-4324-8EB5-001FB2FD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9AF-0FD8-43BC-8BAD-EDAC99E7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67D-C9B8-47C9-AD05-CEE07243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488-CD91-4AA9-BE06-425C7E78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949-2F8C-4D14-AE6F-F026DA9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236-DA1C-4738-AB49-B8CDDC55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FB4-4759-4354-8436-273FA128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698-5BA8-4CB7-A9A0-1344632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510-6E58-4F3E-A7BE-7E27B5F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348-EB59-4106-9E7B-AF98C96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E241-7A7A-4196-9ADD-E1F0DEC813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11280" y="342900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6084720" y="3573360"/>
            <a:ext cx="2880000" cy="208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492360" y="836640"/>
            <a:ext cx="1368720" cy="111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851280" y="162864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72000" y="119700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300720" y="836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916360" y="3429000"/>
            <a:ext cx="2842920" cy="221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250920" y="83664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4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1692360" y="1268280"/>
            <a:ext cx="57592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2700360" cy="2198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2700360" cy="219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492360" y="3429000"/>
            <a:ext cx="27003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61200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732720" y="83664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179280" y="836640"/>
            <a:ext cx="2880000" cy="208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877080" y="4581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227640" y="3500280"/>
            <a:ext cx="1368720" cy="111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524720" y="350028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24000" y="3429000"/>
            <a:ext cx="2842920" cy="221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3492360" y="98100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680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3975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5759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46818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48243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611964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44:38Z</dcterms:modified>
  <cp:revision>169</cp:revision>
  <dc:subject/>
  <dc:title>TITLE</dc:title>
</cp:coreProperties>
</file>