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16F0-FE5C-46FC-BA85-528013461B4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57B0-E588-4482-863D-EEBED39F736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11EB-B632-4C9D-8016-61530532B13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D4AB-B87A-4002-8838-11870984313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7BC4-E024-40EA-821E-E50E351D281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6B06-12C3-4ED0-A73F-1FF8AF31F5F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C645-BCA3-4666-A42D-56F9A780D5D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F6A7-0C49-4495-85B4-50D20D752EA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4661-C39C-4AD3-A8F4-DC0BDF2288F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E470-11EF-4265-A600-AC7ADCFFAF9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3A60-6027-4BEA-A471-FFED655E4EF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26D2-CF23-4B04-A9FA-E1052018FE6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9E70-FBD3-4D12-A1D4-C5222D5BCB8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8406-8D33-46EF-8FEA-6BEC37A2268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A175-1953-40AC-A079-E5D3A0D1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49ED-EDED-41B3-8099-50A836F0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8E45-4CE9-43D2-83F9-C7E5D0C3F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360C-51AA-4389-B3F1-BC5DC1B7B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61E3-543F-4D89-AFDA-2AA2E2A0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AA2A-3C16-429B-B6A0-A315B011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E089-CE21-430B-873D-8C6B42F0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5805-49AE-42AA-8B73-1A84BDAF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CDA0-044F-41F1-8026-8E197907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536F-95FE-47BA-8F76-FB4D3ED2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C0E1-7AA2-4D10-89B7-22BBA197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8C70-7010-4E47-9D9A-27C817FB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527A-F08D-4728-A018-2E57A0BCCCA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2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2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42920" y="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59640" y="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573408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573408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04000" y="573408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0" t="12500" r="9940" b="14311"/>
          <a:stretch/>
        </p:blipFill>
        <p:spPr>
          <a:xfrm>
            <a:off x="611280" y="3429000"/>
            <a:ext cx="1849320" cy="2232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8395" t="7677" r="8395" b="0"/>
          <a:stretch/>
        </p:blipFill>
        <p:spPr>
          <a:xfrm>
            <a:off x="6084720" y="3573360"/>
            <a:ext cx="2880000" cy="2084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492360" y="836640"/>
            <a:ext cx="1368720" cy="1114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851280" y="1628640"/>
            <a:ext cx="1368360" cy="1114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4572000" y="1197000"/>
            <a:ext cx="1368360" cy="111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6300720" y="83664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2916360" y="3429000"/>
            <a:ext cx="2842920" cy="2214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rcRect l="0" t="7646" r="0" b="10227"/>
          <a:stretch/>
        </p:blipFill>
        <p:spPr>
          <a:xfrm>
            <a:off x="250920" y="836640"/>
            <a:ext cx="302580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59040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8395" t="7677" r="8395" b="0"/>
          <a:stretch/>
        </p:blipFill>
        <p:spPr>
          <a:xfrm>
            <a:off x="1692360" y="1268280"/>
            <a:ext cx="575928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411280" y="1268280"/>
            <a:ext cx="2700360" cy="2198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076720" y="1413000"/>
            <a:ext cx="2700360" cy="2198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492360" y="3429000"/>
            <a:ext cx="270036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547640" y="1197000"/>
            <a:ext cx="612000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51280" y="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59640" y="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573408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51280" y="573408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04000" y="573408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0" t="12500" r="9940" b="14311"/>
          <a:stretch/>
        </p:blipFill>
        <p:spPr>
          <a:xfrm>
            <a:off x="6732720" y="836640"/>
            <a:ext cx="1849320" cy="2232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rcRect l="8395" t="7677" r="8395" b="0"/>
          <a:stretch/>
        </p:blipFill>
        <p:spPr>
          <a:xfrm>
            <a:off x="179280" y="836640"/>
            <a:ext cx="2880000" cy="2084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877080" y="4581360"/>
            <a:ext cx="1368360" cy="1114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227640" y="3500280"/>
            <a:ext cx="1368720" cy="1114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7524720" y="3500280"/>
            <a:ext cx="1368360" cy="1114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3492360" y="3500280"/>
            <a:ext cx="2159280" cy="2159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324000" y="3429000"/>
            <a:ext cx="2842920" cy="2214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rcRect l="0" t="7646" r="0" b="10227"/>
          <a:stretch/>
        </p:blipFill>
        <p:spPr>
          <a:xfrm>
            <a:off x="3492360" y="981000"/>
            <a:ext cx="302580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268360" y="1484280"/>
            <a:ext cx="468000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771640" y="549360"/>
            <a:ext cx="39751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63640" y="620640"/>
            <a:ext cx="5759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11280" y="1052640"/>
            <a:ext cx="468180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124000" y="1125360"/>
            <a:ext cx="482436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24000" y="1052640"/>
            <a:ext cx="4969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619280" y="1052640"/>
            <a:ext cx="611964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0-06-21T13:44:38Z</dcterms:modified>
  <cp:revision>169</cp:revision>
  <dc:subject/>
  <dc:title>TITLE</dc:title>
</cp:coreProperties>
</file>