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CBD-D2C8-4DB9-B9B3-9836E8D0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8F3-2344-456C-975F-D6B15AE5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916-0CEE-41BD-9BAD-820536A9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C7D-37F4-4A5A-8861-6F632915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C2F-8539-4FDB-A053-00A2AC97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6D97-CC4E-473B-BB71-8EF22A25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F81C-9038-4ED5-8C8D-52616E07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A03B-27C4-4B05-933F-B2E7D618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06D7-955F-43B7-B04D-529A8838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FE1C-A218-48F3-9CF2-E47C7C9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7A7-6C5A-4341-B21E-15285FC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08-01D9-4ABA-A324-3608156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AC9-C01B-47AF-A744-BF81029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1BC4-DA91-4064-9AE6-D399BAA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69A7-8253-49C1-8C67-D09E090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651-F917-4625-AE98-970BBBA0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D3FD-AE75-4E3F-8E9C-6DCE3B7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84D7-F122-4592-A4C0-2593AE7A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3101-6A69-4F29-B31F-2C80B43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4A30-AA1A-4C2E-B90F-5480FC39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38AA-2CE0-4C00-A774-7252893C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F6ED-7534-41A6-8A49-64656C0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D89-96C3-4D77-AA8D-1D9E202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1DDC-463B-49FC-9013-10BD18F2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68CB-EC09-49BB-BD98-DB52546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C819-6D4E-4929-8ED8-1CC99179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337C-233A-45DF-AE1F-0C2D5CE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2551-FF5F-43A3-BD72-A579EB4E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B87B-9586-4E2E-961A-F1EB2157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943D-0777-43CA-8676-564AFE96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C09-776F-403F-A4A5-52FD6E09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54F-CCFC-4D25-B25E-27AC0CA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A03-2E86-4F11-8BB0-B984393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4F6-4D9E-4306-B7A3-10E76C4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125-5A2D-4911-9A31-53EED18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162-7261-49CD-8F11-D9C22FF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74B4-407D-43B7-88F6-99DB574BB6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2E6C-1B13-4510-995E-7EB847974F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476-52EF-4DAA-8E89-7CD195220BA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cit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iuda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there ar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ha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smaller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ás pequeña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g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hac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y city is in the wes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i ciudad está en el oest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lso there is an airpor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también hay un aeropuert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very few car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uy pocos coch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100 years ag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muy pocos coch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generally it’s not cold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generalmente no hace frí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was a theatr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bía un teatr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ome small shop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unas tiendas pequeñ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nearl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asi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it rains a lot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llueve much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0" y="220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were 23,000 inhabitant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0" y="41385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bía veintitrés mil habitant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 city was smalle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0" y="369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la ciudad era más pequeñ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0" y="220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Vigo is old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0" y="369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Vigo es viej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fra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0" y="220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here are lots of museum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6360" y="4229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fc00"/>
                </a:solidFill>
                <a:latin typeface="Comic Sans MS"/>
              </a:rPr>
              <a:t>hay muchos museo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124000" y="11160"/>
            <a:ext cx="45356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like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com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university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universida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ol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viej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pas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pasad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 lo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uch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it is called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se llama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airport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aeropuerto</a:t>
            </a:r>
            <a:endParaRPr b="0" lang="en-US" sz="7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7:17:15Z</dcterms:modified>
  <cp:revision>347</cp:revision>
  <dc:subject/>
  <dc:title>TITLE</dc:title>
</cp:coreProperties>
</file>