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E48B-4F2E-449A-A7CB-1C03025E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3ED5-2AD1-445A-9423-3FFE1E8A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04B4-16AF-4D42-8C50-138B3532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2EC-5A4C-40CA-98C9-BC60780F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1385-3C2D-48D9-B3A7-6A1C7029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2085-313F-4006-99EE-94A4A844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B5AF-5DA8-478A-BDB5-AC381A40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8C1E-A1ED-4EE6-BA55-5B5AC81A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CB34-2C1B-4D46-A853-83972B1A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658F-8DC3-43F5-91D6-F6917FE3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CD90-CBD5-4A0D-A533-37909AD3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0D30-63AA-4A00-9914-757116CC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A890-C4ED-41C6-91BB-6C14CDCF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292F-510F-43DB-A4AD-9623D9B7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92A7-5432-432A-9510-2208C1B2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7606-1FBD-4335-AB0E-12A1E42B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3316-2D05-4E09-9C87-A5290AB4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76A0B-917E-4ECF-BF68-6877BD04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0AABC-8268-441F-8F45-2475661F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88CE7-AF53-4055-B075-F28B246F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13BBD-11A8-4833-8449-6C8A3621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308D8-8870-4403-9EC4-FFBFE6D7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3FA0-82D0-4F0C-A16E-7CD5BF35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36BB6-1F89-49A0-8222-217DD73B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C2090-D918-42C4-9807-44EE83C7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61E61-F183-4930-8442-8E972491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53107-5644-4A42-9BE2-81C094F1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4D165-D3DB-4691-8866-00829F4B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1592C-1E55-4927-99EC-A1B60860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B196B-9020-4EB1-BF96-E8557DDB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B96-C859-44EF-9A4F-4D4A32CC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8058-8EF1-4568-896D-AF314DCB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6425-8B98-4124-AF8A-BE472042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F720-69E4-4894-A4EA-585D53DA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A47B-3A51-417C-882B-4F8FA669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7B4-ACA4-490B-BF1A-949AA359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1C53-EF2F-45EC-9C43-72AA534853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FDAB-DAE1-4C68-A3ED-97459DAC122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22AB-608C-41AD-9427-BA08BE6A21A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city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ciudad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there are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hay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smaller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más pequeña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ago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hace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fras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0" y="2205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my city is in the west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0" y="369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fc00"/>
                </a:solidFill>
                <a:latin typeface="Comic Sans MS"/>
              </a:rPr>
              <a:t>mi ciudad está en el oeste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fras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0" y="2205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also there is an airport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0" y="369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fc00"/>
                </a:solidFill>
                <a:latin typeface="Comic Sans MS"/>
              </a:rPr>
              <a:t>también hay un aeropuert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fras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0" y="2205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very few car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0" y="369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fc00"/>
                </a:solidFill>
                <a:latin typeface="Comic Sans MS"/>
              </a:rPr>
              <a:t>muy pocos coche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fras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0" y="2205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100 years ag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0" y="369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fc00"/>
                </a:solidFill>
                <a:latin typeface="Comic Sans MS"/>
              </a:rPr>
              <a:t>muy pocos coche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fras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0" y="2205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generally it’s not cold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0" y="369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fc00"/>
                </a:solidFill>
                <a:latin typeface="Comic Sans MS"/>
              </a:rPr>
              <a:t>generalmente no hace frí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fras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0" y="2205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there was a theatre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0" y="369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fc00"/>
                </a:solidFill>
                <a:latin typeface="Comic Sans MS"/>
              </a:rPr>
              <a:t>había un teatr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fras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0" y="2205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some small shop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0" y="369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fc00"/>
                </a:solidFill>
                <a:latin typeface="Comic Sans MS"/>
              </a:rPr>
              <a:t>unas tiendas pequeña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nearly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casi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fras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0" y="2205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it rains a lot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0" y="369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fc00"/>
                </a:solidFill>
                <a:latin typeface="Comic Sans MS"/>
              </a:rPr>
              <a:t>llueve much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fras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0" y="2205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there were 23,000 inhabitant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0" y="41385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fc00"/>
                </a:solidFill>
                <a:latin typeface="Comic Sans MS"/>
              </a:rPr>
              <a:t>había veintitrés mil habitante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fras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0" y="2205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the city was smaller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0" y="369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fc00"/>
                </a:solidFill>
                <a:latin typeface="Comic Sans MS"/>
              </a:rPr>
              <a:t>la ciudad era más pequeña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fras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0" y="2205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Vigo is old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0" y="369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fc00"/>
                </a:solidFill>
                <a:latin typeface="Comic Sans MS"/>
              </a:rPr>
              <a:t>Vigo es viej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fras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0" y="2205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there are lots of museum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36360" y="4229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fc00"/>
                </a:solidFill>
                <a:latin typeface="Comic Sans MS"/>
              </a:rPr>
              <a:t>hay muchos museo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2124000" y="11160"/>
            <a:ext cx="453564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like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como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university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universidad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old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viejo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past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pasado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a lot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mucho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it is called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se llama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airport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aeropuerto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9-06-03T07:17:15Z</dcterms:modified>
  <cp:revision>347</cp:revision>
  <dc:subject/>
  <dc:title>TITLE</dc:title>
</cp:coreProperties>
</file>