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1ED-7BB7-43EE-B200-0B310094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E8E-4A0D-45C4-945E-E34A4EEC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DD6-9848-45DC-B4F0-7CC2EED0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3CF-6242-4BA3-88E1-1A7D7A5F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CB87-D565-46CA-82C3-4DD873B5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CEA2-08B7-4C76-91F8-64E79BD3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9FC0-7844-439E-8FF6-C8ACACBF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BD26-40F8-4E65-BBBF-990E0B6E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E6A3-4E2A-453D-9BBB-DD6A2B62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1A1-8F74-4B49-B617-28D21DB1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1AD7-B800-4DE0-BF72-0A47AE7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642-89AE-4AFF-BA3A-E6B0AB00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A02C-B9EB-4E95-816E-5CD7D04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53A2-AE32-4606-AD83-64C81B0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A98A-28F4-4715-9535-188FF131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7E1-C5AC-42E5-B35B-2F7931FF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74B2-275C-46A1-B5B0-8F07F899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326E-755D-49BC-A8FB-80B4FFCB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C5F7-5BEE-4643-8655-26A7CF5B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B445-01DE-46CF-8B63-726D7BC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60D9-9879-4879-9D8D-8BAE1315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673D-D093-483B-BD72-FE96C17C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35A-1EE3-4A41-80FE-9F64EAE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4F7C-F2A9-452C-8CC8-B3255272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23D3-4003-43FC-8921-DF9C8F6D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C8B5-5255-4807-93B0-2A4DD7A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7728-980F-4C13-B038-CCF7B5F6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DA32-1C38-4C38-8A3D-686E2B6F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F2B8-D9CF-4E04-B3E4-E40F7A01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D756-B7F0-4D43-9419-2EA1F0DB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89F-8340-4C29-999A-1DD6F7CA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152-B18D-49A1-A381-201B6B2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FD5-A9E2-4FA6-936A-212D77C5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498-C8F1-4EAA-B3D2-AD8F6A0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19F-0061-4AD9-AF0B-2BC33584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D2B-AF02-4084-961A-4F05D28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D83-BBEE-4531-B14D-34D395B1C3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BEA7-F77A-48DA-8D3E-0C4D7E7EE1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2B10-D2EE-4010-A524-5375B7EA00A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636480"/>
            <a:ext cx="914400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73656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6-03T07:16:29Z</dcterms:modified>
  <cp:revision>343</cp:revision>
  <dc:subject/>
  <dc:title>TITLE</dc:title>
</cp:coreProperties>
</file>