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D177-5C26-4277-94CF-FB04246A5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640E-C02C-4179-9468-02DC4493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506C-E098-4582-9B59-4C7F91666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9883-0EE1-495C-A7F2-72D6F1321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36D3-83C0-4BDC-8110-1CEC9766B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F9DDC-D090-40BD-B727-44166A96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4451-3EC9-4F42-802B-D7D78F91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F144-E42F-47B0-B473-BB7A3AAA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5998-A323-4F84-A055-EEFD3D3F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8353-0F57-43F2-837C-F5286C45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ADAF-71D4-489E-AD6D-A01DF268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F0DC-45E2-4261-9FE0-F375EF96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8608-6573-41E5-8E25-B19407BF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85F1-590F-4BB5-98C2-75A0BF6E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BA7D-87B0-4F05-889C-9EBE1D3C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B7A51-4E04-4CF8-BD7F-E39F76F42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9ED5-E304-4498-AAE0-2551B9124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FD238-F3EE-4CAE-9EC6-DFB4B2351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4C9EF-86C5-4E09-9F5C-A790F642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B458C-272A-46F3-93F3-DEF57CB3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622C8-F5D5-480A-BDFF-8C0999A3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3EB6E-57E7-4F47-A88F-0F9D5F4D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FE86-40E8-4E33-B4A4-8380C6F0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5277A-2AB0-4D05-87E3-A2F083CB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89DF0-28C9-4FBF-B019-7A23CF01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B1567-9647-4869-AD67-F5021561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49608-53D0-4D90-88BB-F9E91DDA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3F8D3-884A-438D-A670-3C9B2C7F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5142D-DD6B-4B3A-9E31-939A5CD8B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54CF6-B8F6-4C79-8267-F8E4937B3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7F95-2C6A-411D-AB5B-3FC97881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49F6-0DDF-425B-BB8B-2F84D2E9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84DE-675C-4FAD-B7AE-8CA89760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D2DB-4595-4824-B333-A5135594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3EDD-6506-41D6-9CBE-D6AC7B97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6E94-F338-45DA-A6C2-DD524A23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EECE-A1D6-496A-BC51-FF8F66F949B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0BC5-3FE7-4989-926D-AA4C8B67F09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984D-01B5-4702-BF37-4F58C9E42C8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4" name="Picture 1" descr=""/>
          <p:cNvPicPr/>
          <p:nvPr/>
        </p:nvPicPr>
        <p:blipFill>
          <a:blip r:embed="rId1"/>
          <a:stretch/>
        </p:blipFill>
        <p:spPr>
          <a:xfrm>
            <a:off x="0" y="636480"/>
            <a:ext cx="9144000" cy="558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6" name="Picture 1" descr=""/>
          <p:cNvPicPr/>
          <p:nvPr/>
        </p:nvPicPr>
        <p:blipFill>
          <a:blip r:embed="rId1"/>
          <a:stretch/>
        </p:blipFill>
        <p:spPr>
          <a:xfrm>
            <a:off x="0" y="736560"/>
            <a:ext cx="914400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9-06-03T07:16:29Z</dcterms:modified>
  <cp:revision>343</cp:revision>
  <dc:subject/>
  <dc:title>TITLE</dc:title>
</cp:coreProperties>
</file>