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4A1-93BA-4BB9-B2CA-A15DA982C9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CE41-9606-4D8C-8EF1-EB2D3AD065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D6B-B25B-412B-A7EE-E330D38A0E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058-C024-4B02-9F9A-53D72B346A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12EE-6912-4EA9-B0DF-D156B9A7E6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D71-46F6-49F0-BD84-E28BD3CAE0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4B3-8E20-40E9-A1B5-52D11BFC43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0EB-14BA-4C1C-B3FA-24DD8C7122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E24-E40E-48EA-A9E9-7002BFD93B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399A-7ECB-4274-B2B2-963B493156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625-AEB3-4B57-8CD7-1C6604A410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4CB5-3736-4911-A23C-00A5F38576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6F8-9B63-457E-81CE-515DFF6705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46E4-21C6-4906-BEAF-C80819777A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7D7-C613-4374-A7CE-0409BBA9DB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AA65-1BC9-44C0-814F-FD3C6A4575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D54F-3284-4A5D-8AAF-3F9C2C4463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785-327B-457E-B9FD-156FFE02D5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2EF-3954-4B91-8DD6-0A98093E82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21F3-76E3-4010-86DB-0043759BE5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A18D-7721-4BD8-AEFC-7FF7353082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A7E-8170-4094-80BB-D7B8FBFDC9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68D-701C-487B-B1D1-251011C4C4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D00E-6B18-47D4-B953-75964CD970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C322-F8B1-4102-A0DD-A2876DF974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AD9-5905-45F6-993D-3D1CEE3C1B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AEE-DBD5-4578-A179-29F6D3FEA1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D31-B3E5-42AD-AD33-A27E313EA6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1AFC-FB69-4DE2-8CF6-392A4F1A4A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9E97-CA78-4032-963F-051726627D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5653-C45D-4485-8C64-7CAA1967A8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CBA-517E-4EA8-8DCE-87C4657A39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AD1E-B9CF-4670-9E15-0F5C595AB6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FAD-059A-410D-81C3-0B3F5CEFB2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5B94-9178-4A1D-BF66-8185542904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FE8-F9FA-428E-BC8A-97FDE50C62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8F1-796B-411B-AAA8-8EC2D02506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1B2-9DAC-4AF7-89C1-B51FEA7F7D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DF2-DCFF-4FF8-89DF-12BFD654A4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78C-A8A2-470D-BEA2-3045F01406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979-A1B4-4D32-B42E-8A922476AD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00E-E044-4C61-8B24-CDD6277F96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2EC5-4898-4633-96C7-E8C7131196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087-10C2-4D63-BB3B-2545C4D4E5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896B-54CA-44D4-BC47-2A441B1B79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2EA-1D8A-4B9E-B8E9-77DBE580F5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797-052D-48CC-9FF7-FDABAD6D5F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7B6-C256-49A2-A0CC-8B7C010AA2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B982-9803-4BC1-9D05-33923C5722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A030-A579-4305-9EDE-A3019CC306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7C0-25C0-405E-B5D0-C74D939CFF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0C8-252B-46CA-BBC3-EDBFEB6B4A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720-698A-4F6B-B688-722EEEB1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C2F-327D-48DF-9EF7-A81AEFA8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C38-9152-47F6-ADFF-50E6ADC0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6CF-C26E-4BFE-AA59-DE707C04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5A30-F056-4804-BF4E-73A09DCF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E035-15F4-40D9-AD86-5B8CA1DA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71A2-8443-4677-8208-E231998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DFFE-6526-486B-8AC1-971C4C3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333C-FCFC-4A0F-9C54-CD9FA87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780C-0C26-4A7E-9B2F-E0BAD08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863-7BE0-46FE-97B9-6A2B215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0E2-C8AE-4E82-B813-803538C3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75F-3576-4318-BF60-4FEDE63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39C-D84B-47B1-A45F-084DB4E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B39-1272-4B8F-ABB4-CE2BD860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69D8-4E42-4BEF-AB17-F5190893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840-2A1D-44F0-BE75-2C4FAF7F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FB6F-951A-46D1-8538-FAE69048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B5F9-6EE4-4CA2-8590-6ECF80B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449C-5410-4B50-97ED-6FFA808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87EF-5599-4D7F-A66C-432A5C1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F6D6-DD7C-4CA4-8FB7-46FF191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573-F444-4EB6-A8DF-630F159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5126-CA56-40F7-8D33-BB08889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F81B-B147-45CC-A8AA-0797999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AF22-1AE1-42F0-A55C-B1F9B7D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3D20-EA1E-4782-9AF1-B6D5594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350B-B212-4CA8-9FA7-E9CEE8B7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541B-EF84-46AB-A05D-300B4AD3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14B7-E7E0-4092-B965-29388902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19C-B1FF-459A-A98F-B8086C1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8A9-28E2-49AE-861B-BB01398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C18-AC0F-4997-BE1A-1F70AF3B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EBA-A0D4-4899-BC31-832F506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082-2099-4DB8-9494-64DF401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4A5-4986-4525-86C3-909676F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8B1-38E8-4477-9EC2-4F5504600D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810-19EE-4116-A91E-4A2A047C44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FECF-C569-44BE-838B-7C669A20F0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920" y="216000"/>
            <a:ext cx="4506840" cy="630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541760" y="216000"/>
            <a:ext cx="4505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6156360" y="2276640"/>
            <a:ext cx="2152440" cy="32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156360" y="2708280"/>
            <a:ext cx="215244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156360" y="3213000"/>
            <a:ext cx="215244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6156360" y="3573360"/>
            <a:ext cx="2152440" cy="1943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156360" y="4076640"/>
            <a:ext cx="2152440" cy="14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56360" y="4581360"/>
            <a:ext cx="2152440" cy="9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156360" y="4941720"/>
            <a:ext cx="2152440" cy="57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5" descr="H:\EPSCAN\001\EPSON017.JPG"/>
          <p:cNvPicPr/>
          <p:nvPr/>
        </p:nvPicPr>
        <p:blipFill>
          <a:blip r:embed="rId1"/>
          <a:srcRect l="0" t="51317" r="0" b="34360"/>
          <a:stretch/>
        </p:blipFill>
        <p:spPr>
          <a:xfrm>
            <a:off x="179280" y="1268280"/>
            <a:ext cx="8867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2411280" y="1628640"/>
            <a:ext cx="215280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780000" y="549360"/>
            <a:ext cx="5208480" cy="439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3780000" y="981000"/>
            <a:ext cx="5208480" cy="396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3780000" y="1484280"/>
            <a:ext cx="5208480" cy="34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3780000" y="1916280"/>
            <a:ext cx="5208480" cy="302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780000" y="2384280"/>
            <a:ext cx="5208480" cy="25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3780000" y="2781360"/>
            <a:ext cx="5208480" cy="2160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780000" y="3213000"/>
            <a:ext cx="520848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3780000" y="3645000"/>
            <a:ext cx="5208480" cy="115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H:\EPSCAN\001\EPSON017.JPG"/>
          <p:cNvPicPr/>
          <p:nvPr/>
        </p:nvPicPr>
        <p:blipFill>
          <a:blip r:embed="rId1"/>
          <a:srcRect l="0" t="65103" r="0" b="0"/>
          <a:stretch/>
        </p:blipFill>
        <p:spPr>
          <a:xfrm>
            <a:off x="108000" y="189000"/>
            <a:ext cx="8880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1042920" y="907920"/>
            <a:ext cx="3816360" cy="3889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411280" y="2349360"/>
            <a:ext cx="2152800" cy="316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1042920" y="1341360"/>
            <a:ext cx="3816360" cy="34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042920" y="1773360"/>
            <a:ext cx="3816360" cy="30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060560" y="2168640"/>
            <a:ext cx="3817800" cy="2628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060560" y="2565360"/>
            <a:ext cx="381780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1060560" y="2997360"/>
            <a:ext cx="3817800" cy="180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1060560" y="3429000"/>
            <a:ext cx="3817800" cy="129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060560" y="3789360"/>
            <a:ext cx="3817800" cy="93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6" descr="H:\EPSCAN\001\EPSON018.JPG"/>
          <p:cNvPicPr/>
          <p:nvPr/>
        </p:nvPicPr>
        <p:blipFill>
          <a:blip r:embed="rId1"/>
          <a:srcRect l="0" t="0" r="0" b="67469"/>
          <a:stretch/>
        </p:blipFill>
        <p:spPr>
          <a:xfrm>
            <a:off x="108000" y="115920"/>
            <a:ext cx="8902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2627280" y="620640"/>
            <a:ext cx="65120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2627280" y="1197000"/>
            <a:ext cx="6512040" cy="331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411280" y="2708280"/>
            <a:ext cx="215280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2627280" y="1700280"/>
            <a:ext cx="651204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638440" y="2205000"/>
            <a:ext cx="651348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638440" y="2781360"/>
            <a:ext cx="6513480" cy="17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2638440" y="3213000"/>
            <a:ext cx="6513480" cy="12924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6" descr="H:\EPSCAN\001\EPSON018.JPG"/>
          <p:cNvPicPr/>
          <p:nvPr/>
        </p:nvPicPr>
        <p:blipFill>
          <a:blip r:embed="rId1"/>
          <a:srcRect l="0" t="32410" r="0" b="38670"/>
          <a:stretch/>
        </p:blipFill>
        <p:spPr>
          <a:xfrm>
            <a:off x="3240" y="189000"/>
            <a:ext cx="9136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4643280" y="620640"/>
            <a:ext cx="4611960" cy="5329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4657680" y="1557360"/>
            <a:ext cx="461160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4657680" y="2133720"/>
            <a:ext cx="461160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4657680" y="2852640"/>
            <a:ext cx="4611600" cy="309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4657680" y="3645000"/>
            <a:ext cx="4611600" cy="2305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2411280" y="3213000"/>
            <a:ext cx="2152800" cy="230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4657680" y="4292640"/>
            <a:ext cx="4611600" cy="1657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6" descr="H:\EPSCAN\001\EPSON018.JPG"/>
          <p:cNvPicPr/>
          <p:nvPr/>
        </p:nvPicPr>
        <p:blipFill>
          <a:blip r:embed="rId1"/>
          <a:srcRect l="0" t="60892" r="0" b="0"/>
          <a:stretch/>
        </p:blipFill>
        <p:spPr>
          <a:xfrm>
            <a:off x="30240" y="404640"/>
            <a:ext cx="9225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411280" y="3645000"/>
            <a:ext cx="2152800" cy="187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411280" y="4005360"/>
            <a:ext cx="2152800" cy="1511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411280" y="4508640"/>
            <a:ext cx="2152800" cy="100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H:\EPSCAN\001\EPSON017.JPG"/>
          <p:cNvPicPr/>
          <p:nvPr/>
        </p:nvPicPr>
        <p:blipFill>
          <a:blip r:embed="rId1"/>
          <a:srcRect l="0" t="0" r="0" b="48430"/>
          <a:stretch/>
        </p:blipFill>
        <p:spPr>
          <a:xfrm>
            <a:off x="179280" y="189000"/>
            <a:ext cx="8769600" cy="640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411280" y="4941720"/>
            <a:ext cx="2152800" cy="57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156360" y="1628640"/>
            <a:ext cx="2152440" cy="388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7:22Z</dcterms:modified>
  <cp:revision>377</cp:revision>
  <dc:subject/>
  <dc:title>TITLE</dc:title>
</cp:coreProperties>
</file>