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C8D-31B7-427A-AF3D-7C892C216C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7D0-96EB-4528-AA26-DAA1CF226A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7C49-6F7D-48A5-BC02-5D2D0B5ED8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9EA-22F5-4CA5-B808-7C9D24F103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ACF-097E-44F8-9C07-BD099EC8DA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78F-5502-4F01-81EB-10AFF15E47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0C48-C0E9-4610-A0D4-64D64FA235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DC5-6847-484A-A79C-2AAE3BBCE1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8E8-66F7-4D65-A64D-67181A074D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5942-0227-4BF1-80B7-274B1562B9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21F1-55DB-45B0-91FC-9E5F4F8ACD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114B-F6F4-48EE-845F-E4B1C9481D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3DD-D90B-4764-B14E-FF401313A4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9BD-48CA-4BF8-83AC-E22EB7AABF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F6F-87F8-4465-9413-151775ED8E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3DD1-9C0F-419D-9647-3EF553C27C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CC89-51DC-4876-942C-E8A5C9E689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7BE-326C-4CE0-8F20-9FE74DFBE6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D512-6FEC-465B-AE7D-7FDB4686A3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FCB-F73A-4AAB-8900-6469FCEE00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723-2E34-4F86-BFAD-98974DFC41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3B37-9905-4208-9F5B-E7A3C96995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0C90-2C67-4673-8E71-A392716178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819B-AE34-483F-946F-72EFA9796A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358-1575-4963-A753-28F5E1F690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6DD-4314-48BD-B4ED-18E83DA211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DFB-35B2-4FB5-93D9-12D1973D58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CF8-7C07-4941-AD4E-7F7DF16283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BCD3-4994-45B6-89A4-600DCDF8C0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9C60-8160-4045-BB00-3443A55C71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CBC-F848-4BB7-AB0C-0051C67CF5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230F-551D-4BB6-BD0C-E14BE02D05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B355-6865-4737-8E3A-F19A26C3F4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6656-45C2-4FFF-86D2-673B3012FC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D245-D005-4C60-843A-6FCAE2A213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C8A8-C0E4-4DEC-850A-02FF854188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0106-43B2-463B-96E3-B5772D3E13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4D8-42CD-416F-B590-9CCF48DE23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D7F-3ABB-409B-8058-AD2456256C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405-783A-41C2-BA7D-62A7AEEFFA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A9A-B66F-41D7-A3C7-6EF99B3F28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1CA-2535-482D-9047-D8220CBB7A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243F-C8CC-443B-B39F-71CCB4D2BB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35A-ED6A-4F9D-B30F-AB53C32F23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C38-F950-4BDF-9142-C00F1CF0BC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DB9C-9E74-4458-958E-9D005B8587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C87-B607-486F-BA79-96CEAA9C0A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0350-7E14-4BB3-9E33-B1B72B6927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E09A-85E7-4B03-8A8E-275242965F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297-2DB3-422B-A8FD-B7D2062C92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5CD-160B-4680-A954-4829AFAC7E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D54-44CA-41F1-A306-63660BB500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DEC-79C2-4647-92A2-E202D250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3DC-AC08-437C-BDB7-BA1469C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1A6-E537-47C6-96B2-EC74A04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C0F-98A3-4A69-8B99-8A1DE83A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5A4-AD4A-4EC3-9425-1AD1F8CE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03B-369A-4F6B-940E-DC2CDE6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8A1-746B-4298-9D52-BE3542A9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6D56-934B-4C84-95C4-C6516C2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1B1E-C27D-4334-989D-5530E9A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E31D-270A-433A-9679-F3C48FA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E18-69A0-4B0D-94C5-A7EC88B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32F-D89C-4948-B976-55BDF2F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FF7D-0F73-41A9-A4C9-A24870C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ABA-3F79-4C0C-9AB4-809F491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742A-7B54-4228-BAA3-392CC36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E48-642F-4537-A52D-5ED0DB0B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8330-C79C-4A8E-AADD-7AD11493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C363-8078-459D-B967-970744C4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8EED-7365-4C22-8999-0CAC8E38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C6E4-13DC-4CE3-B390-1FB9ECEB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09D1-1C5B-4BCA-AD8B-EB81BBE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345D-5D18-42F5-AC64-A1B4E58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A75-E030-4DA0-8681-421B27F3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7DF1-797F-4BAB-BE59-532DE80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EF73-2D78-4863-9B00-C0729AF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8BFB-00A9-4C52-AA26-7FD41CC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BF28-CB53-4425-8241-AA02E62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CAD4-1290-44D7-AD6D-544C1260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2E64-22CB-4471-9D7C-07200C17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7D1B-C6D0-4D24-BC08-D7E9ECC7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A0F-9973-4B37-B3DF-C5A0CA2E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C97-AE50-42C8-BCBC-82CABA24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89C-9FE1-4F48-98AB-213E18F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75F-05CA-4C93-BB07-C1615C6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83E-F90B-4CBB-AB7F-63B5E68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F4D-9AB9-43A4-91A5-17223EC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5C2-B330-41DE-B8A8-6375642978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83C9-9227-4A20-97E3-2929909315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389-5BC9-476F-BF1C-3CD6F1198C0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920" y="216000"/>
            <a:ext cx="4506840" cy="630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541760" y="216000"/>
            <a:ext cx="4505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6156360" y="2276640"/>
            <a:ext cx="2152440" cy="32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156360" y="2708280"/>
            <a:ext cx="215244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156360" y="3213000"/>
            <a:ext cx="215244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6156360" y="3573360"/>
            <a:ext cx="2152440" cy="1943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156360" y="4076640"/>
            <a:ext cx="2152440" cy="14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56360" y="4581360"/>
            <a:ext cx="2152440" cy="9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156360" y="4941720"/>
            <a:ext cx="2152440" cy="57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5" descr="H:\EPSCAN\001\EPSON017.JPG"/>
          <p:cNvPicPr/>
          <p:nvPr/>
        </p:nvPicPr>
        <p:blipFill>
          <a:blip r:embed="rId1"/>
          <a:srcRect l="0" t="51317" r="0" b="34360"/>
          <a:stretch/>
        </p:blipFill>
        <p:spPr>
          <a:xfrm>
            <a:off x="179280" y="1268280"/>
            <a:ext cx="8867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2411280" y="1628640"/>
            <a:ext cx="215280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780000" y="549360"/>
            <a:ext cx="5208480" cy="439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3780000" y="981000"/>
            <a:ext cx="5208480" cy="396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780000" y="1484280"/>
            <a:ext cx="5208480" cy="34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3780000" y="1916280"/>
            <a:ext cx="5208480" cy="302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780000" y="2384280"/>
            <a:ext cx="5208480" cy="25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3780000" y="2781360"/>
            <a:ext cx="5208480" cy="2160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780000" y="3213000"/>
            <a:ext cx="520848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3780000" y="3645000"/>
            <a:ext cx="5208480" cy="115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1042920" y="907920"/>
            <a:ext cx="3816360" cy="3889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411280" y="2349360"/>
            <a:ext cx="2152800" cy="316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1042920" y="1341360"/>
            <a:ext cx="381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042920" y="1773360"/>
            <a:ext cx="3816360" cy="30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060560" y="2168640"/>
            <a:ext cx="3817800" cy="2628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060560" y="2565360"/>
            <a:ext cx="381780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1060560" y="2997360"/>
            <a:ext cx="3817800" cy="180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1060560" y="3429000"/>
            <a:ext cx="3817800" cy="129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060560" y="3789360"/>
            <a:ext cx="3817800" cy="93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2627280" y="620640"/>
            <a:ext cx="65120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2627280" y="1197000"/>
            <a:ext cx="6512040" cy="331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411280" y="2708280"/>
            <a:ext cx="215280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2627280" y="1700280"/>
            <a:ext cx="651204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638440" y="2205000"/>
            <a:ext cx="651348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638440" y="2781360"/>
            <a:ext cx="6513480" cy="17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2638440" y="3213000"/>
            <a:ext cx="6513480" cy="12924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4643280" y="620640"/>
            <a:ext cx="4611960" cy="5329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4657680" y="1557360"/>
            <a:ext cx="461160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4657680" y="2133720"/>
            <a:ext cx="461160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4657680" y="2852640"/>
            <a:ext cx="4611600" cy="309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4657680" y="3645000"/>
            <a:ext cx="4611600" cy="2305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2411280" y="3213000"/>
            <a:ext cx="215280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4657680" y="4292640"/>
            <a:ext cx="4611600" cy="16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411280" y="3645000"/>
            <a:ext cx="2152800" cy="187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411280" y="4005360"/>
            <a:ext cx="2152800" cy="1511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411280" y="4508640"/>
            <a:ext cx="2152800" cy="100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411280" y="4941720"/>
            <a:ext cx="2152800" cy="57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7:22Z</dcterms:modified>
  <cp:revision>377</cp:revision>
  <dc:subject/>
  <dc:title>TITLE</dc:title>
</cp:coreProperties>
</file>