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6AB-F257-46F0-90CA-7E5FB773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622-DE3A-45BC-A414-2C74A8A2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7450-98BA-463C-AA1A-E5EB3F50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B1D-102C-41D0-9580-C8E291CD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9CCE-0F3B-4B27-9B6E-C6C7C7D3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B788-CCF8-4DB1-A2F0-6AFD35AA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5864-8BC7-4BFE-8113-AC7229B7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CF9B-828F-4133-BE4A-7440F8C3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5BBB-8EB8-4330-AFA2-0D259766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D461-203A-41B1-BFD3-F2D96256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BEFC-EBEC-4F62-8724-58360545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FFC-691E-48C2-9BA2-158835BB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90D3-BC5B-46F2-B588-6DCDFB25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9391-9C2F-467B-A36D-F9183254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5C0F-7B9A-4996-AE55-F7B479F3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619B-7DEE-4D15-8AD5-2F0EEDD9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2977-0BD8-4375-8AF5-A4F84D4C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A8A6-203D-436F-BE5B-A46D4756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29A1F-03F6-404F-BC98-7D14FEF0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3E678-DE8B-48F5-A0D3-F82E8F4B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6D8B-6FED-49BA-87FF-41825F02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44BF0-7C8B-42E9-96C7-22B67751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EDC-C46B-4EB8-A5C7-C1106A6B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75599-28F1-4E97-8B1B-6D51D4DF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0644E-7D33-4E22-9DBC-B63B06D9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A8EFD-7246-470B-AC62-003E7488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18F0-37E8-4CBE-8176-EC8CE246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EFA5C-08FA-42FC-A168-6A36F8F5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0669-2BEA-4A15-AAB5-2E14EF6A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2B4BA-2880-40E3-9407-AA4C8015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738-3F07-4B01-B591-3AF16A92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418-18A6-4C85-A241-86BC22C0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408-5AC5-4A0E-BC60-FDAF7EF0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F6B-BB01-4DA9-9F15-1C463F35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802-0B52-475B-B685-5C5A8211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574-4283-40F2-8CC2-7FAA8976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DE1F-B771-40EB-85B4-055E90085E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326C-D54A-4166-B85E-92D5C23CF5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C255-0D26-4CE2-9AC5-0A97309E293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Group 1"/>
          <p:cNvGrpSpPr/>
          <p:nvPr/>
        </p:nvGrpSpPr>
        <p:grpSpPr>
          <a:xfrm>
            <a:off x="0" y="260280"/>
            <a:ext cx="9144000" cy="6381720"/>
            <a:chOff x="0" y="260280"/>
            <a:chExt cx="9144000" cy="6381720"/>
          </a:xfrm>
        </p:grpSpPr>
        <p:pic>
          <p:nvPicPr>
            <p:cNvPr id="125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260280"/>
              <a:ext cx="4572000" cy="63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0" y="270000"/>
              <a:ext cx="4572000" cy="636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2484360" y="4292640"/>
            <a:ext cx="2087640" cy="1297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2484360" y="4653000"/>
            <a:ext cx="2087640" cy="936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2484360" y="4941720"/>
            <a:ext cx="2087640" cy="64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2484360" y="5265720"/>
            <a:ext cx="2087640" cy="324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5651640" y="1989000"/>
            <a:ext cx="2089080" cy="3600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5651640" y="2349360"/>
            <a:ext cx="2089080" cy="3240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5651640" y="2637000"/>
            <a:ext cx="2089080" cy="295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5651640" y="2924280"/>
            <a:ext cx="2089080" cy="2665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5651640" y="3357720"/>
            <a:ext cx="2089080" cy="2232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2484360" y="1628640"/>
            <a:ext cx="208764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5651640" y="3645000"/>
            <a:ext cx="2089080" cy="1944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5651640" y="3933720"/>
            <a:ext cx="2089080" cy="16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5651640" y="4292640"/>
            <a:ext cx="2089080" cy="1297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3"/>
          <p:cNvSpPr/>
          <p:nvPr/>
        </p:nvSpPr>
        <p:spPr>
          <a:xfrm>
            <a:off x="5651640" y="4653000"/>
            <a:ext cx="2089080" cy="936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5651640" y="5013360"/>
            <a:ext cx="2089080" cy="576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5651640" y="5300640"/>
            <a:ext cx="2089080" cy="289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3995640" y="476280"/>
            <a:ext cx="4626000" cy="5905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3995640" y="907920"/>
            <a:ext cx="4626000" cy="5473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3995640" y="1268280"/>
            <a:ext cx="4626000" cy="5113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484360" y="1989000"/>
            <a:ext cx="2087640" cy="3600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3995640" y="1628640"/>
            <a:ext cx="4626000" cy="4753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3995640" y="2060640"/>
            <a:ext cx="4626000" cy="432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3995640" y="2421000"/>
            <a:ext cx="4626000" cy="3960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3995640" y="2781360"/>
            <a:ext cx="4626000" cy="3527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3995640" y="3213000"/>
            <a:ext cx="4626000" cy="3095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3995640" y="3573360"/>
            <a:ext cx="4626000" cy="2735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3995640" y="3998880"/>
            <a:ext cx="4626000" cy="24544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1" descr=""/>
          <p:cNvPicPr/>
          <p:nvPr/>
        </p:nvPicPr>
        <p:blipFill>
          <a:blip r:embed="rId1"/>
          <a:srcRect l="0" t="62093" r="0" b="0"/>
          <a:stretch/>
        </p:blipFill>
        <p:spPr>
          <a:xfrm>
            <a:off x="23760" y="115920"/>
            <a:ext cx="9113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"/>
          <p:cNvSpPr/>
          <p:nvPr/>
        </p:nvSpPr>
        <p:spPr>
          <a:xfrm>
            <a:off x="1258920" y="930240"/>
            <a:ext cx="3600360" cy="37227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1258920" y="1413000"/>
            <a:ext cx="3600360" cy="3240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2484360" y="2276640"/>
            <a:ext cx="2087640" cy="3313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1258920" y="1773360"/>
            <a:ext cx="3600360" cy="2879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1258920" y="2133720"/>
            <a:ext cx="3600360" cy="2519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1258920" y="2637000"/>
            <a:ext cx="3600360" cy="201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1258920" y="2997360"/>
            <a:ext cx="3600360" cy="1655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1258920" y="3429000"/>
            <a:ext cx="3600360" cy="1224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1258920" y="3789360"/>
            <a:ext cx="3600360" cy="863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rcRect l="0" t="0" r="0" b="66277"/>
          <a:stretch/>
        </p:blipFill>
        <p:spPr>
          <a:xfrm>
            <a:off x="-36360" y="-11160"/>
            <a:ext cx="91566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rcRect l="0" t="32942" r="0" b="39088"/>
          <a:stretch/>
        </p:blipFill>
        <p:spPr>
          <a:xfrm>
            <a:off x="0" y="0"/>
            <a:ext cx="9194760" cy="3645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2411280" y="476280"/>
            <a:ext cx="4464360" cy="439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rcRect l="0" t="32942" r="0" b="39088"/>
          <a:stretch/>
        </p:blipFill>
        <p:spPr>
          <a:xfrm>
            <a:off x="0" y="0"/>
            <a:ext cx="9194760" cy="3645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2411280" y="1052640"/>
            <a:ext cx="4464360" cy="3816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rcRect l="0" t="32942" r="0" b="39088"/>
          <a:stretch/>
        </p:blipFill>
        <p:spPr>
          <a:xfrm>
            <a:off x="0" y="0"/>
            <a:ext cx="9194760" cy="3645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2411280" y="1484280"/>
            <a:ext cx="4464360" cy="3384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2484360" y="2637000"/>
            <a:ext cx="2087640" cy="295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rcRect l="0" t="32942" r="0" b="39088"/>
          <a:stretch/>
        </p:blipFill>
        <p:spPr>
          <a:xfrm>
            <a:off x="0" y="0"/>
            <a:ext cx="9194760" cy="36450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2411280" y="2060640"/>
            <a:ext cx="4464360" cy="2808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rcRect l="0" t="32942" r="0" b="39088"/>
          <a:stretch/>
        </p:blipFill>
        <p:spPr>
          <a:xfrm>
            <a:off x="0" y="0"/>
            <a:ext cx="9194760" cy="36450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3"/>
          <p:cNvSpPr/>
          <p:nvPr/>
        </p:nvSpPr>
        <p:spPr>
          <a:xfrm>
            <a:off x="2411280" y="2492280"/>
            <a:ext cx="4464360" cy="2376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0" t="32942" r="0" b="39088"/>
          <a:stretch/>
        </p:blipFill>
        <p:spPr>
          <a:xfrm>
            <a:off x="0" y="0"/>
            <a:ext cx="9194760" cy="36450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2411280" y="2997360"/>
            <a:ext cx="4464360" cy="1871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rcRect l="0" t="32942" r="0" b="39088"/>
          <a:stretch/>
        </p:blipFill>
        <p:spPr>
          <a:xfrm>
            <a:off x="0" y="0"/>
            <a:ext cx="91947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rcRect l="0" t="61308" r="0" b="0"/>
          <a:stretch/>
        </p:blipFill>
        <p:spPr>
          <a:xfrm>
            <a:off x="0" y="0"/>
            <a:ext cx="9142560" cy="50133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4284720" y="189000"/>
            <a:ext cx="4857840" cy="57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rcRect l="0" t="61308" r="0" b="0"/>
          <a:stretch/>
        </p:blipFill>
        <p:spPr>
          <a:xfrm>
            <a:off x="0" y="0"/>
            <a:ext cx="9142560" cy="50133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4284720" y="981000"/>
            <a:ext cx="4857840" cy="4969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rcRect l="0" t="61308" r="0" b="0"/>
          <a:stretch/>
        </p:blipFill>
        <p:spPr>
          <a:xfrm>
            <a:off x="0" y="0"/>
            <a:ext cx="9142560" cy="50133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3"/>
          <p:cNvSpPr/>
          <p:nvPr/>
        </p:nvSpPr>
        <p:spPr>
          <a:xfrm>
            <a:off x="4284720" y="1557360"/>
            <a:ext cx="4857840" cy="439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rcRect l="0" t="61308" r="0" b="0"/>
          <a:stretch/>
        </p:blipFill>
        <p:spPr>
          <a:xfrm>
            <a:off x="0" y="0"/>
            <a:ext cx="9142560" cy="501336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3"/>
          <p:cNvSpPr/>
          <p:nvPr/>
        </p:nvSpPr>
        <p:spPr>
          <a:xfrm>
            <a:off x="4284720" y="2276640"/>
            <a:ext cx="4857840" cy="3673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0" t="61308" r="0" b="0"/>
          <a:stretch/>
        </p:blipFill>
        <p:spPr>
          <a:xfrm>
            <a:off x="0" y="0"/>
            <a:ext cx="9142560" cy="50133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4284720" y="2997360"/>
            <a:ext cx="4857840" cy="295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rcRect l="0" t="61308" r="0" b="0"/>
          <a:stretch/>
        </p:blipFill>
        <p:spPr>
          <a:xfrm>
            <a:off x="0" y="0"/>
            <a:ext cx="9142560" cy="5013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"/>
          <p:cNvSpPr/>
          <p:nvPr/>
        </p:nvSpPr>
        <p:spPr>
          <a:xfrm>
            <a:off x="4284720" y="3716280"/>
            <a:ext cx="4857840" cy="2233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2484360" y="2924280"/>
            <a:ext cx="2087640" cy="2665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rcRect l="0" t="61308" r="0" b="0"/>
          <a:stretch/>
        </p:blipFill>
        <p:spPr>
          <a:xfrm>
            <a:off x="0" y="0"/>
            <a:ext cx="91425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2484360" y="3284640"/>
            <a:ext cx="2087640" cy="2305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2484360" y="3608280"/>
            <a:ext cx="2087640" cy="19814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rcRect l="0" t="0" r="0" b="37909"/>
          <a:stretch/>
        </p:blipFill>
        <p:spPr>
          <a:xfrm>
            <a:off x="611280" y="0"/>
            <a:ext cx="7777080" cy="6842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2484360" y="3933720"/>
            <a:ext cx="2087640" cy="1656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651640" y="1628640"/>
            <a:ext cx="2089080" cy="3961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3:01:23Z</dcterms:modified>
  <cp:revision>409</cp:revision>
  <dc:subject/>
  <dc:title>TITLE</dc:title>
</cp:coreProperties>
</file>