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72E-5BC7-4D2F-A414-8C03D8D8D8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A8D-16F3-4534-81CB-726151FC49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7EE-7D32-4D50-AEAB-820DBC53C7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ED4-A499-46AB-871F-2D17D9EA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EE0-098C-4E35-846C-1EB3E210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AD1-A36A-4620-BC28-A1473C19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216-5A63-44F0-9516-35D48342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A09-FA09-4F3D-9C0C-7FF3F586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CCFC-BD22-4E81-BE04-86B6A7B5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BB2C-7F7A-4C60-804C-66900A2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C9AD-0BA6-4F75-A3DA-5BA81C31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464D-6E8C-4A7F-AB84-F958843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54C-2346-4955-B298-8612496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717-773C-4213-B969-94D8CE2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0A3-8F84-4262-8319-63FE7475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379D-D3EA-45B3-BE2D-8FD52A0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F627-E7EB-4DD6-B4D8-F4C2E2FE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6A66-3872-4567-BCE0-1857E68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A0D3-4934-4588-955B-5C45144D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D43A-E7AB-4D06-BD91-3BD17A01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B8CE-C9B8-498D-BCBD-ED760EC3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ADAB-620A-4E6E-9AEA-DB3940D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2D48-E72E-4BFD-961F-02325C97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31D1-9B48-4B27-9646-57F0849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B0C9-97CC-4380-8C42-29AD8339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B96-61B9-48B3-B3CD-F18DA8E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AC9F-733E-4821-AB43-33A8A16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D086-3EAD-4FAC-8539-7B399B1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0A94-65E5-4335-BE87-C40EC50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B711-BD50-4147-9F76-01BE984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AEFF-3577-4452-809B-C369E84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84C1-872F-4F07-8B6C-952BFA81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3B87-A071-40EB-991A-BC96BFA2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2CB-E10F-442A-9772-5B4D548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B77-3960-44FA-BC2C-11F8A00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A9E-0478-4316-B328-4AB0810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E57-61D6-4B1F-A7BD-B404B96D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36F-E9C4-4EC8-B490-B0AB5FE6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C79-EF17-46DC-9E90-FD9978D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68A0-C2DC-4CBA-A1CE-A36E71AE36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83D8-6C20-4557-974F-B43D60AB8DC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0B0-1B3B-4D4C-B37F-56EF2BE29CA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2-03T21:40:43Z</dcterms:modified>
  <cp:revision>271</cp:revision>
  <dc:subject/>
  <dc:title>TITLE</dc:title>
</cp:coreProperties>
</file>