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24A1-1F7F-43EB-A9CE-3A2045DA19E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230D-3B0D-47C4-A481-61BA1A2EC9F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7A32-CD66-463C-ABD5-F3429F9EF38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FB1F-23D6-4554-A5A5-4F566CF0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781C-C036-4554-9288-460F1B12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02E4-A36E-44CA-8DB6-A7A9602C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FE58-33E1-4963-B766-F3297601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0645-E37D-465A-9DAD-09EF0A1E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27E1-4E57-4D54-A626-53F93094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2F12-CFD7-4127-A251-C412A077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01A0-9C67-4C95-9434-FD247C8B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1FFD-7D0E-4247-B69A-B15D3B67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C93B-DEB4-48C9-91EA-C6BDB085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41DC-40B5-4009-AD55-7DC3C9D5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3FBA-BE39-4BEB-8E9F-43F0067B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1B53-EC24-4D46-93B9-21A2D0CD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4C95-05FB-464C-9D53-2CF0CC8A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2B67-769F-4DD9-927A-7287A49E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CF55-2B28-45D7-97E9-40B5331A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ABF7-3A91-47F9-96BF-05CC939C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BCED3-313D-4D4E-8D94-CB54F6CB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5CC7D-CE8C-4E4C-8D9D-A166787C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C2294-5444-4814-AE8D-6C6BCFC6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AC56E-56AF-4E0D-A46C-D94D33C9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5BE53-1396-4D01-AE83-7064A4E5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C8B-AA41-4D4A-811F-1FB1048B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A5DD3-606B-411A-9A95-54360D9E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13D26-D6B5-4D91-A803-8E5271DF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FA7B4-FF72-4241-ADED-D1D0195F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DB3B2-4A53-45ED-86DB-E217AC79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8AEE6-6A02-43E4-ACE6-8752249F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FAFA4-2688-4533-97A4-BB354D82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60EFE-2A9B-4301-ADF6-E9D429C0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D807-86E9-4B8B-9F0F-6A85BC10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81B-037E-4586-B9B2-94DAB55B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959C-5D39-4658-AEAD-91C4E325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A286-4837-49B3-9FB3-0FF40873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5ED8-77A6-4686-BDC9-4D2D3E19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52C6-324B-4977-A44E-07A77167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23C4-EA98-4F52-856C-9839D587901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BD67-FABA-4628-9CF7-F715F5A6AFC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07FD-8DF7-4C67-8DC3-BD2BD66E516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871380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12-03T21:40:43Z</dcterms:modified>
  <cp:revision>271</cp:revision>
  <dc:subject/>
  <dc:title>TITLE</dc:title>
</cp:coreProperties>
</file>