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A7F2-6F11-47EE-A4CA-127D685FB8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5403-7DDB-4338-9C42-470243EF91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0BA9-7F36-4543-BF3E-9B1DD5E83E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5973-092C-4CE5-B3FB-18B1E55C44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10A4-3462-4651-B30E-46C2E9D0DE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63F5-D87C-4DDE-85F7-C62D18A50D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CDFB-FCE5-4819-BE94-47668085AC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BFBC-AF31-4A60-8281-5E9F89FB4E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1491-2509-4F6E-8B3A-38B4812CA0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9830-FF5B-431D-B1ED-3A1215BBB9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37D9-63D8-4BCD-9B0F-33486FBB51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1060-759E-44D1-984A-9ED0111DD7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6F1F-B0EB-4776-8585-F9E31E0A1D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66F9-6A9B-4CDF-AB1E-D4ED90EB1D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3A28-BF9D-45C4-BE19-BE430A1D4B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9B6D-0E54-45CD-A542-4DC1195C88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DAF8-2DB9-45F7-8B62-1126C9EDF0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3C92-A523-40A5-8234-5C9C3F60DE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C87-5D43-4052-815C-0F0ED527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132-A08F-46B3-8786-BE29C349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AC1-BD0B-4269-957F-1D4C54A5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853-45EF-48C2-9588-7AF5739C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8A4-F1EE-4712-AA45-ED31F4BB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573-1311-4D5F-82F1-F9A87CA2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0B3-A9E5-45F1-978F-FCE40DAC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2B0-F7A5-4759-A77D-68B0275C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81D-D217-4C42-9113-EFB6B25A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669-ECC0-4A19-8467-675FF70D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888-DD9F-4C1B-A561-7A65D41D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5A4-661B-4581-9A75-B4B50F9E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5CCC-7136-4C39-9832-A7E1736A34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592280" y="2479680"/>
            <a:ext cx="1494000" cy="660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su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1587600" cy="1335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579600" y="3462480"/>
            <a:ext cx="16905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932360" y="3462480"/>
            <a:ext cx="295272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su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1587600" cy="1335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579600" y="3462480"/>
            <a:ext cx="34160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4932360" y="3462480"/>
            <a:ext cx="295272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108000" y="3357720"/>
            <a:ext cx="38876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067280" y="3357720"/>
            <a:ext cx="4968720" cy="17398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noro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651640" y="18590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76360" y="1890720"/>
            <a:ext cx="19368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108000" y="3357720"/>
            <a:ext cx="38876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067280" y="3357720"/>
            <a:ext cx="4968720" cy="17398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noro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651640" y="18590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76360" y="1890720"/>
            <a:ext cx="1936800" cy="1339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1763640" y="3429000"/>
            <a:ext cx="20876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08000" y="3357720"/>
            <a:ext cx="38876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067280" y="3357720"/>
            <a:ext cx="4968720" cy="17398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noro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5651640" y="18590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476360" y="1890720"/>
            <a:ext cx="1936800" cy="13399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1763640" y="3429000"/>
            <a:ext cx="20876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211640" y="3441600"/>
            <a:ext cx="86508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108000" y="3357720"/>
            <a:ext cx="38876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4067280" y="3357720"/>
            <a:ext cx="4968720" cy="17398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noro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5651640" y="18590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476360" y="1890720"/>
            <a:ext cx="1936800" cy="1339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763640" y="3429000"/>
            <a:ext cx="20876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50920" y="3456000"/>
            <a:ext cx="165708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140360" y="3429000"/>
            <a:ext cx="86328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108000" y="3357720"/>
            <a:ext cx="38876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4067280" y="3357720"/>
            <a:ext cx="4968720" cy="17398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noro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5651640" y="18590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76360" y="1890720"/>
            <a:ext cx="1936800" cy="13399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1763640" y="3429000"/>
            <a:ext cx="20876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50920" y="3456000"/>
            <a:ext cx="165708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140360" y="3429000"/>
            <a:ext cx="86328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840280" y="3440160"/>
            <a:ext cx="305280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108000" y="3357720"/>
            <a:ext cx="38876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4067280" y="3357720"/>
            <a:ext cx="4968720" cy="17398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noro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5651640" y="18590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476360" y="1890720"/>
            <a:ext cx="1936800" cy="13399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63640" y="3429000"/>
            <a:ext cx="20876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50920" y="3456000"/>
            <a:ext cx="165708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4140360" y="3429000"/>
            <a:ext cx="18716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5840280" y="3440160"/>
            <a:ext cx="305280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592280" y="2479680"/>
            <a:ext cx="1494000" cy="660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643280" y="3429000"/>
            <a:ext cx="8654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92280" y="2479680"/>
            <a:ext cx="1494000" cy="660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643280" y="3429000"/>
            <a:ext cx="8654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1403280" y="3397320"/>
            <a:ext cx="20163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92280" y="2479680"/>
            <a:ext cx="1494000" cy="6602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643280" y="3429000"/>
            <a:ext cx="16574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403280" y="3397320"/>
            <a:ext cx="20163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592280" y="2479680"/>
            <a:ext cx="1494000" cy="660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43280" y="3429000"/>
            <a:ext cx="338472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403280" y="3397320"/>
            <a:ext cx="20163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su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15876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su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1587600" cy="13352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79600" y="3462480"/>
            <a:ext cx="16905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su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1587600" cy="1335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79600" y="3462480"/>
            <a:ext cx="16905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867280" y="3462480"/>
            <a:ext cx="51300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su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1587600" cy="13352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579600" y="3462480"/>
            <a:ext cx="16905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4932360" y="3462480"/>
            <a:ext cx="144792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7-07T10:53:51Z</dcterms:modified>
  <cp:revision>220</cp:revision>
  <dc:subject/>
  <dc:title>TITLE</dc:title>
</cp:coreProperties>
</file>