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9604-065B-419E-975A-58A69C679F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7B41-E5AC-4037-B007-BA0952C24A0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9DC1-D8D2-405A-A260-14084249123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7EF4-FDB1-4338-8418-31A33A18C0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5ABB-A178-41FC-98AD-D438B953386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40E4-05CA-4539-9C5E-5CDBABD673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8989-BFB7-4B14-976C-EFBADF43D6F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C8D3-DCCC-4D85-A8CF-26DFF16E72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9359-9808-45C6-8772-A3650C66730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290E-E3AE-4B19-B250-099E37DDB6E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999A-5535-491C-8210-2974F04100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42CC-4FF6-43E8-87CB-C9AAAFEC29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A4FB-9A38-419D-B9C3-9F4FC13871A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9AC3-AF4A-43CC-B2EE-93021F7F732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4879-0315-4E6B-8722-977D5EB0D9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006A-8A58-4BFD-B90B-C5D315A0FC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4EA5-D557-4AF5-94D1-E1947EAD5A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2331-9B08-4F52-A66E-15C3B9ADFB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0FE-9FD5-409A-A571-2BB920A5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326-E617-4E73-83B4-95894CD9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072-E504-4E6F-A1DA-D544A071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653-7C51-47A8-A4F4-20B148E8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138-B170-46AD-965F-6FBC62B9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E61-352B-461A-B356-B9D974E5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82A-9853-4681-BF03-4AF1F683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924-2351-4FC8-832D-2823197C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168-5567-4EB2-8B6A-57109FA2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B01-067E-4534-97B4-86C85875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D50-8358-47E8-A0F6-03E4E275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67B-BC0F-4F05-A2A4-768C740C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B48A-3993-42E8-92BB-35E0087502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579600" y="3462480"/>
            <a:ext cx="16905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932360" y="3462480"/>
            <a:ext cx="295272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79600" y="3462480"/>
            <a:ext cx="34160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4932360" y="3462480"/>
            <a:ext cx="295272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211640" y="3441600"/>
            <a:ext cx="8650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50920" y="3456000"/>
            <a:ext cx="16570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140360" y="3429000"/>
            <a:ext cx="8632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50920" y="3456000"/>
            <a:ext cx="16570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140360" y="3429000"/>
            <a:ext cx="8632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840280" y="3440160"/>
            <a:ext cx="305280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108000" y="3357720"/>
            <a:ext cx="38876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y nieb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067280" y="3357720"/>
            <a:ext cx="4968720" cy="173988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noro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5651640" y="185904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476360" y="1890720"/>
            <a:ext cx="1936800" cy="13399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63640" y="3429000"/>
            <a:ext cx="2087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50920" y="3456000"/>
            <a:ext cx="165708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140360" y="3429000"/>
            <a:ext cx="18716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5840280" y="3440160"/>
            <a:ext cx="305280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643280" y="3429000"/>
            <a:ext cx="8654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643280" y="3429000"/>
            <a:ext cx="8654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403280" y="3397320"/>
            <a:ext cx="20163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643280" y="3429000"/>
            <a:ext cx="165744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403280" y="3397320"/>
            <a:ext cx="20163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iel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est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92280" y="2479680"/>
            <a:ext cx="1494000" cy="660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43280" y="3429000"/>
            <a:ext cx="338472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403280" y="3397320"/>
            <a:ext cx="20163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79600" y="3462480"/>
            <a:ext cx="16905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9600" y="3462480"/>
            <a:ext cx="16905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867280" y="3462480"/>
            <a:ext cx="51300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95280" y="3357720"/>
            <a:ext cx="388944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ace cal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437000" y="3357720"/>
            <a:ext cx="3888000" cy="916920"/>
          </a:xfrm>
          <a:prstGeom prst="rect">
            <a:avLst/>
          </a:prstGeom>
          <a:solidFill>
            <a:srgbClr val="fffff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en el su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651640" y="185904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a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476360" y="1976400"/>
            <a:ext cx="1587600" cy="1335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579600" y="3462480"/>
            <a:ext cx="169056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4932360" y="3462480"/>
            <a:ext cx="1447920" cy="779400"/>
          </a:xfrm>
          <a:prstGeom prst="rect">
            <a:avLst/>
          </a:prstGeom>
          <a:solidFill>
            <a:srgbClr val="fffffa"/>
          </a:solidFill>
          <a:ln w="255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7-07T10:53:51Z</dcterms:modified>
  <cp:revision>220</cp:revision>
  <dc:subject/>
  <dc:title>TITLE</dc:title>
</cp:coreProperties>
</file>