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983-98C8-495C-B35E-FA6777D3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6FB-F7C3-4E2C-AEEA-9B90289C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759-2FDC-43C2-9831-12B8D64F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7A6-86D2-4209-BCED-883D2B7F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A54-5007-43A2-9B4C-8EFC83F0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92E-B087-42E8-BD37-3DDD2A5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3EC-119C-40DE-94CE-AD32A69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7D8-5BFB-4D0F-8E84-7308B8B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C42-F423-414B-B162-80913ABC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614-928B-4898-A8F4-B24FE7E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1FC-739E-4A2F-9D15-B21313E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572-9229-4616-A913-2E435B9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D24-4CB7-49EF-8828-DFEE78168A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0"/>
          <a:ext cx="8353440" cy="17002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76360" y="1700280"/>
          <a:ext cx="6095880" cy="1728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411280" y="3429000"/>
          <a:ext cx="4104000" cy="1584360"/>
        </p:xfrm>
        <a:graphic>
          <a:graphicData uri="http://schemas.openxmlformats.org/drawingml/2006/table">
            <a:tbl>
              <a:tblPr/>
              <a:tblGrid>
                <a:gridCol w="2052720"/>
                <a:gridCol w="20512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492360" y="5013360"/>
          <a:ext cx="2089440" cy="1539720"/>
        </p:xfrm>
        <a:graphic>
          <a:graphicData uri="http://schemas.openxmlformats.org/drawingml/2006/table">
            <a:tbl>
              <a:tblPr/>
              <a:tblGrid>
                <a:gridCol w="2089440"/>
              </a:tblGrid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76" descr="hot"/>
          <p:cNvPicPr/>
          <p:nvPr/>
        </p:nvPicPr>
        <p:blipFill>
          <a:blip r:embed="rId1"/>
          <a:stretch/>
        </p:blipFill>
        <p:spPr>
          <a:xfrm>
            <a:off x="755640" y="5076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7" descr="cold"/>
          <p:cNvPicPr/>
          <p:nvPr/>
        </p:nvPicPr>
        <p:blipFill>
          <a:blip r:embed="rId2"/>
          <a:stretch/>
        </p:blipFill>
        <p:spPr>
          <a:xfrm>
            <a:off x="3098880" y="-936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wind"/>
          <p:cNvPicPr/>
          <p:nvPr/>
        </p:nvPicPr>
        <p:blipFill>
          <a:blip r:embed="rId3"/>
          <a:stretch/>
        </p:blipFill>
        <p:spPr>
          <a:xfrm>
            <a:off x="5003640" y="95400"/>
            <a:ext cx="1403640" cy="99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sun2"/>
          <p:cNvPicPr/>
          <p:nvPr/>
        </p:nvPicPr>
        <p:blipFill>
          <a:blip r:embed="rId4"/>
          <a:stretch/>
        </p:blipFill>
        <p:spPr>
          <a:xfrm>
            <a:off x="6948360" y="-5868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rain"/>
          <p:cNvPicPr/>
          <p:nvPr/>
        </p:nvPicPr>
        <p:blipFill>
          <a:blip r:embed="rId5"/>
          <a:stretch/>
        </p:blipFill>
        <p:spPr>
          <a:xfrm>
            <a:off x="1982880" y="1773360"/>
            <a:ext cx="111600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snow"/>
          <p:cNvPicPr/>
          <p:nvPr/>
        </p:nvPicPr>
        <p:blipFill>
          <a:blip r:embed="rId6"/>
          <a:stretch/>
        </p:blipFill>
        <p:spPr>
          <a:xfrm>
            <a:off x="4076640" y="1773360"/>
            <a:ext cx="927000" cy="115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ice_clr"/>
          <p:cNvPicPr/>
          <p:nvPr/>
        </p:nvPicPr>
        <p:blipFill>
          <a:blip r:embed="rId7"/>
          <a:stretch/>
        </p:blipFill>
        <p:spPr>
          <a:xfrm>
            <a:off x="6012000" y="1989000"/>
            <a:ext cx="131436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3" descr="fog"/>
          <p:cNvPicPr/>
          <p:nvPr/>
        </p:nvPicPr>
        <p:blipFill>
          <a:blip r:embed="rId8"/>
          <a:stretch/>
        </p:blipFill>
        <p:spPr>
          <a:xfrm>
            <a:off x="2827440" y="3551400"/>
            <a:ext cx="124920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4" descr="lightning"/>
          <p:cNvPicPr/>
          <p:nvPr/>
        </p:nvPicPr>
        <p:blipFill>
          <a:blip r:embed="rId9"/>
          <a:stretch/>
        </p:blipFill>
        <p:spPr>
          <a:xfrm>
            <a:off x="5025960" y="3468600"/>
            <a:ext cx="91764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5" descr="cloudy"/>
          <p:cNvPicPr/>
          <p:nvPr/>
        </p:nvPicPr>
        <p:blipFill>
          <a:blip r:embed="rId10"/>
          <a:stretch/>
        </p:blipFill>
        <p:spPr>
          <a:xfrm>
            <a:off x="4076640" y="5127480"/>
            <a:ext cx="1190520" cy="878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468360" y="11923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540160" y="11923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frí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4643280" y="11923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v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6732720" y="11923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ce s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1508040" y="2908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lue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3581280" y="2908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e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580000" y="29084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2451240" y="44974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4443480" y="449748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y torm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3513240" y="60357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tá nub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40:03Z</dcterms:modified>
  <cp:revision>211</cp:revision>
  <dc:subject/>
  <dc:title>TITLE</dc:title>
</cp:coreProperties>
</file>