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BF51-9D18-42EB-8123-910EB45713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0323-DDD3-49AE-B252-8BEF25EBC3B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8CB-BFCD-4AF1-9955-F45C3A7B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D6A-1247-4094-B4C8-2C5D9F88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281-164F-404F-8E04-A533AE20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AF0-7ACF-4D92-BE1B-9BF4A381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75D-DA04-479B-8ED2-D99C3E06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7FE-432C-4AAF-8315-E1B28B69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0E9-ECBD-404C-BFAE-616B166A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CA5-51E0-4D7C-95A1-FF8896C9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714-951E-4B30-8A54-D741ED00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456-7E67-467A-AE65-3DE5532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49D-1166-4E58-A7D3-C1FC1C47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031-02FD-4431-8475-1EE25F1D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0EDA-4C29-4B79-A169-96F75DA4B3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7280" y="476280"/>
          <a:ext cx="8569440" cy="1944720"/>
        </p:xfrm>
        <a:graphic>
          <a:graphicData uri="http://schemas.openxmlformats.org/drawingml/2006/table">
            <a:tbl>
              <a:tblPr/>
              <a:tblGrid>
                <a:gridCol w="2143080"/>
                <a:gridCol w="2141640"/>
                <a:gridCol w="2141640"/>
                <a:gridCol w="214308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359000" y="2421000"/>
          <a:ext cx="6426000" cy="388764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94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1" name="TextBox 3"/>
          <p:cNvSpPr/>
          <p:nvPr/>
        </p:nvSpPr>
        <p:spPr>
          <a:xfrm>
            <a:off x="324000" y="17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cal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249228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frí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460044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hie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6804000" y="17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llu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1424160" y="36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nieb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59244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nie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570060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nub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1424160" y="5589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3368520" y="558972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torment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5700600" y="5589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vien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2" descr=""/>
          <p:cNvPicPr/>
          <p:nvPr/>
        </p:nvPicPr>
        <p:blipFill>
          <a:blip r:embed="rId1"/>
          <a:srcRect l="37509" t="0" r="20029" b="0"/>
          <a:stretch/>
        </p:blipFill>
        <p:spPr>
          <a:xfrm>
            <a:off x="1917720" y="4438800"/>
            <a:ext cx="126360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4967280" y="557280"/>
            <a:ext cx="1620720" cy="107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"/>
          <p:cNvPicPr/>
          <p:nvPr/>
        </p:nvPicPr>
        <p:blipFill>
          <a:blip r:embed="rId3"/>
          <a:stretch/>
        </p:blipFill>
        <p:spPr>
          <a:xfrm>
            <a:off x="619200" y="689040"/>
            <a:ext cx="1654200" cy="9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"/>
          <p:cNvPicPr/>
          <p:nvPr/>
        </p:nvPicPr>
        <p:blipFill>
          <a:blip r:embed="rId4"/>
          <a:stretch/>
        </p:blipFill>
        <p:spPr>
          <a:xfrm>
            <a:off x="2830680" y="654120"/>
            <a:ext cx="1571400" cy="1046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"/>
          <p:cNvPicPr/>
          <p:nvPr/>
        </p:nvPicPr>
        <p:blipFill>
          <a:blip r:embed="rId5"/>
          <a:stretch/>
        </p:blipFill>
        <p:spPr>
          <a:xfrm>
            <a:off x="3924360" y="4471920"/>
            <a:ext cx="1623960" cy="108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6"/>
          <a:stretch/>
        </p:blipFill>
        <p:spPr>
          <a:xfrm>
            <a:off x="5979960" y="2565360"/>
            <a:ext cx="173700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7"/>
          <a:stretch/>
        </p:blipFill>
        <p:spPr>
          <a:xfrm>
            <a:off x="3800520" y="2589120"/>
            <a:ext cx="174780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8"/>
          <a:stretch/>
        </p:blipFill>
        <p:spPr>
          <a:xfrm>
            <a:off x="6083280" y="4471920"/>
            <a:ext cx="1531800" cy="101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"/>
          <p:cNvPicPr/>
          <p:nvPr/>
        </p:nvPicPr>
        <p:blipFill>
          <a:blip r:embed="rId9"/>
          <a:stretch/>
        </p:blipFill>
        <p:spPr>
          <a:xfrm>
            <a:off x="1630440" y="2593800"/>
            <a:ext cx="1780920" cy="112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10"/>
          <a:stretch/>
        </p:blipFill>
        <p:spPr>
          <a:xfrm>
            <a:off x="7042320" y="557280"/>
            <a:ext cx="176364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1:54Z</dcterms:modified>
  <cp:revision>257</cp:revision>
  <dc:subject/>
  <dc:title>TITLE</dc:title>
</cp:coreProperties>
</file>