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D5A7-3675-408E-B7D9-F792007AC8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D923-1120-491D-9635-BB2E23FA13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AFC-E220-4976-9540-DF2EFCE6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00F-6E4C-4FAF-8948-CBB8D0C1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C17-81E0-45D4-8444-B3F2F105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F43-D30F-42B2-94AB-A330C313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624-76AB-4554-9321-8E711483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F3D-87BE-4C7F-81C3-F6F1AA20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743-15F2-4636-8B8A-AD26756A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38C-5BB4-4152-8479-0FBABD3F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A2D-223E-42C2-A931-31F404F6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8A0-BC7B-47EF-A318-20C2BA4B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234-D05A-458F-B3DD-2A024104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A42-E875-4950-A919-60BE0E1E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06F9-E5D2-4836-9B84-6768B9903D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7280" y="476280"/>
          <a:ext cx="8569440" cy="1944720"/>
        </p:xfrm>
        <a:graphic>
          <a:graphicData uri="http://schemas.openxmlformats.org/drawingml/2006/table">
            <a:tbl>
              <a:tblPr/>
              <a:tblGrid>
                <a:gridCol w="2143080"/>
                <a:gridCol w="2141640"/>
                <a:gridCol w="2141640"/>
                <a:gridCol w="214308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359000" y="2421000"/>
          <a:ext cx="6426000" cy="3887640"/>
        </p:xfrm>
        <a:graphic>
          <a:graphicData uri="http://schemas.openxmlformats.org/drawingml/2006/table">
            <a:tbl>
              <a:tblPr/>
              <a:tblGrid>
                <a:gridCol w="2141280"/>
                <a:gridCol w="2143440"/>
                <a:gridCol w="214128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94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1" name="TextBox 3"/>
          <p:cNvSpPr/>
          <p:nvPr/>
        </p:nvSpPr>
        <p:spPr>
          <a:xfrm>
            <a:off x="324000" y="1700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cal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2492280" y="1700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frí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4600440" y="1700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hie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6804000" y="1700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lu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1424160" y="36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nieb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592440" y="364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nie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5700600" y="364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nub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1424160" y="5589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3368520" y="5589720"/>
            <a:ext cx="24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torment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5700600" y="5589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vien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22" descr=""/>
          <p:cNvPicPr/>
          <p:nvPr/>
        </p:nvPicPr>
        <p:blipFill>
          <a:blip r:embed="rId1"/>
          <a:srcRect l="37509" t="0" r="20029" b="0"/>
          <a:stretch/>
        </p:blipFill>
        <p:spPr>
          <a:xfrm>
            <a:off x="1917720" y="4438800"/>
            <a:ext cx="126360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4967280" y="557280"/>
            <a:ext cx="1620720" cy="107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"/>
          <p:cNvPicPr/>
          <p:nvPr/>
        </p:nvPicPr>
        <p:blipFill>
          <a:blip r:embed="rId3"/>
          <a:stretch/>
        </p:blipFill>
        <p:spPr>
          <a:xfrm>
            <a:off x="619200" y="689040"/>
            <a:ext cx="1654200" cy="94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"/>
          <p:cNvPicPr/>
          <p:nvPr/>
        </p:nvPicPr>
        <p:blipFill>
          <a:blip r:embed="rId4"/>
          <a:stretch/>
        </p:blipFill>
        <p:spPr>
          <a:xfrm>
            <a:off x="2830680" y="654120"/>
            <a:ext cx="1571400" cy="1046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"/>
          <p:cNvPicPr/>
          <p:nvPr/>
        </p:nvPicPr>
        <p:blipFill>
          <a:blip r:embed="rId5"/>
          <a:stretch/>
        </p:blipFill>
        <p:spPr>
          <a:xfrm>
            <a:off x="3924360" y="4471920"/>
            <a:ext cx="1623960" cy="108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6"/>
          <a:stretch/>
        </p:blipFill>
        <p:spPr>
          <a:xfrm>
            <a:off x="5979960" y="2565360"/>
            <a:ext cx="173700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7"/>
          <a:stretch/>
        </p:blipFill>
        <p:spPr>
          <a:xfrm>
            <a:off x="3800520" y="2589120"/>
            <a:ext cx="1747800" cy="116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8"/>
          <a:stretch/>
        </p:blipFill>
        <p:spPr>
          <a:xfrm>
            <a:off x="6083280" y="4471920"/>
            <a:ext cx="1531800" cy="101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"/>
          <p:cNvPicPr/>
          <p:nvPr/>
        </p:nvPicPr>
        <p:blipFill>
          <a:blip r:embed="rId9"/>
          <a:stretch/>
        </p:blipFill>
        <p:spPr>
          <a:xfrm>
            <a:off x="1630440" y="2593800"/>
            <a:ext cx="1780920" cy="112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10"/>
          <a:stretch/>
        </p:blipFill>
        <p:spPr>
          <a:xfrm>
            <a:off x="7042320" y="557280"/>
            <a:ext cx="176364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7-07T10:51:54Z</dcterms:modified>
  <cp:revision>257</cp:revision>
  <dc:subject/>
  <dc:title>TITLE</dc:title>
</cp:coreProperties>
</file>