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3D2E-3AC0-4845-9222-1CFED6C30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BB1F-9D66-4B7E-ACF8-E18A379D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6C3E-6802-43D4-89BA-ECC61A3FF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1380-7AE1-424F-BB11-153A2CCF3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F646-00A8-4CF9-8C65-90FB0FD0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B108-F6E8-4445-A156-EE463BBA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CA52-5549-443B-A0D9-DB488232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3CFB-D194-41F8-B976-05749787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6DC0-D847-42A3-8BF7-0015D8C7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A36A-0DF3-45F1-95C3-E88A0D00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0B63-5230-4AFC-A150-04E74580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838A-7ACD-4C4F-91A5-808A05BE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D7C7-846E-40CB-A453-833550E07C1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258920" y="874800"/>
            <a:ext cx="6875280" cy="4570200"/>
          </a:xfrm>
          <a:prstGeom prst="rect">
            <a:avLst/>
          </a:prstGeom>
          <a:ln w="0">
            <a:noFill/>
          </a:ln>
        </p:spPr>
      </p:pic>
      <p:sp>
        <p:nvSpPr>
          <p:cNvPr id="43" name="TextBox 7"/>
          <p:cNvSpPr/>
          <p:nvPr/>
        </p:nvSpPr>
        <p:spPr>
          <a:xfrm>
            <a:off x="108000" y="11592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¿Qué tiempo hac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258920" y="874800"/>
            <a:ext cx="6875280" cy="457020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539640" y="5732640"/>
            <a:ext cx="374508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ce cal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695840" y="5719680"/>
            <a:ext cx="37447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ce s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7575480" y="5683320"/>
            <a:ext cx="865080" cy="868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3371760" y="5732640"/>
            <a:ext cx="912960" cy="769680"/>
          </a:xfrm>
          <a:prstGeom prst="rect">
            <a:avLst/>
          </a:prstGeom>
          <a:ln w="0">
            <a:noFill/>
          </a:ln>
        </p:spPr>
      </p:pic>
      <p:sp>
        <p:nvSpPr>
          <p:cNvPr id="50" name="TextBox 7"/>
          <p:cNvSpPr/>
          <p:nvPr/>
        </p:nvSpPr>
        <p:spPr>
          <a:xfrm>
            <a:off x="108000" y="11592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¿Qué tiempo hac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108000" y="11592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¿Qué tiempo hac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880920" y="976320"/>
            <a:ext cx="738216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108000" y="11592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¿Qué tiempo hac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880920" y="976320"/>
            <a:ext cx="7382160" cy="490536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395280" y="5972040"/>
            <a:ext cx="374508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ce vient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4552920" y="5972040"/>
            <a:ext cx="426708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y tormen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3500280" y="6165720"/>
            <a:ext cx="605160" cy="428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3"/>
          <a:stretch/>
        </p:blipFill>
        <p:spPr>
          <a:xfrm>
            <a:off x="8244000" y="6021360"/>
            <a:ext cx="57600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108000" y="11592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¿Qué tiempo hac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1314360" y="981000"/>
            <a:ext cx="6515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108000" y="11592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¿Qué tiempo hac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314360" y="981000"/>
            <a:ext cx="6515280" cy="434340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395280" y="5972040"/>
            <a:ext cx="374508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ce frí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4552920" y="5972040"/>
            <a:ext cx="318780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luev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3276720" y="5977080"/>
            <a:ext cx="752400" cy="742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6875640" y="5977080"/>
            <a:ext cx="71892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108000" y="11592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¿Qué tiempo hac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1292400" y="885960"/>
            <a:ext cx="6559200" cy="49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108000" y="11592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¿Qué tiempo hac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1292400" y="885960"/>
            <a:ext cx="6559200" cy="4919400"/>
          </a:xfrm>
          <a:prstGeom prst="rect">
            <a:avLst/>
          </a:prstGeom>
          <a:ln w="0">
            <a:noFill/>
          </a:ln>
        </p:spPr>
      </p:pic>
      <p:sp>
        <p:nvSpPr>
          <p:cNvPr id="77" name="TextBox 5"/>
          <p:cNvSpPr/>
          <p:nvPr/>
        </p:nvSpPr>
        <p:spPr>
          <a:xfrm>
            <a:off x="1835280" y="5972040"/>
            <a:ext cx="259236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iev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4768920" y="5972040"/>
            <a:ext cx="28274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ie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5759280" y="4941720"/>
            <a:ext cx="1944720" cy="143460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1.1.2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3564000" y="5996160"/>
            <a:ext cx="579240" cy="720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"/>
          <p:cNvPicPr/>
          <p:nvPr/>
        </p:nvPicPr>
        <p:blipFill>
          <a:blip r:embed="rId3"/>
          <a:stretch/>
        </p:blipFill>
        <p:spPr>
          <a:xfrm>
            <a:off x="6227640" y="6130800"/>
            <a:ext cx="10191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11T15:40:48Z</dcterms:modified>
  <cp:revision>210</cp:revision>
  <dc:subject/>
  <dc:title>TITLE</dc:title>
</cp:coreProperties>
</file>