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AF8-FA08-4B5E-A687-1BF33464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2C1-7162-47B9-80B3-7698D998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002-C830-401B-9948-8C5F896B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6C8-6400-442D-8087-AF771DBC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2D6-E060-4065-B476-11688A91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A43-1AD3-4034-AC00-A64C9A6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72D-85CB-4A4E-AB4E-828E8B9F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344-5FA0-446E-A81E-D24439F4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922-617E-473A-918D-B4A6E36F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D21-902B-4317-8941-AB68151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624-BB95-44DB-849E-6BB2A0A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5E7-7213-46BE-9DDA-C85FA8F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40D1-9B9D-41FF-BD03-5689DAB7A0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58920" y="874800"/>
            <a:ext cx="6875280" cy="4570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58920" y="874800"/>
            <a:ext cx="6875280" cy="4570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39640" y="5732640"/>
            <a:ext cx="3745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695840" y="5719680"/>
            <a:ext cx="374472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s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575480" y="5683320"/>
            <a:ext cx="86508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371760" y="5732640"/>
            <a:ext cx="912960" cy="769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880920" y="976320"/>
            <a:ext cx="73821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80920" y="976320"/>
            <a:ext cx="7382160" cy="4905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95280" y="5972040"/>
            <a:ext cx="3745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vi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552920" y="5972040"/>
            <a:ext cx="4267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y torme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3500280" y="6165720"/>
            <a:ext cx="605160" cy="42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576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314360" y="981000"/>
            <a:ext cx="6515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314360" y="981000"/>
            <a:ext cx="651528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95280" y="5972040"/>
            <a:ext cx="374508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ce frí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552920" y="5972040"/>
            <a:ext cx="318780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lue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3276720" y="5977080"/>
            <a:ext cx="752400" cy="74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6875640" y="5977080"/>
            <a:ext cx="7189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92400" y="885960"/>
            <a:ext cx="655920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08000" y="1159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¿Qué tiempo hac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292400" y="885960"/>
            <a:ext cx="6559200" cy="4919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835280" y="5972040"/>
            <a:ext cx="259236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ie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68920" y="5972040"/>
            <a:ext cx="2827440" cy="76428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759280" y="4941720"/>
            <a:ext cx="1944720" cy="1434600"/>
          </a:xfrm>
          <a:prstGeom prst="rect">
            <a:avLst/>
          </a:prstGeom>
          <a:solidFill>
            <a:srgbClr val="fff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1.1.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564000" y="5996160"/>
            <a:ext cx="57924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3"/>
          <a:stretch/>
        </p:blipFill>
        <p:spPr>
          <a:xfrm>
            <a:off x="6227640" y="6130800"/>
            <a:ext cx="10191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0:48Z</dcterms:modified>
  <cp:revision>210</cp:revision>
  <dc:subject/>
  <dc:title>TITLE</dc:title>
</cp:coreProperties>
</file>