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F93-E3E4-4E19-BAD7-CA47D9B3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873-5761-4D8C-9576-17BB80B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0E9-7C71-4DE2-A37C-805CF633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806-DE4D-42F1-B437-3243E42F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0AE-12CA-47EC-904E-1F57FB43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F75-97DF-41DF-ADCB-BD4CF181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362-4C4D-4A1E-AD5E-3616450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862-4DD3-4F23-B8EB-BE5546F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011-27C4-4ECC-91A4-0B69636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8C3-3AC6-40A6-AFE8-CDB05228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BCB-C66C-4903-8ACB-6415D32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83B-D551-4D9C-AC44-606D915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CC2-454B-45EF-9826-7C9C669456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9:49Z</dcterms:modified>
  <cp:revision>166</cp:revision>
  <dc:subject/>
  <dc:title>TITLE</dc:title>
</cp:coreProperties>
</file>