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91B-E106-441E-9E2B-624646D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468-10E0-44EE-A59F-561446C5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E92-0DC9-4840-8A07-1ADFBA61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4AD-21F9-4B78-9292-6132ADA3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190-1863-4FED-AD7F-6542DC5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3A9-6276-4901-BFD1-54280AF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93E-7A20-4B98-AD6D-37F46618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A8C-4346-4420-8CF8-6A69272C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AC8-7BC5-4BE8-9EB8-4E92CF7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0D6-5E84-4CDA-8660-CA09CC9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332-AFC6-4CB7-B776-127DB46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72F-DA0B-43B7-AB8E-820DD5B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A01-AF0A-4DED-A802-3380DE5DA5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501336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01336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501336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6660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1944720" cy="1377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1773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484360" y="3573360"/>
            <a:ext cx="1927440" cy="13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767120" y="3500280"/>
            <a:ext cx="1349640" cy="151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708360" y="5157720"/>
            <a:ext cx="1800360" cy="1325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3429000"/>
            <a:ext cx="9144000" cy="51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9:49Z</dcterms:modified>
  <cp:revision>166</cp:revision>
  <dc:subject/>
  <dc:title>TITLE</dc:title>
</cp:coreProperties>
</file>