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8020-03FE-4F7D-B00F-79F83E8A00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73E1-AA50-470A-B852-23000369E98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203-D3D7-4FD4-85EC-AF5267D2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DEB-56B5-436A-9041-AB43B140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3B7-C864-485B-AB17-207D23C9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2B4-4EDB-4C62-9B8A-26CD8CB4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16E-DD3F-45EA-A88D-4A813671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883-60EF-4EE8-B166-780239F3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1D8-777C-4CE8-8A78-8CF5E8E6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201-F23A-459D-812F-581AF26D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751-5031-4C4E-9734-2C83E084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AC8-81FF-4C27-8159-6442A2E9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CE85-2703-4CEF-BC4D-F31344E5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704F-B762-457B-AC7B-B4BC24FB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506B-2693-491F-B0CF-35527EC720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101080" y="6553080"/>
            <a:ext cx="1042920" cy="260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979640" y="1700280"/>
            <a:ext cx="71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189000"/>
          <a:ext cx="8569440" cy="6408720"/>
        </p:xfrm>
        <a:graphic>
          <a:graphicData uri="http://schemas.openxmlformats.org/drawingml/2006/table">
            <a:tbl>
              <a:tblPr/>
              <a:tblGrid>
                <a:gridCol w="2855880"/>
                <a:gridCol w="2857680"/>
                <a:gridCol w="2855880"/>
              </a:tblGrid>
              <a:tr h="21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none of the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6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22"/>
          <p:cNvSpPr/>
          <p:nvPr/>
        </p:nvSpPr>
        <p:spPr>
          <a:xfrm>
            <a:off x="8070840" y="32076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611280" y="249120"/>
            <a:ext cx="1873080" cy="21002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9"/>
          <p:cNvSpPr/>
          <p:nvPr/>
        </p:nvSpPr>
        <p:spPr>
          <a:xfrm>
            <a:off x="8104320" y="455940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30"/>
          <p:cNvSpPr/>
          <p:nvPr/>
        </p:nvSpPr>
        <p:spPr>
          <a:xfrm>
            <a:off x="2340000" y="30780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3098880" y="5013360"/>
            <a:ext cx="2768400" cy="12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3059280" y="333360"/>
            <a:ext cx="2865240" cy="1982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1"/>
          <p:cNvSpPr/>
          <p:nvPr/>
        </p:nvSpPr>
        <p:spPr>
          <a:xfrm>
            <a:off x="5222880" y="455940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4"/>
          <a:stretch/>
        </p:blipFill>
        <p:spPr>
          <a:xfrm>
            <a:off x="5924520" y="2287440"/>
            <a:ext cx="2751120" cy="2313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2"/>
          <p:cNvSpPr/>
          <p:nvPr/>
        </p:nvSpPr>
        <p:spPr>
          <a:xfrm>
            <a:off x="8083440" y="2462040"/>
            <a:ext cx="5050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33"/>
          <p:cNvSpPr/>
          <p:nvPr/>
        </p:nvSpPr>
        <p:spPr>
          <a:xfrm>
            <a:off x="5199120" y="307800"/>
            <a:ext cx="50472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34"/>
          <p:cNvSpPr/>
          <p:nvPr/>
        </p:nvSpPr>
        <p:spPr>
          <a:xfrm>
            <a:off x="5222880" y="243036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5"/>
          <a:stretch/>
        </p:blipFill>
        <p:spPr>
          <a:xfrm>
            <a:off x="571680" y="4424400"/>
            <a:ext cx="2199960" cy="2268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35"/>
          <p:cNvSpPr/>
          <p:nvPr/>
        </p:nvSpPr>
        <p:spPr>
          <a:xfrm>
            <a:off x="2341440" y="243216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36"/>
          <p:cNvSpPr/>
          <p:nvPr/>
        </p:nvSpPr>
        <p:spPr>
          <a:xfrm>
            <a:off x="2344680" y="4559400"/>
            <a:ext cx="503280" cy="764280"/>
          </a:xfrm>
          <a:prstGeom prst="rect">
            <a:avLst/>
          </a:prstGeom>
          <a:solidFill>
            <a:srgbClr val="fffffa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6"/>
          <a:stretch/>
        </p:blipFill>
        <p:spPr>
          <a:xfrm>
            <a:off x="6008760" y="401760"/>
            <a:ext cx="2546280" cy="187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7"/>
          <a:stretch/>
        </p:blipFill>
        <p:spPr>
          <a:xfrm>
            <a:off x="468360" y="2276640"/>
            <a:ext cx="2176560" cy="214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8"/>
          <a:stretch/>
        </p:blipFill>
        <p:spPr>
          <a:xfrm>
            <a:off x="6372360" y="4437000"/>
            <a:ext cx="18000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31T14:40:40Z</dcterms:modified>
  <cp:revision>195</cp:revision>
  <dc:subject/>
  <dc:title>TITLE</dc:title>
</cp:coreProperties>
</file>