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B10A-FC45-4B3F-8301-1CF4F71B1A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7041-EC7D-48E2-8625-820AB216F8C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015-D802-443B-8C91-C91BC1C1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BFD-636B-48A6-88E8-EEFCFCE9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D80-0AA8-4D43-A30C-42DAF20C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FB4-F0C2-46F8-8ECD-F6803F94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1D4-A04B-457B-AF4A-1B87B493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3D3-287E-447B-9DE5-FFF56521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878-565F-451B-B971-D79FE455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0F9-2799-43A6-8192-C1B04A4E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E527-B28B-4582-B48D-F53FF93A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34B-911E-4C57-B422-3A4E6C18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DAC-8A7D-40D8-8BD3-716C1BC6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00B-0B26-4BE5-9FA5-D7437E40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B81C-8D97-4A3E-BD9E-58A8D39D8C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101080" y="6553080"/>
            <a:ext cx="1042920" cy="2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979640" y="1700280"/>
            <a:ext cx="71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189000"/>
          <a:ext cx="8569440" cy="6408720"/>
        </p:xfrm>
        <a:graphic>
          <a:graphicData uri="http://schemas.openxmlformats.org/drawingml/2006/table">
            <a:tbl>
              <a:tblPr/>
              <a:tblGrid>
                <a:gridCol w="2855880"/>
                <a:gridCol w="2857680"/>
                <a:gridCol w="2855880"/>
              </a:tblGrid>
              <a:tr h="21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none of the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6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22"/>
          <p:cNvSpPr/>
          <p:nvPr/>
        </p:nvSpPr>
        <p:spPr>
          <a:xfrm>
            <a:off x="8070840" y="32076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611280" y="249120"/>
            <a:ext cx="1873080" cy="21002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9"/>
          <p:cNvSpPr/>
          <p:nvPr/>
        </p:nvSpPr>
        <p:spPr>
          <a:xfrm>
            <a:off x="8104320" y="455940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30"/>
          <p:cNvSpPr/>
          <p:nvPr/>
        </p:nvSpPr>
        <p:spPr>
          <a:xfrm>
            <a:off x="2340000" y="30780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3098880" y="5013360"/>
            <a:ext cx="2768400" cy="12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3059280" y="333360"/>
            <a:ext cx="2865240" cy="1982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1"/>
          <p:cNvSpPr/>
          <p:nvPr/>
        </p:nvSpPr>
        <p:spPr>
          <a:xfrm>
            <a:off x="5222880" y="455940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4"/>
          <a:stretch/>
        </p:blipFill>
        <p:spPr>
          <a:xfrm>
            <a:off x="5924520" y="2287440"/>
            <a:ext cx="2751120" cy="2313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2"/>
          <p:cNvSpPr/>
          <p:nvPr/>
        </p:nvSpPr>
        <p:spPr>
          <a:xfrm>
            <a:off x="8083440" y="2462040"/>
            <a:ext cx="5050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33"/>
          <p:cNvSpPr/>
          <p:nvPr/>
        </p:nvSpPr>
        <p:spPr>
          <a:xfrm>
            <a:off x="5199120" y="30780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34"/>
          <p:cNvSpPr/>
          <p:nvPr/>
        </p:nvSpPr>
        <p:spPr>
          <a:xfrm>
            <a:off x="5222880" y="243036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5"/>
          <a:stretch/>
        </p:blipFill>
        <p:spPr>
          <a:xfrm>
            <a:off x="571680" y="4424400"/>
            <a:ext cx="2199960" cy="2268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35"/>
          <p:cNvSpPr/>
          <p:nvPr/>
        </p:nvSpPr>
        <p:spPr>
          <a:xfrm>
            <a:off x="2341440" y="243216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36"/>
          <p:cNvSpPr/>
          <p:nvPr/>
        </p:nvSpPr>
        <p:spPr>
          <a:xfrm>
            <a:off x="2344680" y="455940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6"/>
          <a:stretch/>
        </p:blipFill>
        <p:spPr>
          <a:xfrm>
            <a:off x="6008760" y="401760"/>
            <a:ext cx="2546280" cy="187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7"/>
          <a:stretch/>
        </p:blipFill>
        <p:spPr>
          <a:xfrm>
            <a:off x="468360" y="2276640"/>
            <a:ext cx="2176560" cy="214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8"/>
          <a:stretch/>
        </p:blipFill>
        <p:spPr>
          <a:xfrm>
            <a:off x="6372360" y="4437000"/>
            <a:ext cx="18000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4:40:40Z</dcterms:modified>
  <cp:revision>195</cp:revision>
  <dc:subject/>
  <dc:title>TITLE</dc:title>
</cp:coreProperties>
</file>