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4.jpeg" ContentType="image/jpeg"/>
  <Override PartName="/ppt/media/image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C0C7-49FE-407D-8624-A3F51522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763-1B8F-4833-A917-BE12CE8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521-C3A8-4886-83B7-8D6313F9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CE9-10A0-450C-B1C6-78DC7F5F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3B6E-715D-42BE-A38B-926F42C3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C1CA-5C74-4D82-B98B-6AB947F6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9FA3-C69A-4DA9-B017-F26C384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FAC0-2D9D-4BF0-AD6A-2D28CEC3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C982-D483-4A40-95A2-AB467843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C77C-EB6B-436B-B32E-0C850FA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508C-296B-4071-91C6-7481BADA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D03-139E-430A-965F-75B3883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247D-E3EA-46F9-BE94-B84FEF0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C3A4-5E67-458E-9539-503557DB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E506-927E-4594-A635-E40EE174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E55C-C275-4DB9-8912-7E1F1256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5534-C944-4266-A5E4-5C57DD8D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65E3F-FB54-4D3D-9125-A6CB0852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A791-E104-44FE-A180-5A13B1D4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2696-6B75-439F-A95F-703046B8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53A5-7A9E-4721-BA0E-020AE527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9238-F212-4231-A8B2-B6193D1C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A9B-14B6-45BD-AB2F-6AF5C8F5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4B614-B733-41DF-AC5B-A9FCE947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9B90-1AD4-4269-B991-5C5E543C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B31C-FC97-4125-8C3E-9FE3F5BF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DA77-3BB0-4F7F-9727-1601E83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C42E-E288-4F51-9A31-0CAD03E4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F52C-620D-4DED-B59C-B4B61F65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4E71-AAFB-4F26-AACE-609B0377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5B3-FBF6-4C0E-81BC-3C39A8C1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333-A269-47F9-AE42-13FE7FF7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9CA-AD78-4558-95E5-9A6DCCC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6C8-CCC8-4FB1-A96F-0A4BD30E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AB7-A33C-4830-9285-480221B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686-EC96-4CD5-8B6C-24FE150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C8D0-E04D-40B8-8BAF-1138E81811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63B3-FD8D-44F5-8534-19D0C23701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597C-1245-4B46-81DA-F601B2071C4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De dónde 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814320"/>
          <a:ext cx="9144000" cy="6043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9" descr=""/>
          <p:cNvPicPr/>
          <p:nvPr/>
        </p:nvPicPr>
        <p:blipFill>
          <a:blip r:embed="rId1"/>
          <a:srcRect l="8061" t="0" r="17718" b="0"/>
          <a:stretch/>
        </p:blipFill>
        <p:spPr>
          <a:xfrm>
            <a:off x="4932360" y="2884320"/>
            <a:ext cx="1825560" cy="16336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2"/>
          <p:cNvSpPr/>
          <p:nvPr/>
        </p:nvSpPr>
        <p:spPr>
          <a:xfrm>
            <a:off x="258840" y="-3348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11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6340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8" descr="Kids Bagpipe Miniature Playable Bagpipe with Reed In Royal Stewart Tartan:  Amazon.co.uk: Musical Instruments"/>
          <p:cNvPicPr/>
          <p:nvPr/>
        </p:nvPicPr>
        <p:blipFill>
          <a:blip r:embed="rId2"/>
          <a:stretch/>
        </p:blipFill>
        <p:spPr>
          <a:xfrm>
            <a:off x="376200" y="824040"/>
            <a:ext cx="1755720" cy="1668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Sleken Leprechaun Figurine - Decorative Figure for St. Patrick's Day or  Everyday (Standing): Amazon.co.uk: Kitchen &amp; Home"/>
          <p:cNvPicPr/>
          <p:nvPr/>
        </p:nvPicPr>
        <p:blipFill>
          <a:blip r:embed="rId3"/>
          <a:stretch/>
        </p:blipFill>
        <p:spPr>
          <a:xfrm>
            <a:off x="3059280" y="912960"/>
            <a:ext cx="1085760" cy="18604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3"/>
          <p:cNvSpPr/>
          <p:nvPr/>
        </p:nvSpPr>
        <p:spPr>
          <a:xfrm>
            <a:off x="716040" y="122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868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16" descr=""/>
          <p:cNvPicPr/>
          <p:nvPr/>
        </p:nvPicPr>
        <p:blipFill>
          <a:blip r:embed="rId4"/>
          <a:stretch/>
        </p:blipFill>
        <p:spPr>
          <a:xfrm>
            <a:off x="270000" y="4869000"/>
            <a:ext cx="1968480" cy="1442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What to do with leeks - Healthy Food Guide"/>
          <p:cNvPicPr/>
          <p:nvPr/>
        </p:nvPicPr>
        <p:blipFill>
          <a:blip r:embed="rId5"/>
          <a:stretch/>
        </p:blipFill>
        <p:spPr>
          <a:xfrm>
            <a:off x="7667640" y="4908600"/>
            <a:ext cx="1258920" cy="18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Design Toscano The Welsh Dragon Monument-Sized Statue | Wayfair"/>
          <p:cNvPicPr/>
          <p:nvPr/>
        </p:nvPicPr>
        <p:blipFill>
          <a:blip r:embed="rId6"/>
          <a:srcRect l="0" t="10602" r="0" b="13197"/>
          <a:stretch/>
        </p:blipFill>
        <p:spPr>
          <a:xfrm>
            <a:off x="7143840" y="824040"/>
            <a:ext cx="2000160" cy="152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3" descr="Baguette"/>
          <p:cNvPicPr/>
          <p:nvPr/>
        </p:nvPicPr>
        <p:blipFill>
          <a:blip r:embed="rId7"/>
          <a:srcRect l="0" t="9293" r="0" b="6609"/>
          <a:stretch/>
        </p:blipFill>
        <p:spPr>
          <a:xfrm>
            <a:off x="344520" y="2881440"/>
            <a:ext cx="1893960" cy="1195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"/>
          <p:cNvPicPr/>
          <p:nvPr/>
        </p:nvPicPr>
        <p:blipFill>
          <a:blip r:embed="rId8"/>
          <a:srcRect l="17241" t="5444" r="8510" b="10802"/>
          <a:stretch/>
        </p:blipFill>
        <p:spPr>
          <a:xfrm>
            <a:off x="4978440" y="4873680"/>
            <a:ext cx="177948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8" descr="Swind E electric classic Mini on sale from £79,000 | Autocar"/>
          <p:cNvPicPr/>
          <p:nvPr/>
        </p:nvPicPr>
        <p:blipFill>
          <a:blip r:embed="rId9"/>
          <a:srcRect l="6961" t="21357" r="12393" b="0"/>
          <a:stretch/>
        </p:blipFill>
        <p:spPr>
          <a:xfrm>
            <a:off x="4602240" y="1206360"/>
            <a:ext cx="2201760" cy="143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0" descr="In-principle agreement announced to bring Worcester City Football Club home  - Worcester City Council - Worcester City Council"/>
          <p:cNvPicPr/>
          <p:nvPr/>
        </p:nvPicPr>
        <p:blipFill>
          <a:blip r:embed="rId10"/>
          <a:srcRect l="10244" t="12246" r="42581" b="15185"/>
          <a:stretch/>
        </p:blipFill>
        <p:spPr>
          <a:xfrm>
            <a:off x="7143840" y="2884320"/>
            <a:ext cx="1865160" cy="149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01 Paella Valenciana original.jpg"/>
          <p:cNvPicPr/>
          <p:nvPr/>
        </p:nvPicPr>
        <p:blipFill>
          <a:blip r:embed="rId11"/>
          <a:stretch/>
        </p:blipFill>
        <p:spPr>
          <a:xfrm>
            <a:off x="2340000" y="3213000"/>
            <a:ext cx="217008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4" descr=""/>
          <p:cNvPicPr/>
          <p:nvPr/>
        </p:nvPicPr>
        <p:blipFill>
          <a:blip r:embed="rId12"/>
          <a:srcRect l="23395" t="0" r="21197" b="21067"/>
          <a:stretch/>
        </p:blipFill>
        <p:spPr>
          <a:xfrm>
            <a:off x="3132000" y="4881600"/>
            <a:ext cx="13780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De dónde 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814320"/>
          <a:ext cx="9144000" cy="6043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9" descr=""/>
          <p:cNvPicPr/>
          <p:nvPr/>
        </p:nvPicPr>
        <p:blipFill>
          <a:blip r:embed="rId1"/>
          <a:srcRect l="8061" t="0" r="17718" b="0"/>
          <a:stretch/>
        </p:blipFill>
        <p:spPr>
          <a:xfrm>
            <a:off x="4932360" y="2884320"/>
            <a:ext cx="1825560" cy="16336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2"/>
          <p:cNvSpPr/>
          <p:nvPr/>
        </p:nvSpPr>
        <p:spPr>
          <a:xfrm>
            <a:off x="258840" y="-3348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11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56340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8" descr="Kids Bagpipe Miniature Playable Bagpipe with Reed In Royal Stewart Tartan:  Amazon.co.uk: Musical Instruments"/>
          <p:cNvPicPr/>
          <p:nvPr/>
        </p:nvPicPr>
        <p:blipFill>
          <a:blip r:embed="rId2"/>
          <a:stretch/>
        </p:blipFill>
        <p:spPr>
          <a:xfrm>
            <a:off x="376200" y="824040"/>
            <a:ext cx="1755720" cy="166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Sleken Leprechaun Figurine - Decorative Figure for St. Patrick's Day or  Everyday (Standing): Amazon.co.uk: Kitchen &amp; Home"/>
          <p:cNvPicPr/>
          <p:nvPr/>
        </p:nvPicPr>
        <p:blipFill>
          <a:blip r:embed="rId3"/>
          <a:stretch/>
        </p:blipFill>
        <p:spPr>
          <a:xfrm>
            <a:off x="3059280" y="912960"/>
            <a:ext cx="1085760" cy="18604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3"/>
          <p:cNvSpPr/>
          <p:nvPr/>
        </p:nvSpPr>
        <p:spPr>
          <a:xfrm>
            <a:off x="716040" y="122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868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6" descr=""/>
          <p:cNvPicPr/>
          <p:nvPr/>
        </p:nvPicPr>
        <p:blipFill>
          <a:blip r:embed="rId4"/>
          <a:stretch/>
        </p:blipFill>
        <p:spPr>
          <a:xfrm>
            <a:off x="270000" y="4869000"/>
            <a:ext cx="1968480" cy="1442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What to do with leeks - Healthy Food Guide"/>
          <p:cNvPicPr/>
          <p:nvPr/>
        </p:nvPicPr>
        <p:blipFill>
          <a:blip r:embed="rId5"/>
          <a:stretch/>
        </p:blipFill>
        <p:spPr>
          <a:xfrm>
            <a:off x="7667640" y="4908600"/>
            <a:ext cx="1258920" cy="1881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1" descr="Design Toscano The Welsh Dragon Monument-Sized Statue | Wayfair"/>
          <p:cNvPicPr/>
          <p:nvPr/>
        </p:nvPicPr>
        <p:blipFill>
          <a:blip r:embed="rId6"/>
          <a:srcRect l="0" t="10602" r="0" b="13197"/>
          <a:stretch/>
        </p:blipFill>
        <p:spPr>
          <a:xfrm>
            <a:off x="7143840" y="824040"/>
            <a:ext cx="2000160" cy="1525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Baguette"/>
          <p:cNvPicPr/>
          <p:nvPr/>
        </p:nvPicPr>
        <p:blipFill>
          <a:blip r:embed="rId7"/>
          <a:srcRect l="0" t="9293" r="0" b="6609"/>
          <a:stretch/>
        </p:blipFill>
        <p:spPr>
          <a:xfrm>
            <a:off x="344520" y="2881440"/>
            <a:ext cx="1893960" cy="11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6" descr=""/>
          <p:cNvPicPr/>
          <p:nvPr/>
        </p:nvPicPr>
        <p:blipFill>
          <a:blip r:embed="rId8"/>
          <a:srcRect l="17241" t="5444" r="8510" b="10802"/>
          <a:stretch/>
        </p:blipFill>
        <p:spPr>
          <a:xfrm>
            <a:off x="4978440" y="4873680"/>
            <a:ext cx="1779480" cy="150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Swind E electric classic Mini on sale from £79,000 | Autocar"/>
          <p:cNvPicPr/>
          <p:nvPr/>
        </p:nvPicPr>
        <p:blipFill>
          <a:blip r:embed="rId9"/>
          <a:srcRect l="6961" t="21357" r="12393" b="0"/>
          <a:stretch/>
        </p:blipFill>
        <p:spPr>
          <a:xfrm>
            <a:off x="4602240" y="1206360"/>
            <a:ext cx="2201760" cy="143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0" descr="In-principle agreement announced to bring Worcester City Football Club home  - Worcester City Council - Worcester City Council"/>
          <p:cNvPicPr/>
          <p:nvPr/>
        </p:nvPicPr>
        <p:blipFill>
          <a:blip r:embed="rId10"/>
          <a:srcRect l="10244" t="12246" r="42581" b="15185"/>
          <a:stretch/>
        </p:blipFill>
        <p:spPr>
          <a:xfrm>
            <a:off x="7143840" y="2884320"/>
            <a:ext cx="1865160" cy="1490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2" descr="01 Paella Valenciana original.jpg"/>
          <p:cNvPicPr/>
          <p:nvPr/>
        </p:nvPicPr>
        <p:blipFill>
          <a:blip r:embed="rId11"/>
          <a:stretch/>
        </p:blipFill>
        <p:spPr>
          <a:xfrm>
            <a:off x="2340000" y="3213000"/>
            <a:ext cx="2170080" cy="1447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4" descr=""/>
          <p:cNvPicPr/>
          <p:nvPr/>
        </p:nvPicPr>
        <p:blipFill>
          <a:blip r:embed="rId12"/>
          <a:srcRect l="23395" t="0" r="21197" b="21067"/>
          <a:stretch/>
        </p:blipFill>
        <p:spPr>
          <a:xfrm>
            <a:off x="3132000" y="4881600"/>
            <a:ext cx="1378080" cy="19652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34920" y="234936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Escoc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2340000" y="234936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Irlan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4602240" y="2349360"/>
            <a:ext cx="220320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Inglaterr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6940440" y="234936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Ga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5"/>
          <p:cNvSpPr/>
          <p:nvPr/>
        </p:nvSpPr>
        <p:spPr>
          <a:xfrm>
            <a:off x="34920" y="4397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Franc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2340000" y="4397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Españ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7"/>
          <p:cNvSpPr/>
          <p:nvPr/>
        </p:nvSpPr>
        <p:spPr>
          <a:xfrm>
            <a:off x="4602240" y="4397400"/>
            <a:ext cx="220320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Escoc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6940440" y="4397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Inglaterr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34920" y="6413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Irlan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30"/>
          <p:cNvSpPr/>
          <p:nvPr/>
        </p:nvSpPr>
        <p:spPr>
          <a:xfrm>
            <a:off x="2340000" y="6413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Españ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4602240" y="6413400"/>
            <a:ext cx="220320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Franc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32"/>
          <p:cNvSpPr/>
          <p:nvPr/>
        </p:nvSpPr>
        <p:spPr>
          <a:xfrm>
            <a:off x="6940440" y="6413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Ga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5:31Z</dcterms:modified>
  <cp:revision>404</cp:revision>
  <dc:subject/>
  <dc:title>TITLE</dc:title>
</cp:coreProperties>
</file>