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4.jpeg" ContentType="image/jpeg"/>
  <Override PartName="/ppt/media/image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B12-94A2-45D6-969F-50EA8AD3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A2C-4865-4FAA-89F0-290D80A6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36E-CF6B-49B5-B5D7-6BD9C59E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4B3-AD77-48A5-B3C5-02AEA8A4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0760-58DB-40B5-94AC-54458B47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D77F-B3C0-4D19-8E11-7E53304D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85F3-DBE5-4CF0-9A13-C4695FF1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845D-C99E-4969-883A-37B76AAE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A61A-3577-451E-AD2E-BE80722C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C8A9-6455-47EA-84FF-004A584B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F94D-318B-4033-8F7B-24520CE8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843-EBF5-4540-AFA0-C6121D77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B93E-A688-4479-8B69-F88AB43A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5EB8-90C7-43AD-A855-CA6FD893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B1CE-410D-4435-B349-ECF709C1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0277-50EB-4F2E-A1DD-FD4A5AAA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9089-5266-477D-AB1F-0545DB1B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01B31-D041-492C-831A-AA76EE8E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7A6C-F3FC-42F6-9E95-C2EE3C99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D60D8-B21E-4A1C-A4E5-0C6F6F7D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B5E7-2512-49A5-A1C6-4D4FDCBE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336A-4316-4405-9D0F-AA05C9A5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EBE-BC7E-48DA-AEB9-E6DCC099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7EBC1-2D4C-4439-8684-D1B891DB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66012-1F30-4ADE-BC34-C9663FA1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63B0-1B0E-45F5-B9E6-9CBA774B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26677-E556-44E7-BC68-86687210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BFCEB-5E41-4AD2-9012-05C95B74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393C9-D8A9-4E54-9D76-A6A702CC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96822-7EAD-4926-8F10-118D7F19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E6A-DCFE-4F09-83E5-B2C2847C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56C-87CF-4136-A603-1C021491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7A4-FAB5-4356-927B-9A5D852E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E74C-52C9-47C3-8D8A-0F42BC61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4FC-A991-47B7-83FE-6BDD42B8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E67-6264-494B-A259-406F95F3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D769-66EB-45E3-8EC1-78CD2D88108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2E8E-8918-4A4A-AEED-00B515F3E3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3E6E-E84C-41E9-8AA4-632D7233E23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0" y="-27000"/>
            <a:ext cx="9144000" cy="7642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De dónde 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814320"/>
          <a:ext cx="9144000" cy="60436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01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6" name="Picture 9" descr=""/>
          <p:cNvPicPr/>
          <p:nvPr/>
        </p:nvPicPr>
        <p:blipFill>
          <a:blip r:embed="rId1"/>
          <a:srcRect l="8061" t="0" r="17718" b="0"/>
          <a:stretch/>
        </p:blipFill>
        <p:spPr>
          <a:xfrm>
            <a:off x="4932360" y="2884320"/>
            <a:ext cx="1825560" cy="16336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2"/>
          <p:cNvSpPr/>
          <p:nvPr/>
        </p:nvSpPr>
        <p:spPr>
          <a:xfrm>
            <a:off x="258840" y="-3348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11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63400" y="-30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8" descr="Kids Bagpipe Miniature Playable Bagpipe with Reed In Royal Stewart Tartan:  Amazon.co.uk: Musical Instruments"/>
          <p:cNvPicPr/>
          <p:nvPr/>
        </p:nvPicPr>
        <p:blipFill>
          <a:blip r:embed="rId2"/>
          <a:stretch/>
        </p:blipFill>
        <p:spPr>
          <a:xfrm>
            <a:off x="376200" y="824040"/>
            <a:ext cx="1755720" cy="1668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Sleken Leprechaun Figurine - Decorative Figure for St. Patrick's Day or  Everyday (Standing): Amazon.co.uk: Kitchen &amp; Home"/>
          <p:cNvPicPr/>
          <p:nvPr/>
        </p:nvPicPr>
        <p:blipFill>
          <a:blip r:embed="rId3"/>
          <a:stretch/>
        </p:blipFill>
        <p:spPr>
          <a:xfrm>
            <a:off x="3059280" y="912960"/>
            <a:ext cx="1085760" cy="18604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3"/>
          <p:cNvSpPr/>
          <p:nvPr/>
        </p:nvSpPr>
        <p:spPr>
          <a:xfrm>
            <a:off x="716040" y="1224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868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16" descr=""/>
          <p:cNvPicPr/>
          <p:nvPr/>
        </p:nvPicPr>
        <p:blipFill>
          <a:blip r:embed="rId4"/>
          <a:stretch/>
        </p:blipFill>
        <p:spPr>
          <a:xfrm>
            <a:off x="270000" y="4869000"/>
            <a:ext cx="1968480" cy="1442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What to do with leeks - Healthy Food Guide"/>
          <p:cNvPicPr/>
          <p:nvPr/>
        </p:nvPicPr>
        <p:blipFill>
          <a:blip r:embed="rId5"/>
          <a:stretch/>
        </p:blipFill>
        <p:spPr>
          <a:xfrm>
            <a:off x="7667640" y="4908600"/>
            <a:ext cx="1258920" cy="18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Design Toscano The Welsh Dragon Monument-Sized Statue | Wayfair"/>
          <p:cNvPicPr/>
          <p:nvPr/>
        </p:nvPicPr>
        <p:blipFill>
          <a:blip r:embed="rId6"/>
          <a:srcRect l="0" t="10602" r="0" b="13197"/>
          <a:stretch/>
        </p:blipFill>
        <p:spPr>
          <a:xfrm>
            <a:off x="7143840" y="824040"/>
            <a:ext cx="2000160" cy="1525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3" descr="Baguette"/>
          <p:cNvPicPr/>
          <p:nvPr/>
        </p:nvPicPr>
        <p:blipFill>
          <a:blip r:embed="rId7"/>
          <a:srcRect l="0" t="9293" r="0" b="6609"/>
          <a:stretch/>
        </p:blipFill>
        <p:spPr>
          <a:xfrm>
            <a:off x="344520" y="2881440"/>
            <a:ext cx="1893960" cy="1195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6" descr=""/>
          <p:cNvPicPr/>
          <p:nvPr/>
        </p:nvPicPr>
        <p:blipFill>
          <a:blip r:embed="rId8"/>
          <a:srcRect l="17241" t="5444" r="8510" b="10802"/>
          <a:stretch/>
        </p:blipFill>
        <p:spPr>
          <a:xfrm>
            <a:off x="4978440" y="4873680"/>
            <a:ext cx="177948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8" descr="Swind E electric classic Mini on sale from £79,000 | Autocar"/>
          <p:cNvPicPr/>
          <p:nvPr/>
        </p:nvPicPr>
        <p:blipFill>
          <a:blip r:embed="rId9"/>
          <a:srcRect l="6961" t="21357" r="12393" b="0"/>
          <a:stretch/>
        </p:blipFill>
        <p:spPr>
          <a:xfrm>
            <a:off x="4602240" y="1206360"/>
            <a:ext cx="2201760" cy="1430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0" descr="In-principle agreement announced to bring Worcester City Football Club home  - Worcester City Council - Worcester City Council"/>
          <p:cNvPicPr/>
          <p:nvPr/>
        </p:nvPicPr>
        <p:blipFill>
          <a:blip r:embed="rId10"/>
          <a:srcRect l="10244" t="12246" r="42581" b="15185"/>
          <a:stretch/>
        </p:blipFill>
        <p:spPr>
          <a:xfrm>
            <a:off x="7143840" y="2884320"/>
            <a:ext cx="1865160" cy="149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01 Paella Valenciana original.jpg"/>
          <p:cNvPicPr/>
          <p:nvPr/>
        </p:nvPicPr>
        <p:blipFill>
          <a:blip r:embed="rId11"/>
          <a:stretch/>
        </p:blipFill>
        <p:spPr>
          <a:xfrm>
            <a:off x="2340000" y="3213000"/>
            <a:ext cx="217008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4" descr=""/>
          <p:cNvPicPr/>
          <p:nvPr/>
        </p:nvPicPr>
        <p:blipFill>
          <a:blip r:embed="rId12"/>
          <a:srcRect l="23395" t="0" r="21197" b="21067"/>
          <a:stretch/>
        </p:blipFill>
        <p:spPr>
          <a:xfrm>
            <a:off x="3132000" y="4881600"/>
            <a:ext cx="13780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0" y="-27000"/>
            <a:ext cx="9144000" cy="7642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De dónde 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814320"/>
          <a:ext cx="9144000" cy="60436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01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6" name="Picture 9" descr=""/>
          <p:cNvPicPr/>
          <p:nvPr/>
        </p:nvPicPr>
        <p:blipFill>
          <a:blip r:embed="rId1"/>
          <a:srcRect l="8061" t="0" r="17718" b="0"/>
          <a:stretch/>
        </p:blipFill>
        <p:spPr>
          <a:xfrm>
            <a:off x="4932360" y="2884320"/>
            <a:ext cx="1825560" cy="16336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2"/>
          <p:cNvSpPr/>
          <p:nvPr/>
        </p:nvSpPr>
        <p:spPr>
          <a:xfrm>
            <a:off x="258840" y="-3348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11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563400" y="-30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8" descr="Kids Bagpipe Miniature Playable Bagpipe with Reed In Royal Stewart Tartan:  Amazon.co.uk: Musical Instruments"/>
          <p:cNvPicPr/>
          <p:nvPr/>
        </p:nvPicPr>
        <p:blipFill>
          <a:blip r:embed="rId2"/>
          <a:stretch/>
        </p:blipFill>
        <p:spPr>
          <a:xfrm>
            <a:off x="376200" y="824040"/>
            <a:ext cx="1755720" cy="1668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Sleken Leprechaun Figurine - Decorative Figure for St. Patrick's Day or  Everyday (Standing): Amazon.co.uk: Kitchen &amp; Home"/>
          <p:cNvPicPr/>
          <p:nvPr/>
        </p:nvPicPr>
        <p:blipFill>
          <a:blip r:embed="rId3"/>
          <a:stretch/>
        </p:blipFill>
        <p:spPr>
          <a:xfrm>
            <a:off x="3059280" y="912960"/>
            <a:ext cx="1085760" cy="186048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3"/>
          <p:cNvSpPr/>
          <p:nvPr/>
        </p:nvSpPr>
        <p:spPr>
          <a:xfrm>
            <a:off x="716040" y="1224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868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16" descr=""/>
          <p:cNvPicPr/>
          <p:nvPr/>
        </p:nvPicPr>
        <p:blipFill>
          <a:blip r:embed="rId4"/>
          <a:stretch/>
        </p:blipFill>
        <p:spPr>
          <a:xfrm>
            <a:off x="270000" y="4869000"/>
            <a:ext cx="1968480" cy="1442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What to do with leeks - Healthy Food Guide"/>
          <p:cNvPicPr/>
          <p:nvPr/>
        </p:nvPicPr>
        <p:blipFill>
          <a:blip r:embed="rId5"/>
          <a:stretch/>
        </p:blipFill>
        <p:spPr>
          <a:xfrm>
            <a:off x="7667640" y="4908600"/>
            <a:ext cx="1258920" cy="1881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1" descr="Design Toscano The Welsh Dragon Monument-Sized Statue | Wayfair"/>
          <p:cNvPicPr/>
          <p:nvPr/>
        </p:nvPicPr>
        <p:blipFill>
          <a:blip r:embed="rId6"/>
          <a:srcRect l="0" t="10602" r="0" b="13197"/>
          <a:stretch/>
        </p:blipFill>
        <p:spPr>
          <a:xfrm>
            <a:off x="7143840" y="824040"/>
            <a:ext cx="2000160" cy="1525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Baguette"/>
          <p:cNvPicPr/>
          <p:nvPr/>
        </p:nvPicPr>
        <p:blipFill>
          <a:blip r:embed="rId7"/>
          <a:srcRect l="0" t="9293" r="0" b="6609"/>
          <a:stretch/>
        </p:blipFill>
        <p:spPr>
          <a:xfrm>
            <a:off x="344520" y="2881440"/>
            <a:ext cx="1893960" cy="11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6" descr=""/>
          <p:cNvPicPr/>
          <p:nvPr/>
        </p:nvPicPr>
        <p:blipFill>
          <a:blip r:embed="rId8"/>
          <a:srcRect l="17241" t="5444" r="8510" b="10802"/>
          <a:stretch/>
        </p:blipFill>
        <p:spPr>
          <a:xfrm>
            <a:off x="4978440" y="4873680"/>
            <a:ext cx="1779480" cy="1504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Swind E electric classic Mini on sale from £79,000 | Autocar"/>
          <p:cNvPicPr/>
          <p:nvPr/>
        </p:nvPicPr>
        <p:blipFill>
          <a:blip r:embed="rId9"/>
          <a:srcRect l="6961" t="21357" r="12393" b="0"/>
          <a:stretch/>
        </p:blipFill>
        <p:spPr>
          <a:xfrm>
            <a:off x="4602240" y="1206360"/>
            <a:ext cx="2201760" cy="1430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0" descr="In-principle agreement announced to bring Worcester City Football Club home  - Worcester City Council - Worcester City Council"/>
          <p:cNvPicPr/>
          <p:nvPr/>
        </p:nvPicPr>
        <p:blipFill>
          <a:blip r:embed="rId10"/>
          <a:srcRect l="10244" t="12246" r="42581" b="15185"/>
          <a:stretch/>
        </p:blipFill>
        <p:spPr>
          <a:xfrm>
            <a:off x="7143840" y="2884320"/>
            <a:ext cx="1865160" cy="1490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2" descr="01 Paella Valenciana original.jpg"/>
          <p:cNvPicPr/>
          <p:nvPr/>
        </p:nvPicPr>
        <p:blipFill>
          <a:blip r:embed="rId11"/>
          <a:stretch/>
        </p:blipFill>
        <p:spPr>
          <a:xfrm>
            <a:off x="2340000" y="3213000"/>
            <a:ext cx="2170080" cy="1447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4" descr=""/>
          <p:cNvPicPr/>
          <p:nvPr/>
        </p:nvPicPr>
        <p:blipFill>
          <a:blip r:embed="rId12"/>
          <a:srcRect l="23395" t="0" r="21197" b="21067"/>
          <a:stretch/>
        </p:blipFill>
        <p:spPr>
          <a:xfrm>
            <a:off x="3132000" y="4881600"/>
            <a:ext cx="1378080" cy="19652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8"/>
          <p:cNvSpPr/>
          <p:nvPr/>
        </p:nvSpPr>
        <p:spPr>
          <a:xfrm>
            <a:off x="34920" y="234936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Escoci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2340000" y="234936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Irland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4602240" y="2349360"/>
            <a:ext cx="220320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Inglaterr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24"/>
          <p:cNvSpPr/>
          <p:nvPr/>
        </p:nvSpPr>
        <p:spPr>
          <a:xfrm>
            <a:off x="6940440" y="234936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Ga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25"/>
          <p:cNvSpPr/>
          <p:nvPr/>
        </p:nvSpPr>
        <p:spPr>
          <a:xfrm>
            <a:off x="34920" y="439740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Franci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26"/>
          <p:cNvSpPr/>
          <p:nvPr/>
        </p:nvSpPr>
        <p:spPr>
          <a:xfrm>
            <a:off x="2340000" y="439740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Españ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27"/>
          <p:cNvSpPr/>
          <p:nvPr/>
        </p:nvSpPr>
        <p:spPr>
          <a:xfrm>
            <a:off x="4602240" y="4397400"/>
            <a:ext cx="220320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Escoci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6940440" y="439740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Inglaterr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34920" y="641340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Irland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30"/>
          <p:cNvSpPr/>
          <p:nvPr/>
        </p:nvSpPr>
        <p:spPr>
          <a:xfrm>
            <a:off x="2340000" y="641340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Españ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31"/>
          <p:cNvSpPr/>
          <p:nvPr/>
        </p:nvSpPr>
        <p:spPr>
          <a:xfrm>
            <a:off x="4602240" y="6413400"/>
            <a:ext cx="220320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Franci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32"/>
          <p:cNvSpPr/>
          <p:nvPr/>
        </p:nvSpPr>
        <p:spPr>
          <a:xfrm>
            <a:off x="6940440" y="6413400"/>
            <a:ext cx="22035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de Ga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3:05:31Z</dcterms:modified>
  <cp:revision>404</cp:revision>
  <dc:subject/>
  <dc:title>TITLE</dc:title>
</cp:coreProperties>
</file>