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CE54-775F-4C48-87E0-5F36A87A47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53ED-9864-4A48-AE3D-FCC5C5678A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973-461D-4D82-B469-1B1558C4C9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3EBA-B71D-48A4-8DA2-2386BD39D1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909-2B99-47B3-9B6B-3BE97E09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228-5969-4EBE-8E3D-D083D39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EA1-583E-48D6-9068-AFA82C94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B95-BD13-4866-AC01-3B2040B0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1B7-F798-4585-97D6-5EE67BB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806-A7E4-4C9F-AA57-F09C60D9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98A-3CDC-4A2E-8174-7E10BD14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516-D12A-4AA9-8F39-6492ACC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B18-9A0A-4DC9-8C10-3949496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AF8-8320-446D-82A1-826DAD4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FE6-2DA1-4CCC-BC4C-E6DC7F7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9BF-F504-4107-ABE0-E42430D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9354-BE68-40D6-AD5D-F5C3432471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89440" cy="4472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jueves el dieciocho de ener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 el 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483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rei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537372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ma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0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7"/>
                </a:solidFill>
                <a:latin typeface="Comic Sans MS"/>
              </a:rPr>
              <a:t>_____ el_______ de _____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7372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dom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5373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veintio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537372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633744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1-01-31T09:18:56Z</dcterms:modified>
  <cp:revision>113</cp:revision>
  <dc:subject/>
  <dc:title>TITLE</dc:title>
</cp:coreProperties>
</file>