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AEC7-7E91-4D9E-B2E3-793949E00F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DF3E-5B0F-4443-AEBA-A6DE2B6BF5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5604-E107-4C38-BF42-C1B902448A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8E71-BC7E-4D66-A59D-DEFCF34088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F37-8414-4929-81A1-8BC17D64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794-BA5C-4494-949E-B2CD114D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056-14A0-4BBF-AEB6-3274C7CA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160-4875-461D-BF14-2F421E28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272-CBE7-4065-A94D-0F31AAC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91E-3480-4AB6-82A4-11488E95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505-2493-4CA2-9090-F3EA2A0C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BFB-9243-4D95-8575-305EFE09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362-3B80-4732-A127-00F995F6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6E6-E493-4812-973B-23BFDBA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1D0-4970-44A7-8735-D576931D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83F-D89F-4982-9C44-97F42AC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8589-3361-4A26-BC32-2C4F17BD17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89440" cy="4472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jueves el dieciocho de ener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 el __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483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a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rei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a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_ el__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7372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omi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5373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eintio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5373720"/>
            <a:ext cx="23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octu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633744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18:56Z</dcterms:modified>
  <cp:revision>113</cp:revision>
  <dc:subject/>
  <dc:title>TITLE</dc:title>
</cp:coreProperties>
</file>