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3DDA-2CD1-47CB-9E35-FBC0382FE7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99DD-4EE0-47E5-8C60-2296F2D65A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DDD5-57B7-41CC-BB2B-A9A7C00FF1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E3B-76CE-4614-890E-FEA2FFD0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7CD-71CB-4029-80DF-0896A338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0B6-80D5-4130-81AF-65AB79E1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D7A-2619-47F5-BA56-AEEC3E57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299-FA23-40E0-92C8-625C7AF1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A64-D13B-462E-9069-F8B4C6D4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3B0-336F-4105-A1C1-9A4ABB70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A68-839E-4C7A-8CAA-FE0B5BBB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3D4-9332-4337-91AC-063ACB81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CD6-1B5B-4B4A-AC65-F48966B4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652-E4AD-4EF8-AE19-51BFCBB5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E44-89FC-4F49-BA5F-E23EB80D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230A-E314-4633-A287-7A89EA0D2A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42920" y="1125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2000" y="6093000"/>
            <a:ext cx="122400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6308640"/>
            <a:ext cx="1871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zm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1197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zm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6278400"/>
            <a:ext cx="1871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e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162864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e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6278400"/>
            <a:ext cx="187164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iras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133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iras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6278400"/>
            <a:ext cx="1871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170028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6278400"/>
            <a:ext cx="1871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fi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637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fi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6278400"/>
            <a:ext cx="1871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r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1557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r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rga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12682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rga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imn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314172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imn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r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3716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r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d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24000" y="256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d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e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69228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e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 ja 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00360" y="62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 ja 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364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ig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24360" y="1773360"/>
            <a:ext cx="115272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ig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364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3141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51640" y="5516640"/>
            <a:ext cx="144000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328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gi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0920" y="35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gi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i ji 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4292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i ji 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627840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iraf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4149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iraf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7080" y="1773360"/>
            <a:ext cx="10810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ose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486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ose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1636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234936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bu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5300640"/>
            <a:ext cx="13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bu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g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2133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g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6278400"/>
            <a:ext cx="20872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gu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2708280"/>
            <a:ext cx="208764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gu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6278400"/>
            <a:ext cx="252072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uxembur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2924280"/>
            <a:ext cx="2521080" cy="1068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uxembur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6278400"/>
            <a:ext cx="252072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Án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4653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Án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71640" y="6278400"/>
            <a:ext cx="25210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 ll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 ll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6278400"/>
            <a:ext cx="252072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ci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5013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ci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6278400"/>
            <a:ext cx="252072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6000" y="3500280"/>
            <a:ext cx="136836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6278400"/>
            <a:ext cx="252072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2602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6278400"/>
            <a:ext cx="25210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ngi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33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ngi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87640" y="6278400"/>
            <a:ext cx="25210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ug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4076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ug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6278400"/>
            <a:ext cx="25210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e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2133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ue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6278400"/>
            <a:ext cx="252108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92720" y="4581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6278400"/>
            <a:ext cx="2520720" cy="581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g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5013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g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09:38Z</dcterms:modified>
  <cp:revision>126</cp:revision>
  <dc:subject/>
  <dc:title>TITLE</dc:title>
</cp:coreProperties>
</file>