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3A53-5D6A-4B54-9F96-C36B046D257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11A7-9019-4BEA-A789-EA0D45E702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D5B4-C875-48B6-9980-A7F997EFDD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D294-90DD-4B9F-AA47-46950407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E9F6-85FD-485D-BCA8-558875D1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963D-63D9-44AF-B393-109CD8C0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0D0E-06F3-4202-BE4D-E90418FA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3F6-9738-461F-BBE2-96383456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25FA-F8A9-4A47-8E34-19CA16BE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AB75-18FE-44B3-8BA3-434A861D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6D8F-1657-408D-8864-405ADB26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6DF8-FE4E-4BC3-88FC-B83ED858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488-CE39-4AF5-B1BF-BC0EAAC2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D76-F766-42AE-9494-4ACEE514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7632-F056-405A-B1AD-530D0047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DA62-168B-4C38-AE9D-F1C088C16BE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42920" y="1125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32000" y="6093000"/>
            <a:ext cx="122400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6308640"/>
            <a:ext cx="1871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zm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1197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zm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6278400"/>
            <a:ext cx="1871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e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162864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e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6278400"/>
            <a:ext cx="18716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iras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2133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iras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48000" y="6278400"/>
            <a:ext cx="1871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170028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6278400"/>
            <a:ext cx="1871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sfi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2637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sfi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6278400"/>
            <a:ext cx="1871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r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1557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r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6278400"/>
            <a:ext cx="20872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rgar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126828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rgar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5280" y="6278400"/>
            <a:ext cx="2087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imn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3141720"/>
            <a:ext cx="2087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imn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360" y="6278400"/>
            <a:ext cx="2087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r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3716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r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6278400"/>
            <a:ext cx="20872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ud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24000" y="2565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ud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6278400"/>
            <a:ext cx="2087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e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69228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e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6278400"/>
            <a:ext cx="2087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 ja 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00360" y="620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 ja 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3640" y="6278400"/>
            <a:ext cx="2087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ig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24360" y="1773360"/>
            <a:ext cx="115272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ig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3640" y="6278400"/>
            <a:ext cx="2087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3141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6278400"/>
            <a:ext cx="20872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51640" y="5516640"/>
            <a:ext cx="144000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43280" y="6278400"/>
            <a:ext cx="2087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gip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0920" y="35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gip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6278400"/>
            <a:ext cx="2087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i ji 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4292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i ji 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43280" y="6278400"/>
            <a:ext cx="2087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iraf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4149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iraf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16360" y="6278400"/>
            <a:ext cx="20872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77080" y="1773360"/>
            <a:ext cx="10810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6278400"/>
            <a:ext cx="20872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ose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03280" y="4869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ose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16360" y="6278400"/>
            <a:ext cx="20872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6000" y="2349360"/>
            <a:ext cx="2087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59280" y="6278400"/>
            <a:ext cx="20872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bu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5300640"/>
            <a:ext cx="13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bu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59280" y="6278400"/>
            <a:ext cx="20872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ug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2133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ug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59280" y="6278400"/>
            <a:ext cx="20872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ugu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2708280"/>
            <a:ext cx="2087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ugu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6278400"/>
            <a:ext cx="252072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uxembur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2924280"/>
            <a:ext cx="252108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uxembur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43280" y="6278400"/>
            <a:ext cx="252072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Án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4653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Án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71640" y="6278400"/>
            <a:ext cx="25210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 lla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 lla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6360" y="6278400"/>
            <a:ext cx="252072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ci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27280" y="5013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ci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6278400"/>
            <a:ext cx="252072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g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6000" y="3500280"/>
            <a:ext cx="136836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g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6278400"/>
            <a:ext cx="252072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2602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6278400"/>
            <a:ext cx="25210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ngi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33336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ngi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87640" y="6278400"/>
            <a:ext cx="25210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ug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4076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ug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6278400"/>
            <a:ext cx="25210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ue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2133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ue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6278400"/>
            <a:ext cx="25210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92720" y="4581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6278400"/>
            <a:ext cx="252072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g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5013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g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2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1-19T22:09:38Z</dcterms:modified>
  <cp:revision>126</cp:revision>
  <dc:subject/>
  <dc:title>TITLE</dc:title>
</cp:coreProperties>
</file>