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6379-1E90-4DC8-869F-968C5051EE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5400-E978-4D9D-8C28-5A656D2C65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ED3B-B5D7-4F8A-BD49-474BD9030D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212E-344C-4BB7-BD32-8260D55493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D6D2-1458-4355-AD34-A79B53F61D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CE23-8153-41FB-88E8-C96C53E1D6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E1F2-AF90-4D3D-B689-373D943F87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4D39-7D3E-4E7C-9B53-ADCA282612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FF9-B776-48D3-9DDB-583EDDF2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277-A281-4137-BC17-460AF731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AB9-3B92-4D9D-AFEF-6113D0F7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679-FD7E-4BE8-A5C9-5525AD15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2611-8970-4A9E-90E6-2F8B8C8D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1E82-291C-45FE-B6BF-A269B343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2B2B-2039-4411-B318-527619C5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F34E-6541-437D-9A3D-D9536DBF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CE1E-1469-4162-A658-9FFAEC7A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5046-DE6A-494A-B5BE-3DC899BA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2E75-F676-40BA-BBEE-280BBF85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CFC-D4E7-4921-B6E6-E9A55E2F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DB0A-4D85-4ACD-A874-56AF25C9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1704-5685-4F78-9003-390DF911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3D88-A4BB-4FE8-B867-36D7DDD1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CFAA-A49A-4CBC-AA52-D2CE96E8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2CFB-A169-4679-AEB8-69BC4686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AA24-1DE5-46FA-9094-DC7AF7BF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47E73-E2B5-43CF-BA06-5579AABF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08BB-1D8A-45FB-8DAE-299B3C05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EF56-0C1A-4F8F-85B7-46656F7A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F3CE-EB56-4130-9C4F-AB3F4CD8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5DA-11F1-4B4A-B457-80C08F35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FEED2-CFA5-473A-9EE8-1A8F9785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16CDB-3744-4C89-91A7-7D569E7D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A4A7C-5087-4D6F-9582-E34699CC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2195-A92E-4DBB-B95C-6C2269BD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D46B-4445-43AF-8C00-177E16D7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DA0E9-D41F-467A-B82A-00E0884C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3B97-BD84-4AE7-891D-B695D633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C39-2EE9-42AD-B0AB-96BC0761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DCF-1C74-4568-8EF0-C904616C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094-E50F-47F9-92C4-50095256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52B-61E7-4FE0-917E-0F929AC2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EFD-C02A-49A1-8284-E5495D50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649-8BE5-4874-ACE2-7EE4D4CD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62D9-625B-4574-BA54-30F004C1A1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4311-0BBC-425D-8868-A7CFB0E6DAE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B477-F384-4F0B-8FF4-8F78CF02237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421000"/>
            <a:ext cx="2484360" cy="345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95640" y="1197000"/>
            <a:ext cx="3311640" cy="32670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2124000" y="458136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Pep Guardio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5516640"/>
            <a:ext cx="68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197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ffff"/>
                </a:solidFill>
                <a:latin typeface="Comic Sans MS"/>
              </a:rPr>
              <a:t>¿Cuándo naci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421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869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pu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321300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421000"/>
            <a:ext cx="2484360" cy="345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458136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Rafael Nad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5516640"/>
            <a:ext cx="68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198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ffff"/>
                </a:solidFill>
                <a:latin typeface="Comic Sans MS"/>
              </a:rPr>
              <a:t>¿Cuándo naci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2421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4869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pu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321300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348000" y="1125360"/>
            <a:ext cx="4572000" cy="34196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421000"/>
            <a:ext cx="2484360" cy="345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8136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Penélope Cru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5516640"/>
            <a:ext cx="68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197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ffff"/>
                </a:solidFill>
                <a:latin typeface="Comic Sans MS"/>
              </a:rPr>
              <a:t>¿Cuándo naci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2421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4869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pu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321300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2593800" cy="34578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421000"/>
            <a:ext cx="2484360" cy="345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581360"/>
            <a:ext cx="70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Fernando II de Arag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516640"/>
            <a:ext cx="68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145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ffff"/>
                </a:solidFill>
                <a:latin typeface="Comic Sans MS"/>
              </a:rPr>
              <a:t>¿Cuándo naci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421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4869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pu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321300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2579760" cy="36003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421000"/>
            <a:ext cx="2484360" cy="345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458136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El Ç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5516640"/>
            <a:ext cx="68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10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ffff"/>
                </a:solidFill>
                <a:latin typeface="Comic Sans MS"/>
              </a:rPr>
              <a:t>¿Cuándo naci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2421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869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pu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321300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356000" y="1052640"/>
            <a:ext cx="2554560" cy="33843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2224080" cy="3160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067280" y="404640"/>
            <a:ext cx="2239920" cy="3168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11280" y="4076640"/>
            <a:ext cx="3600360" cy="1871640"/>
          </a:xfrm>
          <a:prstGeom prst="wedgeRoundRectCallout">
            <a:avLst>
              <a:gd name="adj1" fmla="val 53481"/>
              <a:gd name="adj2" fmla="val 89013"/>
              <a:gd name="adj3" fmla="val 16667"/>
            </a:avLst>
          </a:prstGeom>
          <a:solidFill>
            <a:srgbClr val="dfe6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pe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9640" y="4076640"/>
            <a:ext cx="3745080" cy="2592360"/>
          </a:xfrm>
          <a:prstGeom prst="irregularSeal1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rfei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26920" y="549360"/>
          <a:ext cx="7488360" cy="5130720"/>
        </p:xfrm>
        <a:graphic>
          <a:graphicData uri="http://schemas.openxmlformats.org/drawingml/2006/table">
            <a:tbl>
              <a:tblPr/>
              <a:tblGrid>
                <a:gridCol w="1079640"/>
                <a:gridCol w="3205080"/>
                <a:gridCol w="785880"/>
                <a:gridCol w="24177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inti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re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is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e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e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o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05T19:41:34Z</dcterms:modified>
  <cp:revision>238</cp:revision>
  <dc:subject/>
  <dc:title>TITLE</dc:title>
</cp:coreProperties>
</file>