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A7C1-75D2-439B-9519-A43AF0F990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BF86-FB8D-4396-B1FD-ECC525288D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56AF-6F0D-46BA-AA7C-89098F996F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E0C3-B4DB-4135-8221-4B1A4335D6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D1D7-17AF-4E3C-8255-8A40790CB2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61C8-601A-4829-BACF-265097F0CA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CB0-C22D-4B38-9227-F17AE02F98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3C9-2569-4460-8D2C-79744A4B02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FF8-D45A-46B6-86D5-723BC904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1D0-5235-4226-94A5-C90F1732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3CF-655D-4F90-9603-F930D691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2E7-1A09-424C-878B-11C0B639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FCE5-07D5-4480-8EE1-0773D4C5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F6E6-9B0A-4931-9A50-BF82BFF1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88C0-4EBF-4F45-B251-A9CC1B5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AF72-0E15-4058-9DFC-E31D1B87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DB20-899A-421A-99E6-D53D7D2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8276-1136-4E8A-AD7E-C8D2D86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97D1-5E3A-4D4D-BA0C-601CF25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212-C4A6-4D66-BFD6-70FE5D73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9D98-F14D-472F-9319-C2033445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6120-D3D8-4149-830A-EA73930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1BB-FC43-43E0-B6F4-6E0E4846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82A7-2BCA-488D-B219-2CD067B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03D6-083F-4522-8C20-6EBE8C41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5485-61D0-4A2A-8ECA-576AEAE8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0622-E3CE-4367-AC19-E4BE60B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5AFF-562E-4C5C-BE94-4A816E63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BA16-8099-4456-901F-66266472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908E-6101-4740-B8BD-8E8DD9A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83B-89D2-46EC-93C0-AE19E78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650E-91F8-4275-8C00-7A2FA0A5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00C6-D53E-4369-8844-2F40EE6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00E3-D9EA-40C6-B4BD-DE57D62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3076-5A67-4131-860A-90C02F6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73D8-E596-4CE9-B963-8E39B5F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8684-F9AD-4241-ACEA-B4CC5796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D9EF-0FA4-4DDB-9143-1F63A5B4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7BB-3345-4520-9477-022AD2CD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255-3104-406E-87AA-8AE4AEA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467-B9BB-4CFA-86F5-04601398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4D9-20E0-4AE2-90E4-BB7A238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85A-FF04-4AC9-8A4F-F696D845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60D-40E6-400C-9371-7A2BE84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3E35-4872-487C-A960-1754621FCC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17F8-E84A-4F35-A388-6344A265E03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0B5-E398-45DA-9584-9721652D3E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3311640" cy="3267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Pep Guardi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97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Rafael Nad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98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4572000" cy="34196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Penélope Cru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97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2593800" cy="34578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58136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ernando II de Arag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4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2579760" cy="3600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421000"/>
            <a:ext cx="2484360" cy="3456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458136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El Ç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5516640"/>
            <a:ext cx="68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10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¿Cuándo naci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421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869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321300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356000" y="1052640"/>
            <a:ext cx="2554560" cy="3384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2224080" cy="3160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067280" y="404640"/>
            <a:ext cx="2239920" cy="3168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4076640"/>
            <a:ext cx="3600360" cy="1871640"/>
          </a:xfrm>
          <a:prstGeom prst="wedgeRoundRectCallout">
            <a:avLst>
              <a:gd name="adj1" fmla="val 53481"/>
              <a:gd name="adj2" fmla="val 89013"/>
              <a:gd name="adj3" fmla="val 16667"/>
            </a:avLst>
          </a:prstGeom>
          <a:solidFill>
            <a:srgbClr val="dfe6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4076640"/>
            <a:ext cx="3745080" cy="2592360"/>
          </a:xfrm>
          <a:prstGeom prst="irregularSeal1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rfei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549360"/>
          <a:ext cx="7488360" cy="5130720"/>
        </p:xfrm>
        <a:graphic>
          <a:graphicData uri="http://schemas.openxmlformats.org/drawingml/2006/table">
            <a:tbl>
              <a:tblPr/>
              <a:tblGrid>
                <a:gridCol w="1079640"/>
                <a:gridCol w="3205080"/>
                <a:gridCol w="785880"/>
                <a:gridCol w="2417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inti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r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cient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05T19:41:34Z</dcterms:modified>
  <cp:revision>238</cp:revision>
  <dc:subject/>
  <dc:title>TITLE</dc:title>
</cp:coreProperties>
</file>