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4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wmf" ContentType="image/x-wmf"/>
  <Override PartName="/ppt/media/image15.png" ContentType="image/png"/>
  <Override PartName="/ppt/media/image1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88B3-3102-4786-BAAD-DFF8EAD8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2007-4154-4CBF-9883-D925F503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DA61-FFC6-4875-80C2-10C3F236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9308-EAD5-461E-874B-183D872B9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00B0-1EE0-4CE6-A828-E082A504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7C87-11EB-4C90-B200-D1BC4A20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3FA8-9019-4716-9965-5293730A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7D66-D63A-4F03-99FE-93E2D6EA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CCF3-3D08-45F4-8DE8-764F8771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41A0-ED2C-44DC-9FD8-5F79F3C5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B61E-4E8A-4E86-8554-E7E6DA51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17BE-D07A-449C-924F-0B34EA7B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668D-F16B-48A8-9524-1D7B236AE2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549360"/>
            <a:ext cx="4537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¡ qué rico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95640" y="4869000"/>
            <a:ext cx="453708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¡ qué asco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084720" y="0"/>
            <a:ext cx="251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16000" y="4221000"/>
            <a:ext cx="2519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0" y="5540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0" y="536580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ri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572000" y="5554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ab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572000" y="537372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as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00435203"/>
          <p:cNvPicPr/>
          <p:nvPr/>
        </p:nvPicPr>
        <p:blipFill>
          <a:blip r:embed="rId1"/>
          <a:stretch/>
        </p:blipFill>
        <p:spPr>
          <a:xfrm>
            <a:off x="503280" y="1692360"/>
            <a:ext cx="3743280" cy="2865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00290951"/>
          <p:cNvPicPr/>
          <p:nvPr/>
        </p:nvPicPr>
        <p:blipFill>
          <a:blip r:embed="rId2"/>
          <a:stretch/>
        </p:blipFill>
        <p:spPr>
          <a:xfrm>
            <a:off x="5292720" y="2060640"/>
            <a:ext cx="354816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0" y="5540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el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0" y="536580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ri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4572000" y="55548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emasiado hel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4572000" y="537372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as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651640" y="1989000"/>
            <a:ext cx="2403360" cy="2403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03280" y="1700280"/>
            <a:ext cx="1949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79640" y="2276640"/>
            <a:ext cx="54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Program Files\Microsoft Office\Media\CntCD1\ClipArt2\j0215510.wmf"/>
          <p:cNvPicPr/>
          <p:nvPr/>
        </p:nvPicPr>
        <p:blipFill>
          <a:blip r:embed="rId1"/>
          <a:stretch/>
        </p:blipFill>
        <p:spPr>
          <a:xfrm>
            <a:off x="703440" y="2001960"/>
            <a:ext cx="3417840" cy="2685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www.clker.com/cliparts/y/d/d/P/Y/W/worm-md.png"/>
          <p:cNvPicPr/>
          <p:nvPr/>
        </p:nvPicPr>
        <p:blipFill>
          <a:blip r:embed="rId2"/>
          <a:stretch/>
        </p:blipFill>
        <p:spPr>
          <a:xfrm>
            <a:off x="6648480" y="2262240"/>
            <a:ext cx="2030400" cy="1582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5580000" y="3100320"/>
            <a:ext cx="2138400" cy="1668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0" y="6271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uis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0" y="53802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ri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572000" y="62856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usa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4572000" y="537372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as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0" y="6206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arame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4572000" y="6206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rac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4662360" y="5367240"/>
            <a:ext cx="44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as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ocuments and Settings\s1tr\Local Settings\Temporary Internet Files\Content.IE5\3V3BV95S\MC900264268[1].wmf"/>
          <p:cNvPicPr/>
          <p:nvPr/>
        </p:nvPicPr>
        <p:blipFill>
          <a:blip r:embed="rId1"/>
          <a:stretch/>
        </p:blipFill>
        <p:spPr>
          <a:xfrm>
            <a:off x="684360" y="1989000"/>
            <a:ext cx="3124080" cy="201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Documents and Settings\s1tr\Local Settings\Temporary Internet Files\Content.IE5\3V3BV95S\MC900391446[1].wmf"/>
          <p:cNvPicPr/>
          <p:nvPr/>
        </p:nvPicPr>
        <p:blipFill>
          <a:blip r:embed="rId2"/>
          <a:stretch/>
        </p:blipFill>
        <p:spPr>
          <a:xfrm>
            <a:off x="5133960" y="1768320"/>
            <a:ext cx="1957320" cy="151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6526080" y="3352680"/>
            <a:ext cx="1955880" cy="151776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0" y="53737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ri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0" y="5414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0" y="53737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ri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4572000" y="5554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ol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4572000" y="536724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as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Program Files\Microsoft Office\Media\CntCD1\ClipArt2\j0215522.wmf"/>
          <p:cNvPicPr/>
          <p:nvPr/>
        </p:nvPicPr>
        <p:blipFill>
          <a:blip r:embed="rId1"/>
          <a:stretch/>
        </p:blipFill>
        <p:spPr>
          <a:xfrm>
            <a:off x="758880" y="2066760"/>
            <a:ext cx="3236760" cy="2462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84720" y="1628640"/>
            <a:ext cx="192420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0" y="5824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0" y="53802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ri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4572000" y="5842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i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4572000" y="537372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as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Program Files\Microsoft Office\Media\CntCD1\ClipArt2\j0215791.wmf"/>
          <p:cNvPicPr/>
          <p:nvPr/>
        </p:nvPicPr>
        <p:blipFill>
          <a:blip r:embed="rId1"/>
          <a:stretch/>
        </p:blipFill>
        <p:spPr>
          <a:xfrm>
            <a:off x="179280" y="1989000"/>
            <a:ext cx="4211640" cy="2443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C:\Documents and Settings\s1tr\Local Settings\Temporary Internet Files\Content.IE5\3V3BV95S\MC900356401[1].wmf"/>
          <p:cNvPicPr/>
          <p:nvPr/>
        </p:nvPicPr>
        <p:blipFill>
          <a:blip r:embed="rId2"/>
          <a:stretch/>
        </p:blipFill>
        <p:spPr>
          <a:xfrm>
            <a:off x="5508720" y="1844640"/>
            <a:ext cx="2916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0" y="5605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o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0" y="53737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ri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4572000" y="56196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o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4572000" y="538020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as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Documents and Settings\s1tr\Local Settings\Temporary Internet Files\Content.IE5\XGHNYVV3\MC900264582[1].wmf"/>
          <p:cNvPicPr/>
          <p:nvPr/>
        </p:nvPicPr>
        <p:blipFill>
          <a:blip r:embed="rId1"/>
          <a:stretch/>
        </p:blipFill>
        <p:spPr>
          <a:xfrm>
            <a:off x="468360" y="1844640"/>
            <a:ext cx="3700440" cy="2592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00232155"/>
          <p:cNvPicPr/>
          <p:nvPr/>
        </p:nvPicPr>
        <p:blipFill>
          <a:blip r:embed="rId2"/>
          <a:srcRect l="0" t="0" r="0" b="48500"/>
          <a:stretch/>
        </p:blipFill>
        <p:spPr>
          <a:xfrm>
            <a:off x="5292720" y="1773360"/>
            <a:ext cx="302436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0" y="54936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chu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0" y="536112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ri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4572000" y="5508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ru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4572000" y="536904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as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00215509"/>
          <p:cNvPicPr/>
          <p:nvPr/>
        </p:nvPicPr>
        <p:blipFill>
          <a:blip r:embed="rId1"/>
          <a:stretch/>
        </p:blipFill>
        <p:spPr>
          <a:xfrm>
            <a:off x="468360" y="1341360"/>
            <a:ext cx="2382840" cy="1986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caterpillar"/>
          <p:cNvPicPr/>
          <p:nvPr/>
        </p:nvPicPr>
        <p:blipFill>
          <a:blip r:embed="rId2"/>
          <a:stretch/>
        </p:blipFill>
        <p:spPr>
          <a:xfrm>
            <a:off x="6516720" y="1484280"/>
            <a:ext cx="2503440" cy="249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caterpillar"/>
          <p:cNvPicPr/>
          <p:nvPr/>
        </p:nvPicPr>
        <p:blipFill>
          <a:blip r:embed="rId3"/>
          <a:stretch/>
        </p:blipFill>
        <p:spPr>
          <a:xfrm>
            <a:off x="4788000" y="2852640"/>
            <a:ext cx="2503440" cy="2497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00215509"/>
          <p:cNvPicPr/>
          <p:nvPr/>
        </p:nvPicPr>
        <p:blipFill>
          <a:blip r:embed="rId4"/>
          <a:stretch/>
        </p:blipFill>
        <p:spPr>
          <a:xfrm>
            <a:off x="1403280" y="2852640"/>
            <a:ext cx="238284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0" y="5540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hamp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0" y="536580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ri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4572000" y="5554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hamp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4572000" y="537372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as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00014614"/>
          <p:cNvPicPr/>
          <p:nvPr/>
        </p:nvPicPr>
        <p:blipFill>
          <a:blip r:embed="rId1"/>
          <a:stretch/>
        </p:blipFill>
        <p:spPr>
          <a:xfrm>
            <a:off x="1116000" y="1628640"/>
            <a:ext cx="2241720" cy="3456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00312546"/>
          <p:cNvPicPr/>
          <p:nvPr/>
        </p:nvPicPr>
        <p:blipFill>
          <a:blip r:embed="rId2"/>
          <a:stretch/>
        </p:blipFill>
        <p:spPr>
          <a:xfrm>
            <a:off x="6012000" y="1700280"/>
            <a:ext cx="15174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0" y="5540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ocadi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0" y="536580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ri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4572000" y="5554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ar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4572000" y="537372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as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00441748"/>
          <p:cNvPicPr/>
          <p:nvPr/>
        </p:nvPicPr>
        <p:blipFill>
          <a:blip r:embed="rId1"/>
          <a:stretch/>
        </p:blipFill>
        <p:spPr>
          <a:xfrm>
            <a:off x="574560" y="1692360"/>
            <a:ext cx="3600720" cy="360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Image2"/>
          <p:cNvPicPr/>
          <p:nvPr/>
        </p:nvPicPr>
        <p:blipFill>
          <a:blip r:embed="rId2"/>
          <a:stretch/>
        </p:blipFill>
        <p:spPr>
          <a:xfrm>
            <a:off x="5435640" y="2282760"/>
            <a:ext cx="34480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1:10:55Z</dcterms:created>
  <dc:creator>Clare Seccombe</dc:creator>
  <dc:description/>
  <dc:language>en-US</dc:language>
  <cp:lastModifiedBy>Clare</cp:lastModifiedBy>
  <dcterms:modified xsi:type="dcterms:W3CDTF">2011-03-29T15:05:17Z</dcterms:modified>
  <cp:revision>6</cp:revision>
  <dc:subject/>
  <dc:title>Slide 1</dc:title>
</cp:coreProperties>
</file>