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.png" ContentType="image/png"/>
  <Override PartName="/ppt/media/whoosh.wav" ContentType="audio/x-wav"/>
  <Override PartName="/ppt/media/image5.png" ContentType="image/png"/>
  <Override PartName="/ppt/media/image10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3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140C-E62D-4654-B757-5543E36D1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79FE-FB29-4E40-9CC2-EC417CF9C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6AA8-ED05-4774-B46D-A200A5F98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EFF1-38D1-4454-AEAF-672BB235F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2E3B-5020-43C0-8A88-BA6C3DA85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BB59-F28D-42FE-B14F-7979EE3C4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0B1B-AC33-4E22-B7A6-EB5A57471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5ACC-3F3C-4E10-91AA-90FEB8AD6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EE22-CACF-48FA-AC2E-CC516155C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6BC2-94B4-48F4-8FA0-0B8C3870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14C2-DA03-4B50-B89A-8A00FBA9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01E6-63DA-4147-81C8-206B2A98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25DD2-3B5F-4585-BD4A-6E94D179C24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yberman-online.de/maggie.gif&amp;imgrefurl=http://www.cyberman-online.de/the_simpsons.html&amp;h=200&amp;w=160&amp;sz=2&amp;tbnid=QENGtlVnqZH5AM:&amp;tbnh=99&amp;tbnw=79&amp;hl=en&amp;start=6&amp;prev=/images%3Fq%3Dmaggie%2Bsimpson%26svnum%3D10%26hl%3Den%26lr%3D%26safe%3Dactive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dwighthigh.k12.il.us/students/scheuerj/images/11.gif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simpsoncrazy.com/gallery/town/SelmaBouvier1.gif&amp;imgrefurl=http://www.kidsgamehouse.com/ESFC/1857.htm&amp;h=530&amp;w=379&amp;sz=23&amp;tbnid=umFKRMKIWVkJ:&amp;tbnh=129&amp;tbnw=92&amp;hl=en&amp;start=6&amp;prev=/images%3Fq%3DSelma%2BBouvier%26svnum%3D10%26hl%3Den%26lr%3D%26sa%3DN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simpsoncrazy.com/gallery/town/SelmaBouvier1.gif&amp;imgrefurl=http://www.kidsgamehouse.com/ESFC/1857.htm&amp;h=530&amp;w=379&amp;sz=23&amp;tbnid=umFKRMKIWVkJ:&amp;tbnh=129&amp;tbnw=92&amp;hl=en&amp;start=6&amp;prev=/images%3Fq%3DSelma%2BBouvier%26svnum%3D10%26hl%3Den%26lr%3D%26sa%3DN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1.jpeg"/><Relationship Id="rId4" Type="http://schemas.openxmlformats.org/officeDocument/2006/relationships/hyperlink" Target="http://www.dwighthigh.k12.il.us/students/scheuerj/images/11.gif" TargetMode="External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hyperlink" Target="http://www.dwighthigh.k12.il.us/students/scheuerj/images/HomerSimpson.gif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11.jpe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simpsoncrazy.com/gallery/town/SelmaBouvier1.gif&amp;imgrefurl=http://www.kidsgamehouse.com/ESFC/1857.htm&amp;h=530&amp;w=379&amp;sz=23&amp;tbnid=umFKRMKIWVkJ:&amp;tbnh=129&amp;tbnw=92&amp;hl=en&amp;start=6&amp;prev=/images%3Fq%3DSelma%2BBouvier%26svnum%3D10%26hl%3Den%26lr%3D%26sa%3DN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hyperlink" Target="http://www.dwighthigh.k12.il.us/students/scheuerj/images/11.gif" TargetMode="External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image" Target="../media/image4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dwighthigh.k12.il.us/students/scheuerj/images/HomerSimpson.gif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simpsoncrazy.com/gallery/town/SelmaBouvier1.gif&amp;imgrefurl=http://www.kidsgamehouse.com/ESFC/1857.htm&amp;h=530&amp;w=379&amp;sz=23&amp;tbnid=umFKRMKIWVkJ:&amp;tbnh=129&amp;tbnw=92&amp;hl=en&amp;start=6&amp;prev=/images%3Fq%3DSelma%2BBouvier%26svnum%3D10%26hl%3Den%26lr%3D%26sa%3DN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dwighthigh.k12.il.us/students/scheuerj/images/HomerSimpson.gif" TargetMode="External"/><Relationship Id="rId6" Type="http://schemas.openxmlformats.org/officeDocument/2006/relationships/image" Target="../media/image3.png"/><Relationship Id="rId7" Type="http://schemas.openxmlformats.org/officeDocument/2006/relationships/image" Target="../media/image11.jpeg"/><Relationship Id="rId8" Type="http://schemas.openxmlformats.org/officeDocument/2006/relationships/hyperlink" Target="http://www.dwighthigh.k12.il.us/students/scheuerj/images/11.gif" TargetMode="External"/><Relationship Id="rId9" Type="http://schemas.openxmlformats.org/officeDocument/2006/relationships/image" Target="../media/image9.jpe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hyperlink" Target="http://www.dwighthigh.k12.il.us/students/scheuerj/images/11.gif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hyperlink" Target="http://www.dwighthigh.k12.il.us/students/scheuerj/images/HomerSimpson.gif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hyperlink" Target="http://www.dwighthigh.k12.il.us/students/scheuerj/images/11.gif" TargetMode="External"/><Relationship Id="rId10" Type="http://schemas.openxmlformats.org/officeDocument/2006/relationships/image" Target="../media/image9.jpeg"/><Relationship Id="rId11" Type="http://schemas.openxmlformats.org/officeDocument/2006/relationships/image" Target="../media/image11.jpeg"/><Relationship Id="rId12" Type="http://schemas.openxmlformats.org/officeDocument/2006/relationships/hyperlink" Target="http://images.google.co.uk/imgres?imgurl=http://www.simpsoncrazy.com/gallery/town/SelmaBouvier1.gif&amp;imgrefurl=http://www.kidsgamehouse.com/ESFC/1857.htm&amp;h=530&amp;w=379&amp;sz=23&amp;tbnid=umFKRMKIWVkJ:&amp;tbnh=129&amp;tbnw=92&amp;hl=en&amp;start=6&amp;prev=/images%3Fq%3DSelma%2BBouvier%26svnum%3D10%26hl%3Den%26lr%3D%26sa%3DN" TargetMode="External"/><Relationship Id="rId13" Type="http://schemas.openxmlformats.org/officeDocument/2006/relationships/image" Target="../media/image12.jpeg"/><Relationship Id="rId14" Type="http://schemas.openxmlformats.org/officeDocument/2006/relationships/image" Target="../media/image13.png"/><Relationship Id="rId15" Type="http://schemas.openxmlformats.org/officeDocument/2006/relationships/audio" Target="../media/whoosh.wav"/><Relationship Id="rId1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yberman-online.de/maggie.gif&amp;imgrefurl=http://www.cyberman-online.de/the_simpsons.html&amp;h=200&amp;w=160&amp;sz=2&amp;tbnid=QENGtlVnqZH5AM:&amp;tbnh=99&amp;tbnw=79&amp;hl=en&amp;start=6&amp;prev=/images%3Fq%3Dmaggie%2Bsimpson%26svnum%3D10%26hl%3Den%26lr%3D%26safe%3Dactive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yberman-online.de/maggie.gif&amp;imgrefurl=http://www.cyberman-online.de/the_simpsons.html&amp;h=200&amp;w=160&amp;sz=2&amp;tbnid=QENGtlVnqZH5AM:&amp;tbnh=99&amp;tbnw=79&amp;hl=en&amp;start=6&amp;prev=/images%3Fq%3Dmaggie%2Bsimpson%26svnum%3D10%26hl%3Den%26lr%3D%26safe%3Dactive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hyperlink" Target="http://www.dwighthigh.k12.il.us/students/scheuerj/images/HomerSimpson.gif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simpsoncrazy.com/gallery/town/SelmaBouvier1.gif&amp;imgrefurl=http://www.kidsgamehouse.com/ESFC/1857.htm&amp;h=530&amp;w=379&amp;sz=23&amp;tbnid=umFKRMKIWVkJ:&amp;tbnh=129&amp;tbnw=92&amp;hl=en&amp;start=6&amp;prev=/images%3Fq%3DSelma%2BBouvier%26svnum%3D10%26hl%3Den%26lr%3D%26sa%3DN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1.jpeg"/><Relationship Id="rId4" Type="http://schemas.openxmlformats.org/officeDocument/2006/relationships/hyperlink" Target="http://www.dwighthigh.k12.il.us/students/scheuerj/images/11.gif" TargetMode="External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hyperlink" Target="http://www.dwighthigh.k12.il.us/students/scheuerj/images/HomerSimpson.gif" TargetMode="External"/><Relationship Id="rId5" Type="http://schemas.openxmlformats.org/officeDocument/2006/relationships/image" Target="../media/image3.png"/><Relationship Id="rId6" Type="http://schemas.openxmlformats.org/officeDocument/2006/relationships/hyperlink" Target="http://images.google.co.uk/imgres?imgurl=http://www.simpsoncrazy.com/gallery/town/SelmaBouvier1.gif&amp;imgrefurl=http://www.kidsgamehouse.com/ESFC/1857.htm&amp;h=530&amp;w=379&amp;sz=23&amp;tbnid=umFKRMKIWVkJ:&amp;tbnh=129&amp;tbnw=92&amp;hl=en&amp;start=6&amp;prev=/images%3Fq%3DSelma%2BBouvier%26svnum%3D10%26hl%3Den%26lr%3D%26sa%3DN" TargetMode="External"/><Relationship Id="rId7" Type="http://schemas.openxmlformats.org/officeDocument/2006/relationships/image" Target="../media/image12.jpeg"/><Relationship Id="rId8" Type="http://schemas.openxmlformats.org/officeDocument/2006/relationships/hyperlink" Target="http://www.dwighthigh.k12.il.us/students/scheuerj/images/11.gif" TargetMode="External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yberman-online.de/maggie.gif&amp;imgrefurl=http://www.cyberman-online.de/the_simpsons.html&amp;h=200&amp;w=160&amp;sz=2&amp;tbnid=QENGtlVnqZH5AM:&amp;tbnh=99&amp;tbnw=79&amp;hl=en&amp;start=6&amp;prev=/images%3Fq%3Dmaggie%2Bsimpson%26svnum%3D10%26hl%3Den%26lr%3D%26safe%3Dactive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4.png"/><Relationship Id="rId6" Type="http://schemas.openxmlformats.org/officeDocument/2006/relationships/hyperlink" Target="http://www.dwighthigh.k12.il.us/students/scheuerj/images/HomerSimpson.gif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images.google.co.uk/imgres?imgurl=http://www.simpsoncrazy.com/gallery/town/SelmaBouvier1.gif&amp;imgrefurl=http://www.kidsgamehouse.com/ESFC/1857.htm&amp;h=530&amp;w=379&amp;sz=23&amp;tbnid=umFKRMKIWVkJ:&amp;tbnh=129&amp;tbnw=92&amp;hl=en&amp;start=6&amp;prev=/images%3Fq%3DSelma%2BBouvier%26svnum%3D10%26hl%3Den%26lr%3D%26sa%3DN" TargetMode="External"/><Relationship Id="rId9" Type="http://schemas.openxmlformats.org/officeDocument/2006/relationships/image" Target="../media/image12.jpeg"/><Relationship Id="rId10" Type="http://schemas.openxmlformats.org/officeDocument/2006/relationships/hyperlink" Target="http://www.dwighthigh.k12.il.us/students/scheuerj/images/11.gif" TargetMode="External"/><Relationship Id="rId11" Type="http://schemas.openxmlformats.org/officeDocument/2006/relationships/image" Target="../media/image9.jpeg"/><Relationship Id="rId1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yberman-online.de/maggie.gif&amp;imgrefurl=http://www.cyberman-online.de/the_simpsons.html&amp;h=200&amp;w=160&amp;sz=2&amp;tbnid=QENGtlVnqZH5AM:&amp;tbnh=99&amp;tbnw=79&amp;hl=en&amp;start=6&amp;prev=/images%3Fq%3Dmaggie%2Bsimpson%26svnum%3D10%26hl%3Den%26lr%3D%26safe%3Dactive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12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hyperlink" Target="http://www.dwighthigh.k12.il.us/students/scheuerj/images/HomerSimpson.gif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hyperlink" Target="http://www.dwighthigh.k12.il.us/students/scheuerj/images/HomerSimpson.gif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380880"/>
            <a:ext cx="1458720" cy="1828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0" y="228600"/>
            <a:ext cx="4495680" cy="1219320"/>
          </a:xfrm>
          <a:prstGeom prst="wedgeRectCallout">
            <a:avLst>
              <a:gd name="adj1" fmla="val -65361"/>
              <a:gd name="adj2" fmla="val 29166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666880" y="380520"/>
            <a:ext cx="3733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Mi famili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514600" y="1676520"/>
            <a:ext cx="3863880" cy="4876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105520" y="685800"/>
            <a:ext cx="1895400" cy="2286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1633320" cy="2286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600200" y="533520"/>
            <a:ext cx="2162160" cy="25905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4495680" y="3886200"/>
            <a:ext cx="3048120" cy="2308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952880" y="2438280"/>
            <a:ext cx="1895760" cy="2286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362320" y="2286000"/>
            <a:ext cx="2162160" cy="2590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ién e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Mi</a:t>
            </a:r>
            <a:r>
              <a:rPr b="0" lang="en-GB" sz="6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abuel</a:t>
            </a:r>
            <a:r>
              <a:rPr b="0" lang="en-GB" sz="6000" spc="-1" strike="noStrike">
                <a:solidFill>
                  <a:srgbClr val="3333cc"/>
                </a:solidFill>
                <a:latin typeface="Comic Sans MS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2768760"/>
            <a:ext cx="3809880" cy="2538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ién e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Mi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abuel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1485720" cy="4435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ién e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Mi</a:t>
            </a:r>
            <a:r>
              <a:rPr b="0" lang="en-GB" sz="6000" spc="-1" strike="noStrike">
                <a:solidFill>
                  <a:srgbClr val="009900"/>
                </a:solidFill>
                <a:latin typeface="Comic Sans MS"/>
              </a:rPr>
              <a:t>s 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abuel</a:t>
            </a:r>
            <a:r>
              <a:rPr b="0" lang="en-GB" sz="6000" spc="-1" strike="noStrike">
                <a:solidFill>
                  <a:srgbClr val="009900"/>
                </a:solidFill>
                <a:latin typeface="Comic Sans MS"/>
              </a:rPr>
              <a:t>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90720" y="2286000"/>
            <a:ext cx="3279600" cy="2479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ién e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omic Sans MS"/>
              </a:rPr>
              <a:t>Mi</a:t>
            </a:r>
            <a:r>
              <a:rPr b="1" lang="en-GB" sz="5400" spc="-1" strike="noStrike">
                <a:solidFill>
                  <a:srgbClr val="ff0000"/>
                </a:solidFill>
                <a:latin typeface="Comic Sans MS"/>
              </a:rPr>
              <a:t> ti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9000" y="2209680"/>
            <a:ext cx="2932200" cy="4114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ién e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Mi</a:t>
            </a:r>
            <a:r>
              <a:rPr b="0" lang="en-GB" sz="6000" spc="-1" strike="noStrike">
                <a:solidFill>
                  <a:srgbClr val="3333cc"/>
                </a:solidFill>
                <a:latin typeface="Comic Sans MS"/>
              </a:rPr>
              <a:t> gato 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y mi</a:t>
            </a:r>
            <a:r>
              <a:rPr b="0" lang="en-GB" sz="6000" spc="-1" strike="noStrike">
                <a:solidFill>
                  <a:srgbClr val="3333cc"/>
                </a:solidFill>
                <a:latin typeface="Comic Sans MS"/>
              </a:rPr>
              <a:t> perr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85800" y="2682720"/>
            <a:ext cx="3809880" cy="2711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28800" y="3962520"/>
            <a:ext cx="1738440" cy="2438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858000" y="914400"/>
            <a:ext cx="1905120" cy="1440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124080" y="685800"/>
            <a:ext cx="2438640" cy="1623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1143000" y="533520"/>
            <a:ext cx="974880" cy="29113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4724280" y="4427640"/>
            <a:ext cx="2514600" cy="1788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2104920" cy="23619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895400" cy="2286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24720" y="1052640"/>
            <a:ext cx="1231920" cy="2438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6858000" y="4648320"/>
            <a:ext cx="1905120" cy="1439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3564000" y="4076640"/>
            <a:ext cx="1633320" cy="2286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7"/>
          <a:stretch/>
        </p:blipFill>
        <p:spPr>
          <a:xfrm>
            <a:off x="3924360" y="981000"/>
            <a:ext cx="2162160" cy="2590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35280" y="333360"/>
            <a:ext cx="1738440" cy="2438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867280" y="2133720"/>
            <a:ext cx="1895760" cy="2286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3708360" y="3645000"/>
            <a:ext cx="1633680" cy="2286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6920" y="3933720"/>
            <a:ext cx="2438640" cy="16239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7740720" y="189000"/>
            <a:ext cx="974520" cy="29113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8"/>
          <a:stretch/>
        </p:blipFill>
        <p:spPr>
          <a:xfrm>
            <a:off x="826920" y="476280"/>
            <a:ext cx="2162520" cy="2590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9"/>
          <a:stretch/>
        </p:blipFill>
        <p:spPr>
          <a:xfrm>
            <a:off x="6248520" y="4800600"/>
            <a:ext cx="2286000" cy="1627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ién e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Mi</a:t>
            </a: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 padr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1981080"/>
            <a:ext cx="2077920" cy="4114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00800" y="2133720"/>
            <a:ext cx="1738440" cy="24382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457200" y="304920"/>
            <a:ext cx="2104920" cy="2361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3733920" y="3733920"/>
            <a:ext cx="1895400" cy="2286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9480" y="3048120"/>
            <a:ext cx="1231920" cy="2438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7"/>
          <a:stretch/>
        </p:blipFill>
        <p:spPr>
          <a:xfrm>
            <a:off x="6858000" y="4648320"/>
            <a:ext cx="1905120" cy="14396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791320" y="304920"/>
            <a:ext cx="2438280" cy="16239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0"/>
          <a:stretch/>
        </p:blipFill>
        <p:spPr>
          <a:xfrm>
            <a:off x="3124080" y="1066680"/>
            <a:ext cx="2286000" cy="1627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362320" y="838080"/>
            <a:ext cx="2104920" cy="23623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733920" y="3733920"/>
            <a:ext cx="1895400" cy="2286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38680" y="1219320"/>
            <a:ext cx="2438640" cy="16239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8458200" y="-2362320"/>
            <a:ext cx="2104920" cy="23623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9296280" y="0"/>
            <a:ext cx="1895760" cy="2286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76520" y="7010280"/>
            <a:ext cx="1231920" cy="2438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6477120" y="6858000"/>
            <a:ext cx="1633320" cy="2286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2362320" y="-2590920"/>
            <a:ext cx="2162160" cy="2590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9144000" y="3276720"/>
            <a:ext cx="3048120" cy="23079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8"/>
          <a:stretch/>
        </p:blipFill>
        <p:spPr>
          <a:xfrm>
            <a:off x="-487440" y="-2911320"/>
            <a:ext cx="974880" cy="29113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181480" y="-1623960"/>
            <a:ext cx="2438640" cy="1623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1"/>
          <a:stretch/>
        </p:blipFill>
        <p:spPr>
          <a:xfrm>
            <a:off x="-952560" y="6858000"/>
            <a:ext cx="1905120" cy="1440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3733920" y="6858000"/>
            <a:ext cx="1738080" cy="24382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4"/>
          <a:stretch/>
        </p:blipFill>
        <p:spPr>
          <a:xfrm>
            <a:off x="9144000" y="5962680"/>
            <a:ext cx="2514600" cy="17892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066680" y="228600"/>
            <a:ext cx="4114800" cy="2666880"/>
          </a:xfrm>
          <a:prstGeom prst="wedgeEllipseCallout">
            <a:avLst>
              <a:gd name="adj1" fmla="val 100694"/>
              <a:gd name="adj2" fmla="val -48986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ggie, ¿Cómo se llama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tu herman</a:t>
            </a:r>
            <a:r>
              <a:rPr b="0" lang="en-GB" sz="32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?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7920" y="4191120"/>
            <a:ext cx="1458720" cy="18288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276720" y="2971800"/>
            <a:ext cx="2819160" cy="2057400"/>
          </a:xfrm>
          <a:prstGeom prst="wedgeEllipseCallout">
            <a:avLst>
              <a:gd name="adj1" fmla="val -61657"/>
              <a:gd name="adj2" fmla="val 43902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 llama BAR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066680" y="304920"/>
            <a:ext cx="4114800" cy="2590560"/>
          </a:xfrm>
          <a:prstGeom prst="wedgeEllipseCallout">
            <a:avLst>
              <a:gd name="adj1" fmla="val 103472"/>
              <a:gd name="adj2" fmla="val -41421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ggie, ¿Cómo se llama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tu herman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?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4038480"/>
            <a:ext cx="1458720" cy="18288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200400" y="3048120"/>
            <a:ext cx="2819520" cy="2057400"/>
          </a:xfrm>
          <a:prstGeom prst="wedgeEllipseCallout">
            <a:avLst>
              <a:gd name="adj1" fmla="val -70777"/>
              <a:gd name="adj2" fmla="val 32097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 llama LIS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657600" y="380880"/>
            <a:ext cx="2104920" cy="23623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781680" y="380880"/>
            <a:ext cx="1895760" cy="2286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480" y="3733920"/>
            <a:ext cx="1231920" cy="24382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3276720" y="3733920"/>
            <a:ext cx="1633320" cy="2286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>
            <a:off x="457200" y="304920"/>
            <a:ext cx="2162160" cy="25905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5791320" y="3733920"/>
            <a:ext cx="3047760" cy="23079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457200" y="6019920"/>
            <a:ext cx="2333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mi pad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477120" y="2514600"/>
            <a:ext cx="2333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mi herman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33520" y="2743200"/>
            <a:ext cx="2333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mi mad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429000" y="2743200"/>
            <a:ext cx="2333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mi herman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124080" y="6019920"/>
            <a:ext cx="2333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Comic Sans MS"/>
              </a:rPr>
              <a:t>mis padr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Comic Sans MS"/>
              <a:ea typeface="Comic Sans MS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324480" y="5867280"/>
            <a:ext cx="23338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Comic Sans MS"/>
              </a:rPr>
              <a:t>mis hermano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Comic Sans MS"/>
              <a:ea typeface="Comic Sans MS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28800" y="3962520"/>
            <a:ext cx="1738440" cy="24382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6858000" y="914400"/>
            <a:ext cx="1905120" cy="1440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124080" y="685800"/>
            <a:ext cx="2438640" cy="16239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6"/>
          <a:stretch/>
        </p:blipFill>
        <p:spPr>
          <a:xfrm>
            <a:off x="1143000" y="533520"/>
            <a:ext cx="974880" cy="29113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7"/>
          <a:stretch/>
        </p:blipFill>
        <p:spPr>
          <a:xfrm>
            <a:off x="5715000" y="3657600"/>
            <a:ext cx="2514600" cy="17892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3200400" y="2514600"/>
            <a:ext cx="2333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mi abuel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600200" y="5943600"/>
            <a:ext cx="2333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mi ti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2895480"/>
            <a:ext cx="23335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mi abuel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400800" y="2514600"/>
            <a:ext cx="2333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Comic Sans MS"/>
              </a:rPr>
              <a:t>mis abuelo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Comic Sans MS"/>
              <a:ea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952880" y="5410080"/>
            <a:ext cx="373392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mi gato y mi perr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905120" y="5181480"/>
            <a:ext cx="814320" cy="91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6019920" y="5105520"/>
            <a:ext cx="758880" cy="9144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209680" y="4191120"/>
            <a:ext cx="426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09680" y="4191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77120" y="4191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343400" y="4191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4343400" y="3657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3352680" y="2590920"/>
            <a:ext cx="819360" cy="9810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72000" y="2438280"/>
            <a:ext cx="654120" cy="12956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 flipV="1">
            <a:off x="5029200" y="13712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3581280" y="1905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1676160" y="190512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76520" y="1905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295280" y="2590920"/>
            <a:ext cx="706680" cy="9903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495680" y="380880"/>
            <a:ext cx="1143000" cy="7621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410080" y="2438280"/>
            <a:ext cx="228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 padre se llama Ho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69160" y="5486400"/>
            <a:ext cx="2298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i herma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 llama Li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-4320" y="5486400"/>
            <a:ext cx="2355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i herman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 llama B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114800" y="5257800"/>
            <a:ext cx="53352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cc"/>
                </a:solidFill>
                <a:latin typeface="Arial Black"/>
              </a:rPr>
              <a:t>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cc"/>
              </a:solidFill>
              <a:latin typeface="Arial Black"/>
              <a:ea typeface="Arial Black"/>
            </a:endParaRPr>
          </a:p>
        </p:txBody>
      </p:sp>
    </p:spTree>
  </p:cSld>
  <p:transition>
    <p:zoom dir="out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86200" y="5105520"/>
            <a:ext cx="911160" cy="1143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1905120" y="5181480"/>
            <a:ext cx="814320" cy="9144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6019920" y="5105520"/>
            <a:ext cx="758880" cy="9144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2209680" y="4191120"/>
            <a:ext cx="426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09680" y="4191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477120" y="4191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43400" y="4191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4343400" y="3657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5"/>
          <a:stretch/>
        </p:blipFill>
        <p:spPr>
          <a:xfrm>
            <a:off x="3352680" y="2590920"/>
            <a:ext cx="819360" cy="9810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572000" y="2438280"/>
            <a:ext cx="654120" cy="12956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 flipV="1">
            <a:off x="5029200" y="13712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581280" y="1905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676160" y="190512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76520" y="1905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295280" y="2590920"/>
            <a:ext cx="706680" cy="9903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4495680" y="380880"/>
            <a:ext cx="1143000" cy="7621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5410080" y="2438280"/>
            <a:ext cx="228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 padre se llama Ho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69160" y="5486400"/>
            <a:ext cx="2298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i herma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 llama Li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-4320" y="5486400"/>
            <a:ext cx="2355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i herman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 llama B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86200" y="5105520"/>
            <a:ext cx="91116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1905120" y="5181480"/>
            <a:ext cx="814320" cy="9144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6019920" y="5105520"/>
            <a:ext cx="758880" cy="9144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209680" y="4191120"/>
            <a:ext cx="426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09680" y="4191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477120" y="4191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43400" y="4191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4343400" y="3657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3352680" y="2590920"/>
            <a:ext cx="819360" cy="9810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6"/>
          <a:stretch/>
        </p:blipFill>
        <p:spPr>
          <a:xfrm>
            <a:off x="4572000" y="2438280"/>
            <a:ext cx="654120" cy="12956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 flipV="1">
            <a:off x="5029200" y="13712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581280" y="1905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1676160" y="190512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76520" y="1905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7"/>
          <a:stretch/>
        </p:blipFill>
        <p:spPr>
          <a:xfrm>
            <a:off x="1295280" y="2590920"/>
            <a:ext cx="706680" cy="9903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8"/>
          <a:stretch/>
        </p:blipFill>
        <p:spPr>
          <a:xfrm>
            <a:off x="4495680" y="380880"/>
            <a:ext cx="1143000" cy="7621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5410080" y="2438280"/>
            <a:ext cx="335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i padre se llama Homer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iene 36 añ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69160" y="5486400"/>
            <a:ext cx="2298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i herma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 llama Li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-4320" y="5486400"/>
            <a:ext cx="2355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i herman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 llama B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ién e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Mi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 madr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73000" y="1981080"/>
            <a:ext cx="3434040" cy="4114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ién es?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Mi</a:t>
            </a:r>
            <a:r>
              <a:rPr b="0" lang="en-GB" sz="6000" spc="-1" strike="noStrike">
                <a:solidFill>
                  <a:srgbClr val="009900"/>
                </a:solidFill>
                <a:latin typeface="Comic Sans MS"/>
              </a:rPr>
              <a:t>s 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padre</a:t>
            </a:r>
            <a:r>
              <a:rPr b="0" lang="en-GB" sz="6000" spc="-1" strike="noStrike">
                <a:solidFill>
                  <a:srgbClr val="009900"/>
                </a:solidFill>
                <a:latin typeface="Comic Sans MS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19240" y="1981080"/>
            <a:ext cx="2941560" cy="4114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ién e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Mi</a:t>
            </a:r>
            <a:r>
              <a:rPr b="0" lang="en-GB" sz="6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herman</a:t>
            </a:r>
            <a:r>
              <a:rPr b="0" lang="en-GB" sz="6000" spc="-1" strike="noStrike">
                <a:solidFill>
                  <a:srgbClr val="3333cc"/>
                </a:solidFill>
                <a:latin typeface="Comic Sans MS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57080" y="1981080"/>
            <a:ext cx="3667320" cy="4114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ién e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Mi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herman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84160" y="1981080"/>
            <a:ext cx="3411720" cy="4114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ién e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Mi</a:t>
            </a:r>
            <a:r>
              <a:rPr b="0" lang="en-GB" sz="6000" spc="-1" strike="noStrike">
                <a:solidFill>
                  <a:srgbClr val="009900"/>
                </a:solidFill>
                <a:latin typeface="Comic Sans MS"/>
              </a:rPr>
              <a:t>s 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herman</a:t>
            </a:r>
            <a:r>
              <a:rPr b="0" lang="en-GB" sz="6000" spc="-1" strike="noStrike">
                <a:solidFill>
                  <a:srgbClr val="009900"/>
                </a:solidFill>
                <a:latin typeface="Comic Sans MS"/>
              </a:rPr>
              <a:t>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85800" y="2595600"/>
            <a:ext cx="3809880" cy="2884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343400" y="533520"/>
            <a:ext cx="2104920" cy="2361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705720" y="838080"/>
            <a:ext cx="1895400" cy="2286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295280" y="3733920"/>
            <a:ext cx="1231920" cy="2438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3124080" y="3657600"/>
            <a:ext cx="1633680" cy="2286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1600200" y="533520"/>
            <a:ext cx="2162160" cy="25905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>
            <a:off x="5486400" y="3657600"/>
            <a:ext cx="3048120" cy="2308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400800" y="2590920"/>
            <a:ext cx="2104920" cy="2361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676520" y="4267080"/>
            <a:ext cx="1895400" cy="2286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52480" y="1295280"/>
            <a:ext cx="1231920" cy="2438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4495680" y="3429000"/>
            <a:ext cx="1633680" cy="2286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3962520" y="457200"/>
            <a:ext cx="2162160" cy="2590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7T16:40:52Z</dcterms:created>
  <dc:creator>e.morel</dc:creator>
  <dc:description/>
  <dc:language>en-US</dc:language>
  <cp:lastModifiedBy>CSeccombe</cp:lastModifiedBy>
  <dcterms:modified xsi:type="dcterms:W3CDTF">2006-06-12T19:48:04Z</dcterms:modified>
  <cp:revision>20</cp:revision>
  <dc:subject/>
  <dc:title>   Ma famille</dc:title>
</cp:coreProperties>
</file>