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png" ContentType="image/png"/>
  <Override PartName="/ppt/media/whoosh.wav" ContentType="audio/x-wav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1C6-D6FA-4AD5-96A6-8FED0A21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1AD-A605-4DF5-B60B-B45C438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29D-E23E-4864-AAFC-9493BB48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807-2F0F-4E4F-97B5-12C5DF44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7D5-2C68-489F-89CD-7D118A36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169-650D-4DAA-A87F-0278DBC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682-5F85-443D-A60D-DD1EE576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15E-880B-45D7-9DC0-EBB565D0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EE5-96F9-4A19-8771-377486B0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3E0-E9B8-4B90-B729-18DC7E5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24A-FF5C-4D89-BA06-F75FA5A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A48-0EB5-4AAE-8C85-5625FA7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687-9197-4EBC-B86E-87A6C22B5A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11.gif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hyperlink" Target="http://www.dwighthigh.k12.il.us/students/scheuerj/images/11.gif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HomerSimpson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dwighthigh.k12.il.us/students/scheuerj/images/HomerSimpson.gif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11.gif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hyperlink" Target="http://www.dwighthigh.k12.il.us/students/scheuerj/images/11.gif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hyperlink" Target="http://www.dwighthigh.k12.il.us/students/scheuerj/images/HomerSimpson.gif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hyperlink" Target="http://www.dwighthigh.k12.il.us/students/scheuerj/images/HomerSimpson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dwighthigh.k12.il.us/students/scheuerj/images/11.gif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8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228600"/>
            <a:ext cx="4495680" cy="1219320"/>
          </a:xfrm>
          <a:prstGeom prst="wedgeRectCallout">
            <a:avLst>
              <a:gd name="adj1" fmla="val -65361"/>
              <a:gd name="adj2" fmla="val 29166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 famil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14600" y="1676520"/>
            <a:ext cx="386388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04812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485720" cy="443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27960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 t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9000" y="2209680"/>
            <a:ext cx="29322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gato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 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per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682720"/>
            <a:ext cx="3809880" cy="271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24280" y="4427640"/>
            <a:ext cx="2514600" cy="178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05264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564000" y="407664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924360" y="981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3336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93372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740720" y="189000"/>
            <a:ext cx="974520" cy="2911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826920" y="476280"/>
            <a:ext cx="21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248520" y="4800600"/>
            <a:ext cx="2286000" cy="162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p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981080"/>
            <a:ext cx="2077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0481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30492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124080" y="1066680"/>
            <a:ext cx="2286000" cy="162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19320"/>
            <a:ext cx="2438640" cy="1623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58200" y="-236232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296280" y="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7010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477120" y="685800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362320" y="-2590920"/>
            <a:ext cx="216216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9144000" y="3276720"/>
            <a:ext cx="3048120" cy="2307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-487440" y="-29113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-162396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-952560" y="68580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6858000"/>
            <a:ext cx="1738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9144000" y="5962680"/>
            <a:ext cx="2514600" cy="1789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228600"/>
            <a:ext cx="4114800" cy="2666880"/>
          </a:xfrm>
          <a:prstGeom prst="wedgeEllipseCallout">
            <a:avLst>
              <a:gd name="adj1" fmla="val 100694"/>
              <a:gd name="adj2" fmla="val -4898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19112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76720" y="2971800"/>
            <a:ext cx="2819160" cy="2057400"/>
          </a:xfrm>
          <a:prstGeom prst="wedgeEllipseCallout">
            <a:avLst>
              <a:gd name="adj1" fmla="val -61657"/>
              <a:gd name="adj2" fmla="val 43902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BA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LI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791320" y="3733920"/>
            <a:ext cx="3047760" cy="2307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601992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p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47712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herm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m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42900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herma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124080" y="6019920"/>
            <a:ext cx="23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pad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24480" y="5867280"/>
            <a:ext cx="233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herman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15000" y="3657600"/>
            <a:ext cx="2514600" cy="178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32004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abue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943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2895480"/>
            <a:ext cx="23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abue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4008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abuel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952880" y="5410080"/>
            <a:ext cx="3733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gato y mi per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114800" y="525780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410080" y="24382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padre se llama Homer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ene 36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m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73000" y="1981080"/>
            <a:ext cx="34340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adre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9240" y="1981080"/>
            <a:ext cx="29415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7080" y="1981080"/>
            <a:ext cx="3667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3411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124080" y="36576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304812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295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95680" y="3429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62520" y="4572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6:40:52Z</dcterms:created>
  <dc:creator>e.morel</dc:creator>
  <dc:description/>
  <dc:language>en-US</dc:language>
  <cp:lastModifiedBy>CSeccombe</cp:lastModifiedBy>
  <dcterms:modified xsi:type="dcterms:W3CDTF">2006-06-12T19:48:04Z</dcterms:modified>
  <cp:revision>20</cp:revision>
  <dc:subject/>
  <dc:title>   Ma famille</dc:title>
</cp:coreProperties>
</file>