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98C-8248-4805-B03D-1996F9B0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024-1C4A-4FC1-A085-6EF1AAE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632-480E-46E5-B3A9-458EFF50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601-5490-47F7-9FF4-746F1649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35C-1D23-4F62-B584-16127751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906-3D2A-4D6E-9A4B-9F6F7D3F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6C1-0A4D-4781-890C-0B8A991E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989-DE47-4DCF-95BF-791233E2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960-43EF-48C4-9742-96C69885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7B3-AA1D-44E5-9763-6838EF2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C46-02F5-4D87-B78E-5C63DF01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59E-F069-472B-9261-50C8285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9488-97D0-45F4-85B1-05BDEDEEA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508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int-Sa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16000" y="476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carnaval de los animal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332000" y="5300640"/>
            <a:ext cx="66960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¿Qué dicen los animal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491160"/>
            <a:ext cx="63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 Light Bulb Languages/LStevens 2014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www.lightbulblanguages.co.u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heep_dances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d_dog_face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206064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t_licks_tail"/>
          <p:cNvPicPr/>
          <p:nvPr/>
        </p:nvPicPr>
        <p:blipFill>
          <a:blip r:embed="rId1"/>
          <a:stretch/>
        </p:blipFill>
        <p:spPr>
          <a:xfrm>
            <a:off x="3995640" y="2781360"/>
            <a:ext cx="2951280" cy="25891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476360" y="1989000"/>
            <a:ext cx="2521080" cy="1871640"/>
          </a:xfrm>
          <a:prstGeom prst="wedgeEllipseCallout">
            <a:avLst>
              <a:gd name="adj1" fmla="val 73930"/>
              <a:gd name="adj2" fmla="val 4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835280" y="1700280"/>
            <a:ext cx="592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¡A  jugar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71640" y="47242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¿Cuál de los animales hace estos soni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ow_smiles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lephant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nimation lion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5076720" y="1628640"/>
            <a:ext cx="360072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ird-03-june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hicken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ics_donkey_shrek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nimation lion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5148360" y="2349360"/>
            <a:ext cx="360036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uckoo300_tcm9-166867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3d_dog_face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icken-02-june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heep_dances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hicken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uckoo300_tcm9-166867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lephant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s_donkey_shrek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ird-03-june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hicken-02-june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ow_smiles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0:47:28Z</dcterms:created>
  <dc:creator>Lisa Stevens</dc:creator>
  <dc:description/>
  <dc:language>en-US</dc:language>
  <cp:lastModifiedBy>Clare Seccombe</cp:lastModifiedBy>
  <dcterms:modified xsi:type="dcterms:W3CDTF">2014-04-09T08:52:29Z</dcterms:modified>
  <cp:revision>5</cp:revision>
  <dc:subject/>
  <dc:title>Slide 1</dc:title>
</cp:coreProperties>
</file>