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7EB-192B-426E-BA19-AC28CC63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CB9-061B-4224-A436-DAD8C571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209-4F19-4AEE-BEDC-24A3DCF0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4DF-A9AC-4B45-840B-7BD5649D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3D0-BFCB-427F-9E32-CC867AAB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D98-97C9-41AB-8238-315061CB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351-5CB7-4124-97BB-D2690887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A948-7A54-4FE7-87FA-F93D7EE4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A33-EFF2-4637-8BDE-E3E18534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8E3-9B44-4196-8EFE-22A9B8FD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456-8EA7-4AF7-8F39-2600CB33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496-902C-4C41-89A6-DF1EA896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C79F-B916-4EE4-A482-18B3AFEF10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un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0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2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3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4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5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6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7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8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9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7T15:42:48Z</dcterms:modified>
  <cp:revision>20</cp:revision>
  <dc:subject/>
  <dc:title>John</dc:title>
</cp:coreProperties>
</file>