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1DA-DB9A-46B0-A065-A0943FB0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A24-F3C6-49D1-8E89-144537DF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0AE-66EC-4A35-97D1-F1ABFC39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635-4D84-479F-8B14-A3F5E7A1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9AD-8B24-4F06-BC0E-CBFE40F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9A4-A0D5-44D2-B7A9-2FF5CB73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D7F-8B38-4223-B4F5-795E078D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001-D34E-433F-BC88-36BAE4D1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484-988B-4DF6-B085-4FA66EFA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FE6-1B40-470B-812F-EC255A7A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328-FB9E-4A0C-ACE4-6D650CC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4A3-BB1C-41C8-AEAF-DF23BE7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D252-33E2-4DAE-ACE8-15D35457FD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5:42:48Z</dcterms:modified>
  <cp:revision>20</cp:revision>
  <dc:subject/>
  <dc:title>John</dc:title>
</cp:coreProperties>
</file>