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E792-E868-4810-8C1B-92B291072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7292-CF97-4474-A048-1C83988C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6575-C275-4E81-B4A9-924A81C1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EF61-C68E-4ABE-838D-BD0B07ED5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FCB8-E80E-4820-B9B3-6A4047A7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4426-384A-4EB2-A345-7652A7DA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FAF0-4C25-4B99-81BD-9A3B0999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80B6-0621-46AA-B616-AFAA1575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F30D-B29B-4411-B0CE-4C3F7134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F437-11AC-4ED0-95BC-037EC275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E232-7A5B-47FD-81BA-DDC1D341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5EF8-806D-4997-83FC-E06696D4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48A5-6D6D-417D-94F0-129FA2DBD3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uno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0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diez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1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onc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2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doc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3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trec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4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catorc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5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quinc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6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dieciséi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7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diecisiet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8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dieciocho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9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diecinuev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2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do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20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veint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3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tre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4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cuatro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5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cinco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6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sei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7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siet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8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ocho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9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nuev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9:16:46Z</dcterms:created>
  <dc:creator>Samuel Pickering</dc:creator>
  <dc:description/>
  <dc:language>en-US</dc:language>
  <cp:lastModifiedBy>Clare Seccombe</cp:lastModifiedBy>
  <dcterms:modified xsi:type="dcterms:W3CDTF">2018-12-07T15:48:50Z</dcterms:modified>
  <cp:revision>21</cp:revision>
  <dc:subject/>
  <dc:title>John</dc:title>
</cp:coreProperties>
</file>