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5F2-D195-48F2-9B53-E3ED6253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A2D-1539-4FB3-B5C1-6ECB0A0B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EC1-95EA-49E3-B893-D8AAFACE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4E2-5B78-497E-8B6D-39B9228F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9BC-7B1E-473F-BE27-B420540B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401-2DEA-4E02-8A4B-2579F52A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947-0455-4857-94ED-478C57A1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7EB-5AE5-4D95-A1A2-163B3EF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C0C-7A17-4AD7-B5A1-E821A340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34F-D564-4542-B144-6A0B0952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B2D-545D-4EC4-BFDF-546FD41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DBE-5A45-414C-A11F-CE3F055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3002-4FD6-4B8D-993C-22D69EF9D5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e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ator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cisé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cisiet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cioch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iecinuev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5:48:50Z</dcterms:modified>
  <cp:revision>21</cp:revision>
  <dc:subject/>
  <dc:title>John</dc:title>
</cp:coreProperties>
</file>