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8D18-7223-400D-874E-3463D952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5FAE-3A3D-4B14-A4BE-BF4E7177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457D-4E9E-4B44-90A3-4467E72E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6DF3-12C4-4C56-84BF-1036C888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1A70-D463-4774-9756-44503D31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F8B2-399A-4BA3-A65F-C1DA62F3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95DD-A39C-4412-BDFE-098B9405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BAB7-E66F-484F-B652-042F3279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06C6-BA64-44C2-A8AD-FE603AEA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437A-C15D-4B13-8BE7-C0FF5903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C18C-7B68-423B-92AC-CA2AE2E3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21D6-E16B-4EA5-8136-86E34F15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9C70-2A3F-442F-900B-38307CA2B5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ff0000"/>
                </a:solidFill>
                <a:latin typeface="Comic Sans MS"/>
              </a:rPr>
              <a:t>rojo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000000"/>
                </a:solidFill>
                <a:latin typeface="Comic Sans MS"/>
              </a:rPr>
              <a:t>negro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993300"/>
                </a:solidFill>
                <a:latin typeface="Comic Sans MS"/>
              </a:rPr>
              <a:t>marrón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ff6600"/>
                </a:solidFill>
                <a:latin typeface="Comic Sans MS"/>
              </a:rPr>
              <a:t>naranja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4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28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00ff00"/>
                </a:solidFill>
                <a:latin typeface="Comic Sans MS"/>
              </a:rPr>
              <a:t>verde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0070c0"/>
                </a:solidFill>
                <a:latin typeface="Comic Sans MS"/>
              </a:rPr>
              <a:t>azul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7030a0"/>
                </a:solidFill>
                <a:latin typeface="Comic Sans MS"/>
              </a:rPr>
              <a:t>violeta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d60093"/>
                </a:solidFill>
                <a:latin typeface="Comic Sans MS"/>
              </a:rPr>
              <a:t>rosa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4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28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404040"/>
                </a:solidFill>
                <a:latin typeface="Comic Sans MS"/>
              </a:rPr>
              <a:t>gris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9:16:46Z</dcterms:created>
  <dc:creator>Samuel Pickering</dc:creator>
  <dc:description/>
  <dc:language>en-US</dc:language>
  <cp:lastModifiedBy>Clare Seccombe</cp:lastModifiedBy>
  <dcterms:modified xsi:type="dcterms:W3CDTF">2018-12-07T17:49:31Z</dcterms:modified>
  <cp:revision>21</cp:revision>
  <dc:subject/>
  <dc:title>John</dc:title>
</cp:coreProperties>
</file>