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3CC-4263-41DF-978D-BD79E200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961-A8BE-499A-B8E3-C194E418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B4E-12FF-4B73-BF93-C52AECFD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269-2820-4DD1-A4A9-BF665B87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E39-772B-4E75-8508-2E29631A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E0C-88A5-4CA8-B0E8-32A2C5D9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DD3-9EDC-4FDB-8A54-BF8AB49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7F7-6C6B-402C-9A77-2478B3C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8C3-7C0C-4C17-8D0D-4FD03319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AFF-0251-4B0D-8D16-15115BB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8F1-0DBD-4028-88CA-1B175E3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725-0FC0-4EFB-8E1E-7E44E044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E836-1A30-4C59-B65C-CE4D06126A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993300"/>
                </a:solidFill>
                <a:latin typeface="Comic Sans MS"/>
              </a:rPr>
              <a:t>marró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6600"/>
                </a:solidFill>
                <a:latin typeface="Comic Sans MS"/>
              </a:rPr>
              <a:t>naranj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70c0"/>
                </a:solidFill>
                <a:latin typeface="Comic Sans MS"/>
              </a:rPr>
              <a:t>azul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7030a0"/>
                </a:solidFill>
                <a:latin typeface="Comic Sans MS"/>
              </a:rPr>
              <a:t>violet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d60093"/>
                </a:solidFill>
                <a:latin typeface="Comic Sans MS"/>
              </a:rPr>
              <a:t>ros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404040"/>
                </a:solidFill>
                <a:latin typeface="Comic Sans MS"/>
              </a:rPr>
              <a:t>gris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49:31Z</dcterms:modified>
  <cp:revision>21</cp:revision>
  <dc:subject/>
  <dc:title>John</dc:title>
</cp:coreProperties>
</file>