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046diez.wav" ContentType="audio/x-wav"/>
  <Override PartName="/ppt/media/s045nv.wav" ContentType="audio/x-wav"/>
  <Override PartName="/ppt/media/s040ctr.wav" ContentType="audio/x-wav"/>
  <Override PartName="/ppt/media/s044ocho.wav" ContentType="audio/x-wav"/>
  <Override PartName="/ppt/media/s043st.wav" ContentType="audio/x-wav"/>
  <Override PartName="/ppt/media/s039tres.wav" ContentType="audio/x-wav"/>
  <Override PartName="/ppt/media/s042seis.wav" ContentType="audio/x-wav"/>
  <Override PartName="/ppt/media/s041cnc.wav" ContentType="audio/x-wav"/>
  <Override PartName="/ppt/media/s038dos.wav" ContentType="audio/x-wav"/>
  <Override PartName="/ppt/media/s037uno.wav" ContentType="audio/x-wav"/>
  <Override PartName="/ppt/media/image1.png" ContentType="image/png"/>
  <Override PartName="/ppt/media/s012d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BAA-60FA-4544-A574-5F44A01F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17C-278E-4FB7-A819-4CC4D23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172-DD1C-48D9-86FD-3A181ADC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94A-1A06-444E-89EA-4BA17434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379-6F1B-4B81-9CF8-5D78BE37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EB4-CC55-44BA-A462-F78D6653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1AA-2E04-4939-BAB5-150C6F8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2C4-3065-4777-85C9-7A4574A1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222-8CCD-4B22-BA8E-19392108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160-3BDB-46E6-8731-25CDD62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87E-80CC-4887-A1A5-5F4A7CC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948-86E5-4B2D-9466-6EFA0BB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51B-7531-4E14-9AF0-886602CC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046diez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037uno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045nv.wav" TargetMode="External"/><Relationship Id="rId2" Type="http://schemas.microsoft.com/office/2007/relationships/media" Target="file:///tmp/home/.config/libreoffice/4/user/gallery/s045nv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012d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045nv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044ocho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043st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042seis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041cnc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040ctr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039tres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038dos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25360"/>
            <a:ext cx="8137440" cy="37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72c07"/>
                    </a:gs>
                    <a:gs pos="50000">
                      <a:srgbClr val="ffff00"/>
                    </a:gs>
                    <a:gs pos="100000">
                      <a:srgbClr val="e72c07"/>
                    </a:gs>
                  </a:gsLst>
                  <a:lin ang="5400000"/>
                </a:gradFill>
                <a:latin typeface="Copperplate Gothic Bold"/>
              </a:rPr>
              <a:t>STOP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72c07"/>
                  </a:gs>
                  <a:gs pos="50000">
                    <a:srgbClr val="ffff00"/>
                  </a:gs>
                  <a:gs pos="100000">
                    <a:srgbClr val="e72c07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9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6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74920" y="1335240"/>
            <a:ext cx="4392720" cy="425448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72c07"/>
              </a:gs>
              <a:gs pos="50000">
                <a:srgbClr val="ffff00"/>
              </a:gs>
              <a:gs pos="100000">
                <a:srgbClr val="e72c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8000" y="73080"/>
            <a:ext cx="65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Te qued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53020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minut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659772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CAS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41:14Z</dcterms:created>
  <dc:creator>CSeccombe</dc:creator>
  <dc:description/>
  <dc:language>en-US</dc:language>
  <cp:lastModifiedBy>PSeccombe</cp:lastModifiedBy>
  <dcterms:modified xsi:type="dcterms:W3CDTF">2004-10-25T10:26:33Z</dcterms:modified>
  <cp:revision>10</cp:revision>
  <dc:subject/>
  <dc:title>Slide 1</dc:title>
</cp:coreProperties>
</file>