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046diez.wav" ContentType="audio/x-wav"/>
  <Override PartName="/ppt/media/s045nv.wav" ContentType="audio/x-wav"/>
  <Override PartName="/ppt/media/s040ctr.wav" ContentType="audio/x-wav"/>
  <Override PartName="/ppt/media/s044ocho.wav" ContentType="audio/x-wav"/>
  <Override PartName="/ppt/media/s043st.wav" ContentType="audio/x-wav"/>
  <Override PartName="/ppt/media/s039tres.wav" ContentType="audio/x-wav"/>
  <Override PartName="/ppt/media/s042seis.wav" ContentType="audio/x-wav"/>
  <Override PartName="/ppt/media/s041cnc.wav" ContentType="audio/x-wav"/>
  <Override PartName="/ppt/media/s038dos.wav" ContentType="audio/x-wav"/>
  <Override PartName="/ppt/media/s037uno.wav" ContentType="audio/x-wav"/>
  <Override PartName="/ppt/media/image1.png" ContentType="image/png"/>
  <Override PartName="/ppt/media/s012d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B91-C824-4899-B9D2-50F22FCD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FCD-266F-4E21-8AF4-FB4207D6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A48-0DDC-4010-87BC-48D86CA5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58C-5E78-4299-8D5F-D6C50380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902-E9A3-4F93-A3D7-98E89E75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12D-31FA-40BB-AC67-191BE3B3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4B3-8780-4A6B-91DC-DDB78346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621-51C0-44D4-B9FC-05C3190F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3C9-7477-4E27-8D59-A2CDB3D2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CC3-8351-4104-AAD5-78FE193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C2E-3AAF-42A8-88AA-B7F214B5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76A-4358-4604-A095-DBCE32B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C6E6-B94B-4DE5-A572-9DDA9E0A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046diez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037uno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045nv.wav" TargetMode="External"/><Relationship Id="rId2" Type="http://schemas.microsoft.com/office/2007/relationships/media" Target="file:///tmp/home/.config/libreoffice/4/user/gallery/s045nv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012ds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045nv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044ocho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043st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042seis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041cnc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040ctr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039tres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038dos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25360"/>
            <a:ext cx="8137440" cy="37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72c07"/>
                    </a:gs>
                    <a:gs pos="50000">
                      <a:srgbClr val="ffff00"/>
                    </a:gs>
                    <a:gs pos="100000">
                      <a:srgbClr val="e72c07"/>
                    </a:gs>
                  </a:gsLst>
                  <a:lin ang="5400000"/>
                </a:gradFill>
                <a:latin typeface="Copperplate Gothic Bold"/>
              </a:rPr>
              <a:t>STOP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72c07"/>
                  </a:gs>
                  <a:gs pos="50000">
                    <a:srgbClr val="ffff00"/>
                  </a:gs>
                  <a:gs pos="100000">
                    <a:srgbClr val="e72c07"/>
                  </a:gs>
                </a:gsLst>
                <a:lin ang="5400000"/>
              </a:gradFill>
              <a:latin typeface="Copperplate Gothic Bold"/>
              <a:ea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9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6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41:14Z</dcterms:created>
  <dc:creator>CSeccombe</dc:creator>
  <dc:description/>
  <dc:language>en-US</dc:language>
  <cp:lastModifiedBy>PSeccombe</cp:lastModifiedBy>
  <dcterms:modified xsi:type="dcterms:W3CDTF">2004-10-25T10:26:33Z</dcterms:modified>
  <cp:revision>10</cp:revision>
  <dc:subject/>
  <dc:title>Slide 1</dc:title>
</cp:coreProperties>
</file>