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9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i Du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dnesday 7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B9754-4709-4EA1-B26B-4AA7B0A14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8E241-B111-4E7F-B2E9-FE5F2B156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dnesday 7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i Du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FEF-1112-456E-BCA5-A131E605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2A3-AD9E-411E-B1ED-E27E5A0A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CDE-57B9-4C82-B779-49857078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980-72F3-4A68-AAE2-CDC1B0B7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775-A72B-48F7-91F8-F34A1BEA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A8E-576F-49D3-B517-366544C4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672-7584-4394-9ADC-B106EFF2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D74-BE2E-46F6-ACFD-61E22409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1FF-2CC7-424D-B16A-815AB685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DF9-2394-4AAA-A791-37B1D728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E06-A9D2-4C2D-A2B7-9CF1F1E6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E08-3128-47BC-9394-D74BBB6F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Wednesday 7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EB948-5697-4ACE-9D88-51C9977A72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wmf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20.png"/><Relationship Id="rId21" Type="http://schemas.openxmlformats.org/officeDocument/2006/relationships/image" Target="../media/image22.png"/><Relationship Id="rId22" Type="http://schemas.openxmlformats.org/officeDocument/2006/relationships/image" Target="../media/image23.wmf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93280" y="2716200"/>
            <a:ext cx="77518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"/>
              </a:rPr>
              <a:t>Objeti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know how to form the I form of the future ten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Resultad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odos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voy a + jugar/practicar to talk about future 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Arial"/>
              </a:rPr>
              <a:t>La mayoría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nd your sent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Algunos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voy a + different infini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Vamos al futuro.png"/>
          <p:cNvPicPr/>
          <p:nvPr/>
        </p:nvPicPr>
        <p:blipFill>
          <a:blip r:embed="rId1"/>
          <a:stretch/>
        </p:blipFill>
        <p:spPr>
          <a:xfrm>
            <a:off x="1523880" y="316080"/>
            <a:ext cx="608328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uture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44680" y="196524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s easy as 1, 2, 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4" descr=""/>
          <p:cNvPicPr/>
          <p:nvPr/>
        </p:nvPicPr>
        <p:blipFill>
          <a:blip r:embed="rId1"/>
          <a:stretch/>
        </p:blipFill>
        <p:spPr>
          <a:xfrm>
            <a:off x="3876840" y="2541600"/>
            <a:ext cx="139032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5" descr=""/>
          <p:cNvPicPr/>
          <p:nvPr/>
        </p:nvPicPr>
        <p:blipFill>
          <a:blip r:embed="rId2"/>
          <a:stretch/>
        </p:blipFill>
        <p:spPr>
          <a:xfrm>
            <a:off x="4286160" y="3413160"/>
            <a:ext cx="57168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6" descr=""/>
          <p:cNvPicPr/>
          <p:nvPr/>
        </p:nvPicPr>
        <p:blipFill>
          <a:blip r:embed="rId3"/>
          <a:stretch/>
        </p:blipFill>
        <p:spPr>
          <a:xfrm>
            <a:off x="3060720" y="4486320"/>
            <a:ext cx="3035160" cy="93348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4"/>
          <a:stretch/>
        </p:blipFill>
        <p:spPr>
          <a:xfrm>
            <a:off x="2481120" y="2511360"/>
            <a:ext cx="579600" cy="100656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8" descr=""/>
          <p:cNvPicPr/>
          <p:nvPr/>
        </p:nvPicPr>
        <p:blipFill>
          <a:blip r:embed="rId5"/>
          <a:stretch/>
        </p:blipFill>
        <p:spPr>
          <a:xfrm>
            <a:off x="2487600" y="3419640"/>
            <a:ext cx="579600" cy="100620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9" descr=""/>
          <p:cNvPicPr/>
          <p:nvPr/>
        </p:nvPicPr>
        <p:blipFill>
          <a:blip r:embed="rId6"/>
          <a:stretch/>
        </p:blipFill>
        <p:spPr>
          <a:xfrm>
            <a:off x="2487600" y="4425840"/>
            <a:ext cx="579600" cy="1011240"/>
          </a:xfrm>
          <a:prstGeom prst="rect">
            <a:avLst/>
          </a:prstGeom>
          <a:ln w="0">
            <a:noFill/>
          </a:ln>
        </p:spPr>
      </p:pic>
      <p:pic>
        <p:nvPicPr>
          <p:cNvPr id="58" name="Left Arrow 10" descr=""/>
          <p:cNvPicPr/>
          <p:nvPr/>
        </p:nvPicPr>
        <p:blipFill>
          <a:blip r:embed="rId7"/>
          <a:stretch/>
        </p:blipFill>
        <p:spPr>
          <a:xfrm>
            <a:off x="5407200" y="2004840"/>
            <a:ext cx="19443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C:\Documents and Settings\Weezie\Local Settings\Temporary Internet Files\Content.IE5\H6MKUQTW\j0396714[1].wmf"/>
          <p:cNvPicPr/>
          <p:nvPr/>
        </p:nvPicPr>
        <p:blipFill>
          <a:blip r:embed="rId1"/>
          <a:stretch/>
        </p:blipFill>
        <p:spPr>
          <a:xfrm>
            <a:off x="6527880" y="412920"/>
            <a:ext cx="1104840" cy="125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2"/>
          <a:stretch/>
        </p:blipFill>
        <p:spPr>
          <a:xfrm flipH="1">
            <a:off x="7246800" y="2951280"/>
            <a:ext cx="1424160" cy="141912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9" descr=""/>
          <p:cNvPicPr/>
          <p:nvPr/>
        </p:nvPicPr>
        <p:blipFill>
          <a:blip r:embed="rId3"/>
          <a:stretch/>
        </p:blipFill>
        <p:spPr>
          <a:xfrm>
            <a:off x="938160" y="743040"/>
            <a:ext cx="987480" cy="7142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0" descr=""/>
          <p:cNvPicPr/>
          <p:nvPr/>
        </p:nvPicPr>
        <p:blipFill>
          <a:blip r:embed="rId4"/>
          <a:stretch/>
        </p:blipFill>
        <p:spPr>
          <a:xfrm>
            <a:off x="2023920" y="743040"/>
            <a:ext cx="474840" cy="71424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11" descr=""/>
          <p:cNvPicPr/>
          <p:nvPr/>
        </p:nvPicPr>
        <p:blipFill>
          <a:blip r:embed="rId5"/>
          <a:stretch/>
        </p:blipFill>
        <p:spPr>
          <a:xfrm>
            <a:off x="2620800" y="768240"/>
            <a:ext cx="1360800" cy="7128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12" descr=""/>
          <p:cNvPicPr/>
          <p:nvPr/>
        </p:nvPicPr>
        <p:blipFill>
          <a:blip r:embed="rId6"/>
          <a:stretch/>
        </p:blipFill>
        <p:spPr>
          <a:xfrm>
            <a:off x="4370400" y="768240"/>
            <a:ext cx="1987560" cy="71280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14" descr=""/>
          <p:cNvPicPr/>
          <p:nvPr/>
        </p:nvPicPr>
        <p:blipFill>
          <a:blip r:embed="rId7"/>
          <a:stretch/>
        </p:blipFill>
        <p:spPr>
          <a:xfrm>
            <a:off x="4267080" y="738360"/>
            <a:ext cx="590760" cy="7189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20" descr=""/>
          <p:cNvPicPr/>
          <p:nvPr/>
        </p:nvPicPr>
        <p:blipFill>
          <a:blip r:embed="rId8"/>
          <a:stretch/>
        </p:blipFill>
        <p:spPr>
          <a:xfrm>
            <a:off x="963720" y="2011320"/>
            <a:ext cx="987480" cy="71280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21" descr=""/>
          <p:cNvPicPr/>
          <p:nvPr/>
        </p:nvPicPr>
        <p:blipFill>
          <a:blip r:embed="rId9"/>
          <a:stretch/>
        </p:blipFill>
        <p:spPr>
          <a:xfrm>
            <a:off x="2048040" y="2011320"/>
            <a:ext cx="47592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22" descr=""/>
          <p:cNvPicPr/>
          <p:nvPr/>
        </p:nvPicPr>
        <p:blipFill>
          <a:blip r:embed="rId10"/>
          <a:stretch/>
        </p:blipFill>
        <p:spPr>
          <a:xfrm>
            <a:off x="2651040" y="2036880"/>
            <a:ext cx="1354320" cy="7128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23" descr=""/>
          <p:cNvPicPr/>
          <p:nvPr/>
        </p:nvPicPr>
        <p:blipFill>
          <a:blip r:embed="rId11"/>
          <a:stretch/>
        </p:blipFill>
        <p:spPr>
          <a:xfrm>
            <a:off x="4370400" y="2036880"/>
            <a:ext cx="1817640" cy="71280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24" descr=""/>
          <p:cNvPicPr/>
          <p:nvPr/>
        </p:nvPicPr>
        <p:blipFill>
          <a:blip r:embed="rId12"/>
          <a:stretch/>
        </p:blipFill>
        <p:spPr>
          <a:xfrm>
            <a:off x="4297320" y="2004840"/>
            <a:ext cx="585720" cy="7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13"/>
          <a:stretch/>
        </p:blipFill>
        <p:spPr>
          <a:xfrm>
            <a:off x="6378480" y="1998720"/>
            <a:ext cx="125424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26" descr=""/>
          <p:cNvPicPr/>
          <p:nvPr/>
        </p:nvPicPr>
        <p:blipFill>
          <a:blip r:embed="rId14"/>
          <a:stretch/>
        </p:blipFill>
        <p:spPr>
          <a:xfrm>
            <a:off x="963720" y="3498840"/>
            <a:ext cx="987480" cy="71280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27" descr=""/>
          <p:cNvPicPr/>
          <p:nvPr/>
        </p:nvPicPr>
        <p:blipFill>
          <a:blip r:embed="rId15"/>
          <a:stretch/>
        </p:blipFill>
        <p:spPr>
          <a:xfrm>
            <a:off x="2048040" y="3498840"/>
            <a:ext cx="475920" cy="7128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8" descr=""/>
          <p:cNvPicPr/>
          <p:nvPr/>
        </p:nvPicPr>
        <p:blipFill>
          <a:blip r:embed="rId16"/>
          <a:stretch/>
        </p:blipFill>
        <p:spPr>
          <a:xfrm>
            <a:off x="2517840" y="3498840"/>
            <a:ext cx="2157480" cy="7128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29" descr=""/>
          <p:cNvPicPr/>
          <p:nvPr/>
        </p:nvPicPr>
        <p:blipFill>
          <a:blip r:embed="rId17"/>
          <a:stretch/>
        </p:blipFill>
        <p:spPr>
          <a:xfrm>
            <a:off x="4584600" y="3492360"/>
            <a:ext cx="2786040" cy="71460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5" descr=""/>
          <p:cNvPicPr/>
          <p:nvPr/>
        </p:nvPicPr>
        <p:blipFill>
          <a:blip r:embed="rId18"/>
          <a:stretch/>
        </p:blipFill>
        <p:spPr>
          <a:xfrm>
            <a:off x="963720" y="4870440"/>
            <a:ext cx="987480" cy="71280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36" descr=""/>
          <p:cNvPicPr/>
          <p:nvPr/>
        </p:nvPicPr>
        <p:blipFill>
          <a:blip r:embed="rId19"/>
          <a:stretch/>
        </p:blipFill>
        <p:spPr>
          <a:xfrm>
            <a:off x="2048040" y="4870440"/>
            <a:ext cx="475920" cy="71280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7" descr=""/>
          <p:cNvPicPr/>
          <p:nvPr/>
        </p:nvPicPr>
        <p:blipFill>
          <a:blip r:embed="rId20"/>
          <a:stretch/>
        </p:blipFill>
        <p:spPr>
          <a:xfrm>
            <a:off x="2517840" y="4870440"/>
            <a:ext cx="2157480" cy="7128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38" descr=""/>
          <p:cNvPicPr/>
          <p:nvPr/>
        </p:nvPicPr>
        <p:blipFill>
          <a:blip r:embed="rId21"/>
          <a:stretch/>
        </p:blipFill>
        <p:spPr>
          <a:xfrm>
            <a:off x="4913280" y="4863960"/>
            <a:ext cx="2127240" cy="71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22"/>
          <a:stretch/>
        </p:blipFill>
        <p:spPr>
          <a:xfrm>
            <a:off x="7226280" y="4484520"/>
            <a:ext cx="1444680" cy="120816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40" descr=""/>
          <p:cNvPicPr/>
          <p:nvPr/>
        </p:nvPicPr>
        <p:blipFill>
          <a:blip r:embed="rId23"/>
          <a:stretch/>
        </p:blipFill>
        <p:spPr>
          <a:xfrm>
            <a:off x="1085760" y="133200"/>
            <a:ext cx="571680" cy="101304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41" descr=""/>
          <p:cNvPicPr/>
          <p:nvPr/>
        </p:nvPicPr>
        <p:blipFill>
          <a:blip r:embed="rId24"/>
          <a:stretch/>
        </p:blipFill>
        <p:spPr>
          <a:xfrm>
            <a:off x="2023920" y="122400"/>
            <a:ext cx="573120" cy="101124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42" descr=""/>
          <p:cNvPicPr/>
          <p:nvPr/>
        </p:nvPicPr>
        <p:blipFill>
          <a:blip r:embed="rId25"/>
          <a:stretch/>
        </p:blipFill>
        <p:spPr>
          <a:xfrm>
            <a:off x="3041640" y="122400"/>
            <a:ext cx="5731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Qué voy a hac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87360" y="1581120"/>
          <a:ext cx="7162920" cy="3776760"/>
        </p:xfrm>
        <a:graphic>
          <a:graphicData uri="http://schemas.openxmlformats.org/drawingml/2006/table">
            <a:tbl>
              <a:tblPr/>
              <a:tblGrid>
                <a:gridCol w="1354320"/>
                <a:gridCol w="1492200"/>
                <a:gridCol w="1868400"/>
                <a:gridCol w="2448000"/>
              </a:tblGrid>
              <a:tr h="2036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y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oy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bádmi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fút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ten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rug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volei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hoc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mis ami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mi her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l par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l polidepor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pis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cicl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imna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equi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atlet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a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 your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2225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Weezie\Local Settings\Temporary Internet Files\Content.IE5\H6MKUQTW\j0396714[1].wmf"/>
          <p:cNvPicPr/>
          <p:nvPr/>
        </p:nvPicPr>
        <p:blipFill>
          <a:blip r:embed="rId2"/>
          <a:stretch/>
        </p:blipFill>
        <p:spPr>
          <a:xfrm>
            <a:off x="2021040" y="3274920"/>
            <a:ext cx="2012760" cy="22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4943520" y="3460680"/>
            <a:ext cx="2046240" cy="1994040"/>
          </a:xfrm>
          <a:prstGeom prst="rect">
            <a:avLst/>
          </a:prstGeom>
          <a:ln w="0">
            <a:noFill/>
          </a:ln>
        </p:spPr>
      </p:pic>
      <p:sp>
        <p:nvSpPr>
          <p:cNvPr id="90" name="&quot;No&quot; Symbol 6"/>
          <p:cNvSpPr/>
          <p:nvPr/>
        </p:nvSpPr>
        <p:spPr>
          <a:xfrm flipH="1">
            <a:off x="4486320" y="2987640"/>
            <a:ext cx="2790720" cy="2762280"/>
          </a:xfrm>
          <a:custGeom>
            <a:avLst/>
            <a:gdLst/>
            <a:ahLst/>
            <a:rect l="l" t="t" r="r" b="b"/>
            <a:pathLst>
              <a:path w="2791649" h="2761678">
                <a:moveTo>
                  <a:pt x="0" y="1380839"/>
                </a:moveTo>
                <a:cubicBezTo>
                  <a:pt x="0" y="618223"/>
                  <a:pt x="624932" y="0"/>
                  <a:pt x="1395825" y="0"/>
                </a:cubicBezTo>
                <a:cubicBezTo>
                  <a:pt x="2166718" y="0"/>
                  <a:pt x="2791650" y="618223"/>
                  <a:pt x="2791650" y="1380839"/>
                </a:cubicBezTo>
                <a:cubicBezTo>
                  <a:pt x="2791650" y="2143455"/>
                  <a:pt x="2166718" y="2761678"/>
                  <a:pt x="1395825" y="2761678"/>
                </a:cubicBezTo>
                <a:cubicBezTo>
                  <a:pt x="624932" y="2761678"/>
                  <a:pt x="0" y="2143455"/>
                  <a:pt x="0" y="1380839"/>
                </a:cubicBezTo>
                <a:close/>
                <a:moveTo>
                  <a:pt x="2287311" y="2084986"/>
                </a:moveTo>
                <a:cubicBezTo>
                  <a:pt x="2654215" y="1632579"/>
                  <a:pt x="2613640" y="979310"/>
                  <a:pt x="2193494" y="574513"/>
                </a:cubicBezTo>
                <a:cubicBezTo>
                  <a:pt x="1781491" y="177561"/>
                  <a:pt x="1134468" y="145440"/>
                  <a:pt x="684178" y="499583"/>
                </a:cubicBezTo>
                <a:lnTo>
                  <a:pt x="2287311" y="2084986"/>
                </a:lnTo>
                <a:close/>
                <a:moveTo>
                  <a:pt x="504338" y="676692"/>
                </a:moveTo>
                <a:cubicBezTo>
                  <a:pt x="137434" y="1129099"/>
                  <a:pt x="178009" y="1782368"/>
                  <a:pt x="598155" y="2187165"/>
                </a:cubicBezTo>
                <a:cubicBezTo>
                  <a:pt x="1010158" y="2584117"/>
                  <a:pt x="1657181" y="2616238"/>
                  <a:pt x="2107471" y="2262095"/>
                </a:cubicBezTo>
                <a:lnTo>
                  <a:pt x="504338" y="6766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1861" t="12788" r="50004" b="15577"/>
          <a:stretch/>
        </p:blipFill>
        <p:spPr>
          <a:xfrm>
            <a:off x="1952640" y="274680"/>
            <a:ext cx="1135080" cy="127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rcRect l="50004" t="18621" r="1861" b="9756"/>
          <a:stretch/>
        </p:blipFill>
        <p:spPr>
          <a:xfrm>
            <a:off x="5927760" y="330120"/>
            <a:ext cx="1135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3280" y="2716200"/>
            <a:ext cx="77518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Objeti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know how to form the I form of the future ten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Resultad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odos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voy a + jugar/practicar to talk about future 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Arial"/>
              </a:rPr>
              <a:t>La mayoría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nd your sent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Algunos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voy a + different infini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Vamos al futuro.png"/>
          <p:cNvPicPr/>
          <p:nvPr/>
        </p:nvPicPr>
        <p:blipFill>
          <a:blip r:embed="rId1"/>
          <a:stretch/>
        </p:blipFill>
        <p:spPr>
          <a:xfrm>
            <a:off x="1523880" y="316080"/>
            <a:ext cx="608328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1:16:32Z</dcterms:created>
  <dc:creator>Terri Dunne</dc:creator>
  <dc:description/>
  <dc:language>en-US</dc:language>
  <cp:lastModifiedBy>Clare</cp:lastModifiedBy>
  <cp:lastPrinted>2012-03-06T14:34:36Z</cp:lastPrinted>
  <dcterms:modified xsi:type="dcterms:W3CDTF">2012-05-04T11:17:44Z</dcterms:modified>
  <cp:revision>9</cp:revision>
  <dc:subject/>
  <dc:title>PowerPoint Presentation</dc:title>
</cp:coreProperties>
</file>