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hese slides can be easily adapted to a verb of your choosing –just make sure you put the correct answer in the ‘applause’ l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Multiple choice revision game– applause for correct answer, a bombing sound for in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3FE5-31ED-49B8-BB69-46493A4F3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070A-ABDA-4AA3-B34D-39210AF67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A090-CEF2-4F08-A93C-583DDDCF8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E5F4-A630-49E0-A4C6-A829C518FE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B841-53C3-4F4F-9C3A-F22D713452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DE08-DC5D-41E9-9EA8-69C6E5EA4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7BD8-AD5A-495A-B526-11F7DFEF4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BEF2-BAC8-4EE5-9EC8-F909D8D2F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54C1-D0AF-4860-89A5-DD7C2D920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695A-2E65-4228-9BDD-F9C9AB551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03B5-91FB-4D00-B858-794A3F4B9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CE9A-93F8-44B7-B3D5-B5C2A81A9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F208-180C-4DCC-ACD3-C393CE2B44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udiar – to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0" presetSubtype="6333347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ella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usted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(nosotras)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sotros (vosotras)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á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 (ellas)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tedes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ali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n studies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9640" y="2133720"/>
            <a:ext cx="4114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(mate) study ….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study …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308720" y="479736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539640" y="1557360"/>
            <a:ext cx="6210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(ladies and gentlemen) study …….very we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(lot)  study…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n</dc:creator>
  <dc:description/>
  <cp:keywords/>
  <dc:language>en-US</dc:language>
  <cp:lastModifiedBy>Clare Seccombe</cp:lastModifiedBy>
  <dcterms:modified xsi:type="dcterms:W3CDTF">2014-04-15T05:35:58Z</dcterms:modified>
  <cp:revision>1</cp:revision>
  <dc:subject/>
  <dc:title>Slide 1</dc:title>
</cp:coreProperties>
</file>