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These slides can be easily adapted to a verb of your choosing –just make sure you put the correct answer in the ‘applause’ li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Multiple choice revision game– applause for correct answer, a bombing sound for incorr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4D5EE-CBBC-421F-BB3B-9A807026FD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E7F11-7C20-4740-8EA9-6BAA5B95BF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0ACB0-E6A4-49BD-B79B-8CD98DD9B9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8CC17-8457-4CED-AA88-2E53CF8D5B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A9138-3437-4D9E-B3AF-63BE69512B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2B8D9-BC66-4C0A-BA1F-958D4C90C2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DF9BB-6C35-42F7-9A41-FF43C508F9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E0F0E-9C9D-4F55-A606-A25788E602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4E67B-BFBA-4DD2-BAE4-D6CB15816F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99CCD-A57C-4238-99FF-BDE336692B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6BA40-3822-403F-914C-C4EB9D3CE0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26831-C7EA-462B-A7AE-829975DA9F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7EC0-F542-4F31-B703-409BAC4731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udiar – to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619280" y="1413000"/>
            <a:ext cx="6119640" cy="458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0" presetSubtype="6333347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udi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 estudi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ú estudi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l estudi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ella estudi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usted estudi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otros (nosotras) estudi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m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sotros (vosotras) estudi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á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os (ellas) estudi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tedes estudi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611280" y="620640"/>
            <a:ext cx="8292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studiar – to stu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539640" y="2133720"/>
            <a:ext cx="411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4360" y="3141720"/>
            <a:ext cx="447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611280" y="4076640"/>
            <a:ext cx="28191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ud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611280" y="5084640"/>
            <a:ext cx="26035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u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7308720" y="2924280"/>
            <a:ext cx="6606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308720" y="3933720"/>
            <a:ext cx="800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7308720" y="4941720"/>
            <a:ext cx="800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611280" y="620640"/>
            <a:ext cx="8292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studiar – to stu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539640" y="2133720"/>
            <a:ext cx="411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talie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684360" y="3141720"/>
            <a:ext cx="447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611280" y="4076640"/>
            <a:ext cx="28191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ud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611280" y="5084640"/>
            <a:ext cx="26035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u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308720" y="2924280"/>
            <a:ext cx="6606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7308720" y="3933720"/>
            <a:ext cx="800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7308720" y="4941720"/>
            <a:ext cx="800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611280" y="620640"/>
            <a:ext cx="8292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studiar – to stu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39640" y="2133720"/>
            <a:ext cx="411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n studies ge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684360" y="3141720"/>
            <a:ext cx="447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611280" y="4076640"/>
            <a:ext cx="28191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ud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611280" y="5084640"/>
            <a:ext cx="26035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u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7308720" y="2924280"/>
            <a:ext cx="6606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7308720" y="3933720"/>
            <a:ext cx="800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7308720" y="4941720"/>
            <a:ext cx="800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611280" y="620640"/>
            <a:ext cx="8292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studiar – to stu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39640" y="2133720"/>
            <a:ext cx="411480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ou (mate) study ….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684360" y="3141720"/>
            <a:ext cx="447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611280" y="4076640"/>
            <a:ext cx="28191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ud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611280" y="5084640"/>
            <a:ext cx="26035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u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7308720" y="2924280"/>
            <a:ext cx="6606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7308720" y="3933720"/>
            <a:ext cx="800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7308720" y="4941720"/>
            <a:ext cx="800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611280" y="620640"/>
            <a:ext cx="8292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studiar – to stu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9640" y="2133720"/>
            <a:ext cx="411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y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684360" y="3141720"/>
            <a:ext cx="447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udi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611280" y="4076640"/>
            <a:ext cx="28191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udi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611280" y="5084640"/>
            <a:ext cx="26035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u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7308720" y="2924280"/>
            <a:ext cx="6606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308720" y="3933720"/>
            <a:ext cx="800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7308720" y="4941720"/>
            <a:ext cx="800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611280" y="620640"/>
            <a:ext cx="8292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studiar – to stu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539640" y="2133720"/>
            <a:ext cx="411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 study …Spa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684360" y="3141720"/>
            <a:ext cx="447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udi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611280" y="4076640"/>
            <a:ext cx="28191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udi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611280" y="5084640"/>
            <a:ext cx="26035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u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7308720" y="2924280"/>
            <a:ext cx="6606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308720" y="3933720"/>
            <a:ext cx="800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7308720" y="4797360"/>
            <a:ext cx="6606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611280" y="620640"/>
            <a:ext cx="8292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studiar – to stu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539640" y="1557360"/>
            <a:ext cx="6210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ou (ladies and gentlemen) study …….very wel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684360" y="3141720"/>
            <a:ext cx="447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udi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611280" y="4076640"/>
            <a:ext cx="28191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udi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611280" y="5084640"/>
            <a:ext cx="26035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u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7308720" y="2924280"/>
            <a:ext cx="6606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308720" y="3933720"/>
            <a:ext cx="800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7308720" y="4941720"/>
            <a:ext cx="800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611280" y="620640"/>
            <a:ext cx="8292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studiar – to stu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539640" y="2133720"/>
            <a:ext cx="411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ou (lot)  study…a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684360" y="3141720"/>
            <a:ext cx="447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udi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11280" y="4076640"/>
            <a:ext cx="28191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udiá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611280" y="5084640"/>
            <a:ext cx="26035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u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308720" y="2924280"/>
            <a:ext cx="6606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308720" y="3933720"/>
            <a:ext cx="800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7308720" y="4941720"/>
            <a:ext cx="800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n</dc:creator>
  <dc:description/>
  <cp:keywords/>
  <dc:language>en-US</dc:language>
  <cp:lastModifiedBy>Clare Seccombe</cp:lastModifiedBy>
  <dcterms:modified xsi:type="dcterms:W3CDTF">2014-04-15T05:35:58Z</dcterms:modified>
  <cp:revision>1</cp:revision>
  <dc:subject/>
  <dc:title>Slide 1</dc:title>
</cp:coreProperties>
</file>