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770-5859-4921-858A-4A5252EE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041-CE0A-4D72-816C-3532FEEF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45E-B8BB-4620-96C4-F5372D65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632-51B7-4461-A0EF-9B209930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3BC-BE62-437C-A92A-E8DE5201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C70-B4A9-43B2-91F5-B150F102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5AE-8310-493D-BDDF-D84D2C2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808-1B14-4BF0-B55E-85D61447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C1B-9C3E-4F54-A16B-81D38D44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1B9-9A18-4C4F-98AA-3F361F7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D91-4FAC-447B-9BDB-BCA93625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A65-529B-4B0E-B516-1CFBD3B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86D5-283C-4EFD-B878-635F82EF0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5.xml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.xm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La Fami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Los miembros de la fam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¿Cómo se lla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762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¿Cómo es tu famil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124080" cy="2819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38080" y="5715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78168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838080"/>
            <a:ext cx="518148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escríbeme tu fam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124080"/>
            <a:ext cx="5867640" cy="2819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¿Cuántos so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¿Quiénes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¿Tienes herman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¿Cómo se lla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30492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e present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038840" cy="304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81480" y="1905120"/>
            <a:ext cx="1219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l p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960" y="3124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l 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98108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 ab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l ab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34286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486400" y="26668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552720" y="34290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790960" y="4800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14400" cy="814320"/>
          </a:xfrm>
          <a:custGeom>
            <a:avLst/>
            <a:gdLst>
              <a:gd name="textAreaLeft" fmla="*/ 52560 w 914400"/>
              <a:gd name="textAreaRight" fmla="*/ 861840 w 91440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4253" h="21600">
                <a:moveTo>
                  <a:pt x="0" y="0"/>
                </a:moveTo>
                <a:lnTo>
                  <a:pt x="24253" y="0"/>
                </a:lnTo>
                <a:lnTo>
                  <a:pt x="24253" y="21600"/>
                </a:lnTo>
                <a:lnTo>
                  <a:pt x="0" y="21600"/>
                </a:lnTo>
                <a:close/>
              </a:path>
              <a:path fill="lightenLess" w="24253" h="21600">
                <a:moveTo>
                  <a:pt x="0" y="0"/>
                </a:moveTo>
                <a:lnTo>
                  <a:pt x="24253" y="0"/>
                </a:lnTo>
                <a:lnTo>
                  <a:pt x="22853" y="1400"/>
                </a:lnTo>
                <a:lnTo>
                  <a:pt x="1400" y="1400"/>
                </a:lnTo>
                <a:close/>
              </a:path>
              <a:path fill="darken" w="24253" h="21600">
                <a:moveTo>
                  <a:pt x="24253" y="0"/>
                </a:moveTo>
                <a:lnTo>
                  <a:pt x="24253" y="21600"/>
                </a:lnTo>
                <a:lnTo>
                  <a:pt x="22853" y="20200"/>
                </a:lnTo>
                <a:lnTo>
                  <a:pt x="22853" y="1400"/>
                </a:lnTo>
                <a:close/>
              </a:path>
              <a:path fill="darkenLess" w="24253" h="21600">
                <a:moveTo>
                  <a:pt x="24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3" y="20200"/>
                </a:lnTo>
                <a:close/>
              </a:path>
              <a:path fill="lighten" w="24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3" h="21600">
                <a:moveTo>
                  <a:pt x="5120" y="3794"/>
                </a:moveTo>
                <a:lnTo>
                  <a:pt x="19133" y="10800"/>
                </a:lnTo>
                <a:lnTo>
                  <a:pt x="5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1447920" y="6019920"/>
            <a:ext cx="609480" cy="509400"/>
          </a:xfrm>
          <a:custGeom>
            <a:avLst/>
            <a:gdLst>
              <a:gd name="textAreaLeft" fmla="*/ 32760 w 609480"/>
              <a:gd name="textAreaRight" fmla="*/ 576720 w 60948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5841" h="21600">
                <a:moveTo>
                  <a:pt x="0" y="0"/>
                </a:moveTo>
                <a:lnTo>
                  <a:pt x="25841" y="0"/>
                </a:lnTo>
                <a:lnTo>
                  <a:pt x="25841" y="21600"/>
                </a:lnTo>
                <a:lnTo>
                  <a:pt x="0" y="21600"/>
                </a:lnTo>
                <a:close/>
              </a:path>
              <a:path fill="lightenLess" w="25841" h="21600">
                <a:moveTo>
                  <a:pt x="0" y="0"/>
                </a:moveTo>
                <a:lnTo>
                  <a:pt x="25841" y="0"/>
                </a:lnTo>
                <a:lnTo>
                  <a:pt x="24441" y="1400"/>
                </a:lnTo>
                <a:lnTo>
                  <a:pt x="1400" y="1400"/>
                </a:lnTo>
                <a:close/>
              </a:path>
              <a:path fill="darken" w="25841" h="21600">
                <a:moveTo>
                  <a:pt x="25841" y="0"/>
                </a:moveTo>
                <a:lnTo>
                  <a:pt x="25841" y="21600"/>
                </a:lnTo>
                <a:lnTo>
                  <a:pt x="24441" y="20200"/>
                </a:lnTo>
                <a:lnTo>
                  <a:pt x="24441" y="1400"/>
                </a:lnTo>
                <a:close/>
              </a:path>
              <a:path fill="darkenLess" w="25841" h="21600">
                <a:moveTo>
                  <a:pt x="25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41" y="20200"/>
                </a:lnTo>
                <a:close/>
              </a:path>
              <a:path fill="lighten" w="25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41" h="21600">
                <a:moveTo>
                  <a:pt x="5914" y="10800"/>
                </a:moveTo>
                <a:lnTo>
                  <a:pt x="19927" y="3794"/>
                </a:lnTo>
                <a:lnTo>
                  <a:pt x="1992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6858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¿Quién 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el hijo              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el pa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543800" y="3962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7391520" y="2819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33720" y="19051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Rockwell"/>
              </a:rPr>
              <a:t>Wrong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343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2438280" y="42670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81080" y="16002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Rockwell"/>
              </a:rPr>
              <a:t>Correc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324480" y="48769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1371600" y="49528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¿Quién 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la abuela                                                                                    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 la ma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221004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7543800" y="2743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543800" y="3886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5120" y="14479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Rockwell"/>
              </a:rPr>
              <a:t>Correc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1676520" y="449568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3837"/>
                </a:moveTo>
                <a:lnTo>
                  <a:pt x="16075" y="6448"/>
                </a:ln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lnTo>
                  <a:pt x="20462" y="10800"/>
                </a:lnTo>
                <a:lnTo>
                  <a:pt x="18808" y="10800"/>
                </a:lnTo>
                <a:lnTo>
                  <a:pt x="18808" y="17989"/>
                </a:lnTo>
                <a:lnTo>
                  <a:pt x="8190" y="17989"/>
                </a:lnTo>
                <a:lnTo>
                  <a:pt x="8190" y="10800"/>
                </a:lnTo>
                <a:lnTo>
                  <a:pt x="6536" y="10800"/>
                </a:lnTo>
                <a:close/>
              </a:path>
              <a:path fill="darkenLess" w="26998" h="21600">
                <a:moveTo>
                  <a:pt x="16075" y="6448"/>
                </a:move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close/>
              </a:path>
              <a:path fill="darkenLess" w="26998" h="21600">
                <a:moveTo>
                  <a:pt x="12576" y="14299"/>
                </a:moveTo>
                <a:lnTo>
                  <a:pt x="14422" y="14299"/>
                </a:lnTo>
                <a:lnTo>
                  <a:pt x="14422" y="17989"/>
                </a:lnTo>
                <a:lnTo>
                  <a:pt x="18808" y="17989"/>
                </a:lnTo>
                <a:lnTo>
                  <a:pt x="18808" y="10800"/>
                </a:lnTo>
                <a:lnTo>
                  <a:pt x="8190" y="10800"/>
                </a:lnTo>
                <a:lnTo>
                  <a:pt x="8190" y="17989"/>
                </a:lnTo>
                <a:lnTo>
                  <a:pt x="12576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6172200" y="45720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¿Cómo se lla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sta es la abuela. Se llama Isab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ste es el hijo. Se llama Ju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buela se llam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Ju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s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705720" y="4267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705720" y="3200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3794"/>
                </a:moveTo>
                <a:lnTo>
                  <a:pt x="33968" y="10800"/>
                </a:lnTo>
                <a:lnTo>
                  <a:pt x="199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0840" y="1752480"/>
            <a:ext cx="473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Rockwell"/>
              </a:rPr>
              <a:t>Correc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1371600" y="51055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11783" y="3837"/>
                </a:moveTo>
                <a:lnTo>
                  <a:pt x="14359" y="6448"/>
                </a:lnTo>
                <a:lnTo>
                  <a:pt x="14359" y="4707"/>
                </a:lnTo>
                <a:lnTo>
                  <a:pt x="16135" y="4707"/>
                </a:lnTo>
                <a:lnTo>
                  <a:pt x="16135" y="8224"/>
                </a:lnTo>
                <a:lnTo>
                  <a:pt x="18746" y="10800"/>
                </a:lnTo>
                <a:lnTo>
                  <a:pt x="17092" y="10800"/>
                </a:lnTo>
                <a:lnTo>
                  <a:pt x="17092" y="17989"/>
                </a:lnTo>
                <a:lnTo>
                  <a:pt x="6474" y="17989"/>
                </a:lnTo>
                <a:lnTo>
                  <a:pt x="6474" y="10800"/>
                </a:lnTo>
                <a:lnTo>
                  <a:pt x="4820" y="10800"/>
                </a:lnTo>
                <a:close/>
              </a:path>
              <a:path fill="darkenLess" w="23566" h="21600">
                <a:moveTo>
                  <a:pt x="14359" y="6448"/>
                </a:moveTo>
                <a:lnTo>
                  <a:pt x="14359" y="4707"/>
                </a:lnTo>
                <a:lnTo>
                  <a:pt x="16135" y="4707"/>
                </a:lnTo>
                <a:lnTo>
                  <a:pt x="16135" y="8224"/>
                </a:lnTo>
                <a:close/>
              </a:path>
              <a:path fill="darkenLess" w="23566" h="21600">
                <a:moveTo>
                  <a:pt x="10860" y="14299"/>
                </a:moveTo>
                <a:lnTo>
                  <a:pt x="12706" y="14299"/>
                </a:lnTo>
                <a:lnTo>
                  <a:pt x="12706" y="17989"/>
                </a:lnTo>
                <a:lnTo>
                  <a:pt x="17092" y="17989"/>
                </a:lnTo>
                <a:lnTo>
                  <a:pt x="17092" y="10800"/>
                </a:lnTo>
                <a:lnTo>
                  <a:pt x="6474" y="10800"/>
                </a:lnTo>
                <a:lnTo>
                  <a:pt x="6474" y="17989"/>
                </a:lnTo>
                <a:lnTo>
                  <a:pt x="1086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6248520" y="51814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29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29" y="20200"/>
                </a:lnTo>
                <a:lnTo>
                  <a:pt x="33929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9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9" h="21600">
                <a:moveTo>
                  <a:pt x="10658" y="3794"/>
                </a:moveTo>
                <a:lnTo>
                  <a:pt x="24671" y="10800"/>
                </a:lnTo>
                <a:lnTo>
                  <a:pt x="1065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3:07:23Z</dcterms:created>
  <dc:creator>chahals</dc:creator>
  <dc:description/>
  <dc:language>en-US</dc:language>
  <cp:lastModifiedBy>Mike Bench</cp:lastModifiedBy>
  <dcterms:modified xsi:type="dcterms:W3CDTF">2002-02-07T11:18:45Z</dcterms:modified>
  <cp:revision>6</cp:revision>
  <dc:subject/>
  <dc:title>La Familia</dc:title>
</cp:coreProperties>
</file>