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EA5-ED1B-46EC-A578-06D63C9E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8EA-A1DD-4385-884A-A207C05F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201-EEA9-43F3-BC23-F9191F88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2EB-8431-4F8C-BB1B-FA1962D8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68A-5FD4-4860-AF37-D11248C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2D2-B151-4EAC-9300-EEF737D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877-5A2B-4783-86BE-AB08C33E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413-63FE-4948-9B75-C4ADACE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45A-F442-4F60-BCF3-3A3DF55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331-DC75-48B5-B2EC-1073F286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38B-571E-4575-8840-6126CF2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95C-6FF7-4CD0-9882-DC45562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EDD0-C83A-49A0-BF7F-A6C03386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os miembros de l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762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Cómo es tu fami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1240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38080" y="5715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781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838080"/>
            <a:ext cx="51814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escríbeme tu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124080"/>
            <a:ext cx="586764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Cuántos so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Quiénes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Tienes herman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3049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e present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38840" cy="304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81480" y="1905120"/>
            <a:ext cx="1219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p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960" y="3124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9810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ab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ab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34286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486400" y="2666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52720" y="34290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790960" y="4800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14400" cy="814320"/>
          </a:xfrm>
          <a:custGeom>
            <a:avLst/>
            <a:gdLst>
              <a:gd name="textAreaLeft" fmla="*/ 52560 w 914400"/>
              <a:gd name="textAreaRight" fmla="*/ 861840 w 91440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4253" h="21600">
                <a:moveTo>
                  <a:pt x="0" y="0"/>
                </a:moveTo>
                <a:lnTo>
                  <a:pt x="24253" y="0"/>
                </a:lnTo>
                <a:lnTo>
                  <a:pt x="24253" y="21600"/>
                </a:lnTo>
                <a:lnTo>
                  <a:pt x="0" y="21600"/>
                </a:lnTo>
                <a:close/>
              </a:path>
              <a:path fill="lightenLess" w="24253" h="21600">
                <a:moveTo>
                  <a:pt x="0" y="0"/>
                </a:moveTo>
                <a:lnTo>
                  <a:pt x="24253" y="0"/>
                </a:lnTo>
                <a:lnTo>
                  <a:pt x="22853" y="1400"/>
                </a:lnTo>
                <a:lnTo>
                  <a:pt x="1400" y="1400"/>
                </a:lnTo>
                <a:close/>
              </a:path>
              <a:path fill="darken" w="24253" h="21600">
                <a:moveTo>
                  <a:pt x="24253" y="0"/>
                </a:moveTo>
                <a:lnTo>
                  <a:pt x="24253" y="21600"/>
                </a:lnTo>
                <a:lnTo>
                  <a:pt x="22853" y="20200"/>
                </a:lnTo>
                <a:lnTo>
                  <a:pt x="22853" y="1400"/>
                </a:lnTo>
                <a:close/>
              </a:path>
              <a:path fill="darkenLess" w="24253" h="21600">
                <a:moveTo>
                  <a:pt x="24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3" y="20200"/>
                </a:lnTo>
                <a:close/>
              </a:path>
              <a:path fill="lighten" w="24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3" h="21600">
                <a:moveTo>
                  <a:pt x="5120" y="3794"/>
                </a:moveTo>
                <a:lnTo>
                  <a:pt x="19133" y="10800"/>
                </a:lnTo>
                <a:lnTo>
                  <a:pt x="5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1447920" y="6019920"/>
            <a:ext cx="609480" cy="509400"/>
          </a:xfrm>
          <a:custGeom>
            <a:avLst/>
            <a:gdLst>
              <a:gd name="textAreaLeft" fmla="*/ 32760 w 609480"/>
              <a:gd name="textAreaRight" fmla="*/ 576720 w 60948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5841" h="21600">
                <a:moveTo>
                  <a:pt x="0" y="0"/>
                </a:moveTo>
                <a:lnTo>
                  <a:pt x="25841" y="0"/>
                </a:lnTo>
                <a:lnTo>
                  <a:pt x="25841" y="21600"/>
                </a:lnTo>
                <a:lnTo>
                  <a:pt x="0" y="21600"/>
                </a:lnTo>
                <a:close/>
              </a:path>
              <a:path fill="lightenLess" w="25841" h="21600">
                <a:moveTo>
                  <a:pt x="0" y="0"/>
                </a:moveTo>
                <a:lnTo>
                  <a:pt x="25841" y="0"/>
                </a:lnTo>
                <a:lnTo>
                  <a:pt x="24441" y="1400"/>
                </a:lnTo>
                <a:lnTo>
                  <a:pt x="1400" y="1400"/>
                </a:lnTo>
                <a:close/>
              </a:path>
              <a:path fill="darken" w="25841" h="21600">
                <a:moveTo>
                  <a:pt x="25841" y="0"/>
                </a:moveTo>
                <a:lnTo>
                  <a:pt x="25841" y="21600"/>
                </a:lnTo>
                <a:lnTo>
                  <a:pt x="24441" y="20200"/>
                </a:lnTo>
                <a:lnTo>
                  <a:pt x="24441" y="1400"/>
                </a:lnTo>
                <a:close/>
              </a:path>
              <a:path fill="darkenLess" w="25841" h="21600">
                <a:moveTo>
                  <a:pt x="25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41" y="20200"/>
                </a:lnTo>
                <a:close/>
              </a:path>
              <a:path fill="lighten" w="25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41" h="21600">
                <a:moveTo>
                  <a:pt x="5914" y="10800"/>
                </a:moveTo>
                <a:lnTo>
                  <a:pt x="19927" y="3794"/>
                </a:lnTo>
                <a:lnTo>
                  <a:pt x="1992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6858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el hijo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el pa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543800" y="3962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391520" y="2819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33720" y="19051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Rockwell"/>
              </a:rPr>
              <a:t>Wrong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2438280" y="42670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81080" y="1600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324480" y="48769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1371600" y="49528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la abuela                                                                      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la ma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221004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7543800" y="2743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543800" y="3886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14479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1676520" y="4495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837"/>
                </a:moveTo>
                <a:lnTo>
                  <a:pt x="16075" y="6448"/>
                </a:ln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lnTo>
                  <a:pt x="20462" y="10800"/>
                </a:lnTo>
                <a:lnTo>
                  <a:pt x="18808" y="10800"/>
                </a:lnTo>
                <a:lnTo>
                  <a:pt x="18808" y="17989"/>
                </a:lnTo>
                <a:lnTo>
                  <a:pt x="8190" y="17989"/>
                </a:lnTo>
                <a:lnTo>
                  <a:pt x="8190" y="10800"/>
                </a:lnTo>
                <a:lnTo>
                  <a:pt x="6536" y="10800"/>
                </a:lnTo>
                <a:close/>
              </a:path>
              <a:path fill="darkenLess" w="26998" h="21600">
                <a:moveTo>
                  <a:pt x="16075" y="6448"/>
                </a:move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close/>
              </a:path>
              <a:path fill="darkenLess" w="26998" h="21600">
                <a:moveTo>
                  <a:pt x="12576" y="14299"/>
                </a:moveTo>
                <a:lnTo>
                  <a:pt x="14422" y="14299"/>
                </a:lnTo>
                <a:lnTo>
                  <a:pt x="14422" y="17989"/>
                </a:lnTo>
                <a:lnTo>
                  <a:pt x="18808" y="17989"/>
                </a:lnTo>
                <a:lnTo>
                  <a:pt x="18808" y="10800"/>
                </a:lnTo>
                <a:lnTo>
                  <a:pt x="8190" y="10800"/>
                </a:lnTo>
                <a:lnTo>
                  <a:pt x="8190" y="17989"/>
                </a:lnTo>
                <a:lnTo>
                  <a:pt x="12576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6172200" y="45720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sta es la abuela. Se llama Is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ste es el hijo. Se llama Ju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buela se llam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J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s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705720" y="4267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705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0840" y="1752480"/>
            <a:ext cx="47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1371600" y="51055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1783" y="3837"/>
                </a:moveTo>
                <a:lnTo>
                  <a:pt x="14359" y="6448"/>
                </a:lnTo>
                <a:lnTo>
                  <a:pt x="14359" y="4707"/>
                </a:lnTo>
                <a:lnTo>
                  <a:pt x="16135" y="4707"/>
                </a:lnTo>
                <a:lnTo>
                  <a:pt x="16135" y="8224"/>
                </a:lnTo>
                <a:lnTo>
                  <a:pt x="18746" y="10800"/>
                </a:lnTo>
                <a:lnTo>
                  <a:pt x="17092" y="10800"/>
                </a:lnTo>
                <a:lnTo>
                  <a:pt x="17092" y="17989"/>
                </a:lnTo>
                <a:lnTo>
                  <a:pt x="6474" y="17989"/>
                </a:lnTo>
                <a:lnTo>
                  <a:pt x="6474" y="10800"/>
                </a:lnTo>
                <a:lnTo>
                  <a:pt x="4820" y="10800"/>
                </a:lnTo>
                <a:close/>
              </a:path>
              <a:path fill="darkenLess" w="23566" h="21600">
                <a:moveTo>
                  <a:pt x="14359" y="6448"/>
                </a:moveTo>
                <a:lnTo>
                  <a:pt x="14359" y="4707"/>
                </a:lnTo>
                <a:lnTo>
                  <a:pt x="16135" y="4707"/>
                </a:lnTo>
                <a:lnTo>
                  <a:pt x="16135" y="8224"/>
                </a:lnTo>
                <a:close/>
              </a:path>
              <a:path fill="darkenLess" w="23566" h="21600">
                <a:moveTo>
                  <a:pt x="10860" y="14299"/>
                </a:moveTo>
                <a:lnTo>
                  <a:pt x="12706" y="14299"/>
                </a:lnTo>
                <a:lnTo>
                  <a:pt x="12706" y="17989"/>
                </a:lnTo>
                <a:lnTo>
                  <a:pt x="17092" y="17989"/>
                </a:lnTo>
                <a:lnTo>
                  <a:pt x="17092" y="10800"/>
                </a:lnTo>
                <a:lnTo>
                  <a:pt x="6474" y="10800"/>
                </a:lnTo>
                <a:lnTo>
                  <a:pt x="6474" y="17989"/>
                </a:lnTo>
                <a:lnTo>
                  <a:pt x="1086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248520" y="51814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29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29" y="20200"/>
                </a:lnTo>
                <a:lnTo>
                  <a:pt x="33929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9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9" h="21600">
                <a:moveTo>
                  <a:pt x="10658" y="3794"/>
                </a:moveTo>
                <a:lnTo>
                  <a:pt x="24671" y="10800"/>
                </a:lnTo>
                <a:lnTo>
                  <a:pt x="106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3:07:23Z</dcterms:created>
  <dc:creator>chahals</dc:creator>
  <dc:description/>
  <dc:language>en-US</dc:language>
  <cp:lastModifiedBy>Mike Bench</cp:lastModifiedBy>
  <dcterms:modified xsi:type="dcterms:W3CDTF">2002-02-07T11:18:45Z</dcterms:modified>
  <cp:revision>6</cp:revision>
  <dc:subject/>
  <dc:title>La Familia</dc:title>
</cp:coreProperties>
</file>