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7C3F-E508-403D-A389-895D5EE4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153B-E229-4C83-8E05-D1B62C17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02E-1057-4DC6-BC97-F6170FC8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3B29-6002-4B04-A025-F76BA0A7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60D8-57EE-4EEC-8411-B612D3FD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0A8-031C-4D0A-AA28-44F476FA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2314-66A8-4E07-84CA-86E9077F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A605-15CE-474B-9882-90CADC36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FCE4-9541-41B9-B533-B1627E57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479-D957-43CA-B814-20FD2B1C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BA14-EA5C-4FCF-82BE-4EA46291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CF6-5713-4703-A0BD-B1AE3B94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23B0-21ED-43D8-A995-C15870119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7621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66"/>
                </a:solidFill>
                <a:latin typeface="Comic Sans MS"/>
              </a:rPr>
              <a:t>Los quehacer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286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Antes de limpiar el cerdo está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53341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su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80880" y="1905120"/>
          <a:ext cx="7696440" cy="268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769644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286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Pero, después de lavar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lo</a:t>
            </a: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 está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53341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limp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057400" y="1905120"/>
          <a:ext cx="4572000" cy="316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05120"/>
                    <a:ext cx="457200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00400" y="1066680"/>
            <a:ext cx="2762280" cy="426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2286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¿En tu casa, quién barre el suel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33412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En mi casa, ________ barre el suel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286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¿En tu casa, quién corta el césp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533412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En mi casa, ________ corta el césp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590920" y="1371600"/>
          <a:ext cx="4724280" cy="35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72428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286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¿En tu casa, quién hace la limpiez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33412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En mi casa, ________ hace la limpiez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24080" y="1447920"/>
          <a:ext cx="332604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447920"/>
                    <a:ext cx="33260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286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¿En tu casa, lavas los plat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53341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Sí (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No, no</a:t>
            </a: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) lavo los plat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743200" y="1143000"/>
          <a:ext cx="3413160" cy="37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143000"/>
                    <a:ext cx="34131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286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¿Qué cuartos limpi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53341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Yo limpio 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905120" y="1143000"/>
          <a:ext cx="5181480" cy="40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143000"/>
                    <a:ext cx="5181480" cy="40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28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¿Te gusta pasar la aspirado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33412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Sí, (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No, no</a:t>
            </a: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) me gusta pasar la aspirador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666880" y="914400"/>
          <a:ext cx="367344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914400"/>
                    <a:ext cx="36734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286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¿Quién quita el polvo en la escuel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533412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El conserje quita el polvo en la escuel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14600" y="1523880"/>
          <a:ext cx="4572000" cy="34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523880"/>
                    <a:ext cx="4572000" cy="34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286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¿Sacas la basura de tu cas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53341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Sí, (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No, no</a:t>
            </a: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) la sac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743200" y="914400"/>
          <a:ext cx="378792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914400"/>
                    <a:ext cx="37879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23:13:25Z</dcterms:created>
  <dc:creator>NTHS</dc:creator>
  <dc:description/>
  <dc:language>en-US</dc:language>
  <cp:lastModifiedBy>CSeccombe</cp:lastModifiedBy>
  <dcterms:modified xsi:type="dcterms:W3CDTF">2005-06-02T10:03:01Z</dcterms:modified>
  <cp:revision>47</cp:revision>
  <dc:subject/>
  <dc:title>No Slide Title</dc:title>
</cp:coreProperties>
</file>