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CDA-2A4A-4B6A-8B8F-467A1B15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327-57AF-493B-928D-9A918CF5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826-B85C-48E1-9D8D-D3965ACA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2EF-D2EE-4026-9321-2668394D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87F-D017-43FD-A8F4-C367ADC5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267-0456-4B2A-B09C-DDD93A88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772-C25F-4319-B5C8-E376F57B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FE1-12FD-460B-8243-E8F433D1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B84-CFDA-47D2-9E81-9FBDA6B0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1A7-4B96-4FC3-8FB2-8C53E9D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0AE-B1C5-4184-A327-3A30479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DED-500A-41D6-97DC-EBFCD0C7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0E2D-587B-494D-AB76-7EE5CF57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7621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Comic Sans MS"/>
              </a:rPr>
              <a:t>Los quehace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Antes de limpiar el cerdo está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su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905120"/>
          <a:ext cx="7696440" cy="26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76964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ero, después de lavar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o</a:t>
            </a: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 está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limp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057400" y="1905120"/>
          <a:ext cx="4572000" cy="31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457200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2762280" cy="426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En tu casa, quién barre el suel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En mi casa, ________ barre el sue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En tu casa, quién corta el césp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En mi casa, ________ corta el césp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90920" y="1371600"/>
          <a:ext cx="4724280" cy="35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72428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En tu casa, quién hace la limpiez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En mi casa, ________ hace la limpie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24080" y="1447920"/>
          <a:ext cx="332604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33260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En tu casa, lavas los plat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Sí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, no</a:t>
            </a: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) lavo los plat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743200" y="1143000"/>
          <a:ext cx="341316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3413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Qué cuartos limpi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Yo limpio 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05120" y="1143000"/>
          <a:ext cx="5181480" cy="40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518148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Te gusta pasar la aspirado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Sí,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, no</a:t>
            </a: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) me gusta pasar la aspirador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666880" y="914400"/>
          <a:ext cx="367344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14400"/>
                    <a:ext cx="36734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Quién quita el polvo en la escuel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El conserje quita el polvo en la escue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14600" y="1523880"/>
          <a:ext cx="4572000" cy="34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523880"/>
                    <a:ext cx="457200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Sacas la basura de tu cas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Sí,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, no</a:t>
            </a: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) la sa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914400"/>
          <a:ext cx="378792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914400"/>
                    <a:ext cx="3787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3:13:25Z</dcterms:created>
  <dc:creator>NTHS</dc:creator>
  <dc:description/>
  <dc:language>en-US</dc:language>
  <cp:lastModifiedBy>CSeccombe</cp:lastModifiedBy>
  <dcterms:modified xsi:type="dcterms:W3CDTF">2005-06-02T10:03:01Z</dcterms:modified>
  <cp:revision>47</cp:revision>
  <dc:subject/>
  <dc:title>No Slide Title</dc:title>
</cp:coreProperties>
</file>