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CAD-5B57-404C-B890-4472FC21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550-2D46-4563-AE3B-1A1F840D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521-5A94-41C0-BE27-6BF5CC07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8FB-B468-4389-BAB9-1437F61A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991-4EDC-41E6-AC51-682F5D84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C3D-C958-4E79-AF82-AB7B5212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2FC-098F-4CD4-B763-C79C0682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C65-4924-4BBD-9C08-2CE5E829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5FD-C364-4F63-A122-EFF4E74A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281-A6D8-4268-B2E4-BEA7341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02D-F538-48A2-9BF6-270EB498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C68-3D05-4C3E-8F2F-446DF534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2957-7673-41B9-B058-A7A0C04FFB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2133720"/>
            <a:ext cx="8640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El Abecedario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409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815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1609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4486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4560" y="333360"/>
            <a:ext cx="3313080" cy="604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331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684072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972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340000" y="476280"/>
            <a:ext cx="4103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ankGothic Md BT"/>
              </a:rPr>
              <a:t>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ankGothic Md BT"/>
              <a:ea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57610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803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2144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4102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514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2951280" cy="5329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2951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373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480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924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59752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0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22520" y="476280"/>
            <a:ext cx="5898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633600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337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3356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5319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777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2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48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3:20:58Z</dcterms:created>
  <dc:creator>P.Seccombe</dc:creator>
  <dc:description/>
  <dc:language>en-US</dc:language>
  <cp:lastModifiedBy>PSeccombe</cp:lastModifiedBy>
  <dcterms:modified xsi:type="dcterms:W3CDTF">2005-08-05T13:25:53Z</dcterms:modified>
  <cp:revision>4</cp:revision>
  <dc:subject/>
  <dc:title>Slide 1</dc:title>
</cp:coreProperties>
</file>