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F79-4DBC-4A15-AA99-63D8A3EF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0D8-C793-4CB5-8396-CA92DC91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690-994C-4FEF-9F57-BF9CED5E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0CB-A18B-43FB-86B5-79D39110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9FA-10D3-454A-9AC6-5E902C59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3BE-5072-40B9-B780-A110C873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F8F-C00C-4FB6-9070-0B161220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B3F-BDDF-4B1B-9C54-8E041EE8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A63-3C0D-474B-B568-A9353451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849-0515-4165-AA79-FACF323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D56-AC24-4CFB-B5E0-9F1F778F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524-7B1C-4EBD-AED5-2D7C3537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CEB8-4B59-44FE-97A5-D935C87B96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2133720"/>
            <a:ext cx="86407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El Abecedario</a:t>
            </a:r>
            <a:endParaRPr b="1" lang="en-US" sz="72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409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815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1609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44863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4560" y="333360"/>
            <a:ext cx="3313080" cy="604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3313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684072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9723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340000" y="476280"/>
            <a:ext cx="41036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ankGothic Md BT"/>
              </a:rPr>
              <a:t>ñ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ankGothic Md BT"/>
              <a:ea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57610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8039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12144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4102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5148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2951280" cy="5329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16360" y="836640"/>
            <a:ext cx="29512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373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480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924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597528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6978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08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22520" y="476280"/>
            <a:ext cx="5898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633600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337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3356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5319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777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1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48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3:20:58Z</dcterms:created>
  <dc:creator>P.Seccombe</dc:creator>
  <dc:description/>
  <dc:language>en-US</dc:language>
  <cp:lastModifiedBy>PSeccombe</cp:lastModifiedBy>
  <dcterms:modified xsi:type="dcterms:W3CDTF">2005-08-05T13:25:53Z</dcterms:modified>
  <cp:revision>4</cp:revision>
  <dc:subject/>
  <dc:title>Slide 1</dc:title>
</cp:coreProperties>
</file>