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F99-84F4-4AA0-91DB-40E2658E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7B2-F423-4467-8302-E0BF255A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040-F505-4EF9-81FE-3017D587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DE9-570C-4BD7-89DD-74D2822C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88D-D5AF-4F98-93F7-EEC788EA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338-DD54-44B6-A509-10FD199D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962-A995-40F7-94BA-6ADE31EC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5F8-914D-49D1-890E-CCE84004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6C0-8E85-4264-BF10-A16A44D1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338-4770-4AC3-964A-633DC7E9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02D6-C3F3-4DE2-B99E-EE245072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2548-9F71-4502-B326-73616BEA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E362-E897-42C7-9291-1B195C2C1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52508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93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9080" cy="6334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332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622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0" y="4221000"/>
            <a:ext cx="2779560" cy="568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5329080" y="6093000"/>
            <a:ext cx="3814920" cy="62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320760"/>
            <a:ext cx="8064720" cy="6222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4221000"/>
            <a:ext cx="2779560" cy="568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329080" y="6093000"/>
            <a:ext cx="3814920" cy="625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4716360" y="1268280"/>
            <a:ext cx="2684520" cy="631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320760"/>
            <a:ext cx="8064720" cy="6222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0" y="4221000"/>
            <a:ext cx="2779560" cy="568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329080" y="6093000"/>
            <a:ext cx="3814920" cy="625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4716360" y="1268280"/>
            <a:ext cx="2684520" cy="63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427640" y="2924280"/>
            <a:ext cx="21564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2492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7640" y="220500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4360" y="2421000"/>
            <a:ext cx="197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Barcel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530064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5157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ev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9080" cy="6334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427640" y="2924280"/>
            <a:ext cx="21564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530064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67640" y="220500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320760"/>
            <a:ext cx="8064720" cy="6222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501640" cy="70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2233440" cy="554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2361960" cy="568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0" y="4221000"/>
            <a:ext cx="2779560" cy="568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329080" y="6093000"/>
            <a:ext cx="3814920" cy="625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4716360" y="1268280"/>
            <a:ext cx="2684520" cy="63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27640" y="2924280"/>
            <a:ext cx="21564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2492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67640" y="220500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4360" y="2421000"/>
            <a:ext cx="197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Barcel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87640" y="5300640"/>
            <a:ext cx="216000" cy="217440"/>
          </a:xfrm>
          <a:prstGeom prst="ellipse">
            <a:avLst/>
          </a:prstGeom>
          <a:solidFill>
            <a:srgbClr val="f831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5157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Sev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85080" y="6643800"/>
            <a:ext cx="12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9:39:23Z</dcterms:created>
  <dc:creator>CSeccombe</dc:creator>
  <dc:description/>
  <dc:language>en-US</dc:language>
  <cp:lastModifiedBy>CSeccombe</cp:lastModifiedBy>
  <dcterms:modified xsi:type="dcterms:W3CDTF">2005-11-21T13:20:41Z</dcterms:modified>
  <cp:revision>11</cp:revision>
  <dc:subject/>
  <dc:title>Slide 1</dc:title>
</cp:coreProperties>
</file>