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C86F-B1C3-4A17-BBB4-B70182F3A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3665-1A69-4080-BBF9-39553695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2AA7-0FF4-452F-AAFB-5C8384DD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DC11-C36A-4D61-AEC8-E77ED8E1F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4626-571B-4C6C-8928-7831DE50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1811-5535-4E68-A59E-FE18C3F5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189C-A18A-4CF2-844D-810B2F7C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E735-0608-4B9C-B071-E13E19E1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4C34-DA80-457E-ACA1-11742747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69EE-7850-47BD-84E7-7BEB8EF8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1744-531F-44ED-8ADD-475BE06D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41A5-6105-472E-A0EB-CBF49DAF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CF5D-F796-4CBD-8A5C-A1C8F04D3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525080" cy="6851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093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09080" cy="6334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76720" y="3141720"/>
            <a:ext cx="2501640" cy="706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332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76720" y="3141720"/>
            <a:ext cx="2501640" cy="706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012000" y="549360"/>
            <a:ext cx="2233440" cy="554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24000" y="2205000"/>
            <a:ext cx="2361960" cy="568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064720" cy="622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76720" y="3141720"/>
            <a:ext cx="2501640" cy="706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012000" y="549360"/>
            <a:ext cx="2233440" cy="554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24000" y="2205000"/>
            <a:ext cx="2361960" cy="568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0" y="4221000"/>
            <a:ext cx="2779560" cy="568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5329080" y="6093000"/>
            <a:ext cx="3814920" cy="625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9640" y="320760"/>
            <a:ext cx="8064720" cy="6222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76720" y="3141720"/>
            <a:ext cx="2501640" cy="706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012000" y="549360"/>
            <a:ext cx="2233440" cy="554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4000" y="2205000"/>
            <a:ext cx="2361960" cy="568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0" y="4221000"/>
            <a:ext cx="2779560" cy="568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5329080" y="6093000"/>
            <a:ext cx="3814920" cy="625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4716360" y="1268280"/>
            <a:ext cx="2684520" cy="631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9640" y="320760"/>
            <a:ext cx="8064720" cy="6222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276720" y="3141720"/>
            <a:ext cx="2501640" cy="706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12000" y="549360"/>
            <a:ext cx="2233440" cy="554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324000" y="2205000"/>
            <a:ext cx="2361960" cy="568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0" y="4221000"/>
            <a:ext cx="2779560" cy="568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5329080" y="6093000"/>
            <a:ext cx="3814920" cy="625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4716360" y="1268280"/>
            <a:ext cx="2684520" cy="631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427640" y="2924280"/>
            <a:ext cx="215640" cy="217440"/>
          </a:xfrm>
          <a:prstGeom prst="ellipse">
            <a:avLst/>
          </a:prstGeom>
          <a:solidFill>
            <a:srgbClr val="f831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56000" y="249228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Mad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67640" y="2205000"/>
            <a:ext cx="216000" cy="217440"/>
          </a:xfrm>
          <a:prstGeom prst="ellipse">
            <a:avLst/>
          </a:prstGeom>
          <a:solidFill>
            <a:srgbClr val="f831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64360" y="2421000"/>
            <a:ext cx="1979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Barcel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87640" y="5300640"/>
            <a:ext cx="216000" cy="217440"/>
          </a:xfrm>
          <a:prstGeom prst="ellipse">
            <a:avLst/>
          </a:prstGeom>
          <a:solidFill>
            <a:srgbClr val="f831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32000" y="515772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Sev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09080" cy="6334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427640" y="2924280"/>
            <a:ext cx="215640" cy="217440"/>
          </a:xfrm>
          <a:prstGeom prst="ellipse">
            <a:avLst/>
          </a:prstGeom>
          <a:solidFill>
            <a:srgbClr val="f831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5300640"/>
            <a:ext cx="216000" cy="217440"/>
          </a:xfrm>
          <a:prstGeom prst="ellipse">
            <a:avLst/>
          </a:prstGeom>
          <a:solidFill>
            <a:srgbClr val="f831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67640" y="2205000"/>
            <a:ext cx="216000" cy="217440"/>
          </a:xfrm>
          <a:prstGeom prst="ellipse">
            <a:avLst/>
          </a:prstGeom>
          <a:solidFill>
            <a:srgbClr val="f831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9640" y="320760"/>
            <a:ext cx="8064720" cy="6222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276720" y="3141720"/>
            <a:ext cx="2501640" cy="706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012000" y="549360"/>
            <a:ext cx="2233440" cy="554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24000" y="2205000"/>
            <a:ext cx="2361960" cy="568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0" y="4221000"/>
            <a:ext cx="2779560" cy="568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5329080" y="6093000"/>
            <a:ext cx="3814920" cy="625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4716360" y="1268280"/>
            <a:ext cx="2684520" cy="631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427640" y="2924280"/>
            <a:ext cx="215640" cy="217440"/>
          </a:xfrm>
          <a:prstGeom prst="ellipse">
            <a:avLst/>
          </a:prstGeom>
          <a:solidFill>
            <a:srgbClr val="f831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56000" y="249228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Mad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67640" y="2205000"/>
            <a:ext cx="216000" cy="217440"/>
          </a:xfrm>
          <a:prstGeom prst="ellipse">
            <a:avLst/>
          </a:prstGeom>
          <a:solidFill>
            <a:srgbClr val="f831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164360" y="2421000"/>
            <a:ext cx="1979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Barcel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87640" y="5300640"/>
            <a:ext cx="216000" cy="217440"/>
          </a:xfrm>
          <a:prstGeom prst="ellipse">
            <a:avLst/>
          </a:prstGeom>
          <a:solidFill>
            <a:srgbClr val="f831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32000" y="515772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Sev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9:39:23Z</dcterms:created>
  <dc:creator>CSeccombe</dc:creator>
  <dc:description/>
  <dc:language>en-US</dc:language>
  <cp:lastModifiedBy>CSeccombe</cp:lastModifiedBy>
  <dcterms:modified xsi:type="dcterms:W3CDTF">2005-11-21T13:20:41Z</dcterms:modified>
  <cp:revision>11</cp:revision>
  <dc:subject/>
  <dc:title>Slide 1</dc:title>
</cp:coreProperties>
</file>