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9BB-69D1-471D-BFFE-02202BE9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383B-A41D-45F0-8FF3-E696AC05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E71-E0DC-4A76-A344-4BF55B7E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679-B18B-4396-9158-5E762249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754-F036-40A9-9AEA-DD9EEC7A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B5F-147B-4F4A-A024-B86A24DB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BB2-DB21-4982-93BC-46EE5EAC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A147-D7DE-4B3F-B6AB-C3697866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56FA-FA06-4509-A4F9-8714E015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39D-5B01-40AE-A851-0B6206AF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9A55-5B59-4532-861B-7D8D9F3C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B62E-452E-4E14-B96F-1C3D9B71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4306-164C-411B-9018-CD883851C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16360" y="0"/>
            <a:ext cx="4427640" cy="6858000"/>
          </a:xfrm>
          <a:prstGeom prst="rect">
            <a:avLst/>
          </a:prstGeom>
          <a:solidFill>
            <a:srgbClr val="ca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427640" cy="6858000"/>
          </a:xfrm>
          <a:prstGeom prst="rect">
            <a:avLst/>
          </a:prstGeom>
          <a:solidFill>
            <a:srgbClr val="f4aa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0"/>
            <a:ext cx="352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48360" y="0"/>
            <a:ext cx="352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3933720"/>
            <a:ext cx="4105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m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3860640"/>
            <a:ext cx="4427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no m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2698920" cy="324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0846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Blue Peter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300480" y="1773360"/>
            <a:ext cx="2487600" cy="3240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89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3006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Jordan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59280" y="1844640"/>
            <a:ext cx="2560320" cy="316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189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0846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el Newcastle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333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4608720" cy="3240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30064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la Navidad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56000" y="1916280"/>
            <a:ext cx="4319640" cy="322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189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869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diciembre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24000" y="1832040"/>
            <a:ext cx="4896000" cy="319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189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0133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febrero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40000" y="1773360"/>
            <a:ext cx="4392720" cy="3295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1577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San Valentín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40000" y="1779480"/>
            <a:ext cx="4319640" cy="319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0" y="189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0133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la Tomatina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7490160" cy="1692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524360" y="1700280"/>
            <a:ext cx="64764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333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869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el sábado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490160" cy="1692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5508360" y="1773360"/>
            <a:ext cx="64764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33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5086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el jueves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003640" y="659772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6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641320" cy="3168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89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¿Te gus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0846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Arial Rounded MT Bold"/>
              </a:rPr>
              <a:t>Top of the Pops</a:t>
            </a:r>
            <a:r>
              <a:rPr b="1" lang="en-GB" sz="100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20:09:18Z</dcterms:created>
  <dc:creator>CSeccombe</dc:creator>
  <dc:description/>
  <dc:language>en-US</dc:language>
  <cp:lastModifiedBy>PSeccombe</cp:lastModifiedBy>
  <dcterms:modified xsi:type="dcterms:W3CDTF">2006-01-30T11:25:23Z</dcterms:modified>
  <cp:revision>8</cp:revision>
  <dc:subject/>
  <dc:title>Slide 1</dc:title>
</cp:coreProperties>
</file>