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88B7-0483-4E75-9519-C5D2B4727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9B8C-3321-43F5-9328-D297499C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EAA4-F60E-44BC-BB83-B3060D7C2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900D-2E8D-49AF-A61E-21EDF49F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539A-C5B7-42F8-92F8-3FF1F03A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DD41-38CF-4BF4-9E24-CA463DE7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0490-E9A9-4E67-98AC-B55A9517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B240-222E-4A58-A388-7C74DC1F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4DB0-03B2-4C8B-A987-BD7F792C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2753-48DD-4A75-9B6C-9CA5852A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D643-D45B-4911-A57A-8B83B9B1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D5EB-E933-42BA-936F-B48AA234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9D75-0C15-43D6-92F2-E98C59ACE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16360" y="0"/>
            <a:ext cx="4427640" cy="6858000"/>
          </a:xfrm>
          <a:prstGeom prst="rect">
            <a:avLst/>
          </a:prstGeom>
          <a:solidFill>
            <a:srgbClr val="ca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f4aa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0"/>
            <a:ext cx="35272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48360" y="0"/>
            <a:ext cx="35272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3933720"/>
            <a:ext cx="41054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me gus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16360" y="3860640"/>
            <a:ext cx="44276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no me gus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32000" y="1773360"/>
            <a:ext cx="2698920" cy="324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0" y="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¿Te gus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508464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Blue Peter?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300480" y="1773360"/>
            <a:ext cx="2487600" cy="3240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1890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¿Te gus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30064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Jordan?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59280" y="1844640"/>
            <a:ext cx="2560320" cy="3168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0" y="1890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¿Te gus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08464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el Newcastle?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3336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¿Te gus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68360" y="1773360"/>
            <a:ext cx="4608720" cy="3240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530064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la Navidad?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556000" y="1916280"/>
            <a:ext cx="4319640" cy="3227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0" y="1890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¿Te gus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8690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diciembre?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124000" y="1832040"/>
            <a:ext cx="4896000" cy="3193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0" y="1890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¿Te gus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01336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febrero?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340000" y="1773360"/>
            <a:ext cx="4392720" cy="3295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0" y="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¿Te gus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15772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San Valentín?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340000" y="1779480"/>
            <a:ext cx="4319640" cy="3192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0" y="1890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¿Te gus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01336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la Tomatina?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2349360"/>
            <a:ext cx="7490160" cy="1692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H="1">
            <a:off x="7524360" y="1700280"/>
            <a:ext cx="64764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3336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¿Te gus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8690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el sábado?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7490160" cy="1692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>
            <a:off x="5508360" y="1773360"/>
            <a:ext cx="64764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3336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¿Te gus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50864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el jueves?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276720" y="1773360"/>
            <a:ext cx="2641320" cy="3168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890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¿Te gus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508464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000000"/>
                </a:solidFill>
                <a:latin typeface="Arial Rounded MT Bold"/>
              </a:rPr>
              <a:t>Top of the Pops</a:t>
            </a: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?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20:09:18Z</dcterms:created>
  <dc:creator>CSeccombe</dc:creator>
  <dc:description/>
  <dc:language>en-US</dc:language>
  <cp:lastModifiedBy>PSeccombe</cp:lastModifiedBy>
  <dcterms:modified xsi:type="dcterms:W3CDTF">2006-01-30T11:25:23Z</dcterms:modified>
  <cp:revision>8</cp:revision>
  <dc:subject/>
  <dc:title>Slide 1</dc:title>
</cp:coreProperties>
</file>