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323-EA54-44A3-896D-D7F492F7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AE8-C116-415A-BC25-54D67CE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F1E-EA5E-4862-8C53-DD579E4B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4F4-4066-4BA3-9923-C5C0B13D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C96-3A36-48EC-B98B-5A021610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CDE-EB80-4609-9207-B9663FF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91C-FF62-499D-AECC-164CC17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463-8F05-41C4-85AC-DFDA7F9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CE9-2BB7-4629-B5EC-F50D40C1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69B-47E2-4E93-B6C0-77E8E76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A84-5F36-4A10-B8DC-9F3968A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E46-2C79-466D-A8B0-E49EDC4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722-3E97-4E68-AB95-83D50BAF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933720"/>
            <a:ext cx="4105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386064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56032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Newcastl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86064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936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00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perr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832040" cy="18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1832040" cy="188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320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4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gat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72080" y="2335320"/>
            <a:ext cx="1598400" cy="218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159876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56360" y="2276640"/>
            <a:ext cx="1598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628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as araña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16200000">
            <a:off x="1555560" y="1765080"/>
            <a:ext cx="3309840" cy="34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16200000">
            <a:off x="4795920" y="1620720"/>
            <a:ext cx="33098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0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bocadill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21276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1272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127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60336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13000"/>
            <a:ext cx="4105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2160360" cy="159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7080" y="1773360"/>
            <a:ext cx="158436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141720"/>
            <a:ext cx="1512720" cy="143964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365720"/>
            <a:ext cx="2232000" cy="2160360"/>
          </a:xfrm>
          <a:prstGeom prst="irregularSeal1">
            <a:avLst/>
          </a:prstGeom>
          <a:solidFill>
            <a:srgbClr val="3bd5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45864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7336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77080" y="3284640"/>
            <a:ext cx="1784160" cy="1784160"/>
          </a:xfrm>
          <a:prstGeom prst="rect">
            <a:avLst/>
          </a:prstGeom>
          <a:ln w="0">
            <a:noFill/>
          </a:ln>
        </p:spPr>
      </p:pic>
      <p:sp>
        <p:nvSpPr>
          <p:cNvPr id="62" name="Music"/>
          <p:cNvSpPr/>
          <p:nvPr/>
        </p:nvSpPr>
        <p:spPr>
          <a:xfrm>
            <a:off x="4500720" y="184464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181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60872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57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Navidad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4319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diciembr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9272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San Valentí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7524360" y="170028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97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sábad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641320" cy="3168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 Rounded MT Bold"/>
              </a:rPr>
              <a:t>Top of the Pops</a:t>
            </a: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00480" y="177336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2419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Jorda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0:09:18Z</dcterms:created>
  <dc:creator>CSeccombe</dc:creator>
  <dc:description/>
  <dc:language>en-US</dc:language>
  <cp:lastModifiedBy>PSeccombe</cp:lastModifiedBy>
  <dcterms:modified xsi:type="dcterms:W3CDTF">2006-01-30T11:38:04Z</dcterms:modified>
  <cp:revision>14</cp:revision>
  <dc:subject/>
  <dc:title>Slide 1</dc:title>
</cp:coreProperties>
</file>