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5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384-9529-4D08-A8F6-E6FC70FB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A0F-4C47-4031-8B21-EA089A3B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CD1-7955-4094-A4F9-099E33FF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F3C-83D4-4DB0-A993-A263C589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E84-4DBD-488A-9C5A-70DE66DE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082-22DC-4CB5-93F2-F4B9406E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A18-B105-4776-9EAB-9A00C7E4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40B-FF9D-4991-BC79-E0EC76E3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D40-0566-4B7F-A7B3-84D86476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C2C-05DE-4A50-BF8C-8A6230FA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52C-66C4-4E9A-8B67-45FD3A44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7F1-4249-456E-A1D4-AAA5F982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5CF3-CBDD-4BAA-B7E1-C9AAEFB91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ca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4aa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933720"/>
            <a:ext cx="4105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me gust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3860640"/>
            <a:ext cx="4427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no me gust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256032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00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el Newcastle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ca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4aa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933720"/>
            <a:ext cx="4427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m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860640"/>
            <a:ext cx="4427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no m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936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¿T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30064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los perros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08360" y="2492280"/>
            <a:ext cx="1832040" cy="188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92360" y="2492280"/>
            <a:ext cx="1832040" cy="1889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3204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464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¿T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37372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los gatos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72080" y="2335320"/>
            <a:ext cx="1598400" cy="218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159876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156360" y="2276640"/>
            <a:ext cx="1598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7628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¿T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37372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las arañas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rot="16200000">
            <a:off x="1555560" y="1765080"/>
            <a:ext cx="3309840" cy="3468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16200000">
            <a:off x="4795920" y="1620720"/>
            <a:ext cx="33098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064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¿Te gust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15772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los bocadillos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212760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21272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2276640"/>
            <a:ext cx="2127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4aa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60336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13000"/>
            <a:ext cx="4105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me gust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2160360" cy="159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77080" y="1773360"/>
            <a:ext cx="1584360" cy="158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141720"/>
            <a:ext cx="1512720" cy="1439640"/>
          </a:xfrm>
          <a:prstGeom prst="rect">
            <a:avLst/>
          </a:prstGeom>
          <a:solidFill>
            <a:srgbClr val="fcfc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59640" y="4365720"/>
            <a:ext cx="2232000" cy="2160360"/>
          </a:xfrm>
          <a:prstGeom prst="irregularSeal1">
            <a:avLst/>
          </a:prstGeom>
          <a:solidFill>
            <a:srgbClr val="3bd5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a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45864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73360"/>
            <a:ext cx="4427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Rounded MT Bold"/>
              </a:rPr>
              <a:t>no me gust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768320" cy="1841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77080" y="3284640"/>
            <a:ext cx="1784160" cy="1784160"/>
          </a:xfrm>
          <a:prstGeom prst="rect">
            <a:avLst/>
          </a:prstGeom>
          <a:ln w="0">
            <a:noFill/>
          </a:ln>
        </p:spPr>
      </p:pic>
      <p:sp>
        <p:nvSpPr>
          <p:cNvPr id="62" name="Music"/>
          <p:cNvSpPr/>
          <p:nvPr/>
        </p:nvSpPr>
        <p:spPr>
          <a:xfrm>
            <a:off x="4500720" y="184464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1811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608720" cy="324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577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la Navidad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4319640" cy="322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01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diciembre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392720" cy="329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300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San Valentín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7490160" cy="1692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7524360" y="1700280"/>
            <a:ext cx="64764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797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el sábado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641320" cy="3168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300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 Rounded MT Bold"/>
              </a:rPr>
              <a:t>Top of the Pops</a:t>
            </a: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00480" y="1773360"/>
            <a:ext cx="2487600" cy="32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2419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Jordan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20:09:18Z</dcterms:created>
  <dc:creator>CSeccombe</dc:creator>
  <dc:description/>
  <dc:language>en-US</dc:language>
  <cp:lastModifiedBy>PSeccombe</cp:lastModifiedBy>
  <dcterms:modified xsi:type="dcterms:W3CDTF">2006-01-30T11:38:04Z</dcterms:modified>
  <cp:revision>14</cp:revision>
  <dc:subject/>
  <dc:title>Slide 1</dc:title>
</cp:coreProperties>
</file>