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EC3-C5AC-4F4E-B15C-5A738F16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8DAA-7AE2-4632-9E00-CF5B16BA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1B8-09B7-4B67-8E46-83762E52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951-8FBD-4982-9577-B50562EB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FD7-4A80-4EB3-8979-F12B85EE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D67-E35D-4AE8-A7E7-DDC5FFBF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BBB-941D-46EC-959B-029BB475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C07-A09C-48BA-A732-5AD5E167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DC9-CA92-43BB-AC56-138EBC79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E21-441C-4153-854A-F269358F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969C-C541-465D-9AD6-02E2E8AD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77B-D230-4605-8E23-86090A9E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CBAD-171F-4476-BEDB-894FBDAD3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hyperlink" Target="http://www.sunderlandschools.org/mfl-sunderland" TargetMode="External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684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0"/>
            <a:ext cx="2592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95640" y="4076640"/>
            <a:ext cx="404640" cy="2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08000" y="5877000"/>
            <a:ext cx="405000" cy="266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627280" y="4933800"/>
            <a:ext cx="360360" cy="23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419640" y="4149720"/>
            <a:ext cx="490320" cy="301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419640" y="5229360"/>
            <a:ext cx="428400" cy="285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257040" cy="2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1476360" y="4005360"/>
            <a:ext cx="355680" cy="17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4788000" y="6021360"/>
            <a:ext cx="399960" cy="266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627280" y="3645000"/>
            <a:ext cx="333360" cy="285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2843280" y="3284640"/>
            <a:ext cx="404640" cy="27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1258920" y="5950080"/>
            <a:ext cx="449280" cy="29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843280" y="3933720"/>
            <a:ext cx="144360" cy="57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3573360"/>
            <a:ext cx="0" cy="647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6613560"/>
            <a:ext cx="65167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3"/>
              </a:rPr>
              <a:t>http://www.sunderlandschools.org/mfl-sunderland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20:21:30Z</dcterms:created>
  <dc:creator>CSeccombe</dc:creator>
  <dc:description/>
  <dc:language>en-US</dc:language>
  <cp:lastModifiedBy>CSeccombe</cp:lastModifiedBy>
  <dcterms:modified xsi:type="dcterms:W3CDTF">2007-07-13T12:09:41Z</dcterms:modified>
  <cp:revision>7</cp:revision>
  <dc:subject/>
  <dc:title>Slide 1</dc:title>
</cp:coreProperties>
</file>