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56AC-A797-4D84-B4EC-A9A6E0062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9556-CE9F-4ED9-873D-3CBD7042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5F2E-F136-4362-907E-E033615E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47D1-70D9-41F7-92FC-8ABA91CF7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284F-9FCD-4F52-878A-A382A044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564D-79FF-479F-998B-ABBBC4C2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54F8-345A-4194-888E-477EB2BD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39E5-47EC-426E-8A19-2B58C641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EC89-F1B4-4D05-9F2D-2EDFF13E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E154-2E65-449B-A7CD-393F70EE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742D-A453-4964-A170-69A693C9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6EA0-DC28-4D9B-A10C-503C5754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6400-5977-43AA-950B-10C9692CE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hyperlink" Target="http://www.sunderlandschools.org/mfl-sunderland" TargetMode="External"/><Relationship Id="rId1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6985080" cy="6842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0"/>
            <a:ext cx="2592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uro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195640" y="4076640"/>
            <a:ext cx="404640" cy="203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908000" y="5877000"/>
            <a:ext cx="405000" cy="266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627280" y="4933800"/>
            <a:ext cx="360360" cy="239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419640" y="4149720"/>
            <a:ext cx="490320" cy="301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419640" y="5229360"/>
            <a:ext cx="428400" cy="285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3276720" y="4941720"/>
            <a:ext cx="257040" cy="257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1476360" y="4005360"/>
            <a:ext cx="355680" cy="176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4788000" y="6021360"/>
            <a:ext cx="399960" cy="266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2627280" y="3645000"/>
            <a:ext cx="333360" cy="285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2843280" y="3284640"/>
            <a:ext cx="404640" cy="271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1258920" y="5950080"/>
            <a:ext cx="449280" cy="295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2843280" y="3933720"/>
            <a:ext cx="144360" cy="57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3573360"/>
            <a:ext cx="0" cy="647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6613560"/>
            <a:ext cx="65167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7 CS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13"/>
              </a:rPr>
              <a:t>http://www.sunderlandschools.org/mfl-sunderland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20:21:30Z</dcterms:created>
  <dc:creator>CSeccombe</dc:creator>
  <dc:description/>
  <dc:language>en-US</dc:language>
  <cp:lastModifiedBy>CSeccombe</cp:lastModifiedBy>
  <dcterms:modified xsi:type="dcterms:W3CDTF">2007-07-13T12:09:41Z</dcterms:modified>
  <cp:revision>7</cp:revision>
  <dc:subject/>
  <dc:title>Slide 1</dc:title>
</cp:coreProperties>
</file>