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2A31-0FC7-454B-92DA-C063CDA0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99F-ABF5-4D38-8194-4CB994D0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6B47-A7A0-450A-85A8-81B4CC04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F27E-58FF-4DC6-84F1-18DA7B22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2163-F1F6-4495-80B5-D93F9EE8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F299-38A5-44EC-B266-3F3B39EE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B5C6-2249-4FFA-82E3-8866C71B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36EA-5105-403E-AC4A-95A7A018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281D-007A-4FAB-B682-13E237C1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3E23-EC54-4811-BE98-00E7DEC8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4C00-48DD-4ED6-AB70-A8EFC623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D9DF-551A-48A9-8292-CA8669EE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6CAC-931C-46F7-BC78-108DF76ED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76720" y="189000"/>
            <a:ext cx="280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La Ropa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1293840" cy="1368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19640" y="981000"/>
            <a:ext cx="1369800" cy="16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187280" y="2909880"/>
            <a:ext cx="1513080" cy="142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780000" y="2852640"/>
            <a:ext cx="682560" cy="1730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292720" y="2852640"/>
            <a:ext cx="1509840" cy="1656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619280" y="4724280"/>
            <a:ext cx="727200" cy="1827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276720" y="5013360"/>
            <a:ext cx="1214280" cy="1209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3635280" y="5084640"/>
            <a:ext cx="1214640" cy="1209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5508720" y="4869000"/>
            <a:ext cx="1728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812960" cy="1917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492360" y="404640"/>
            <a:ext cx="1668600" cy="201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042920" y="2789280"/>
            <a:ext cx="1657440" cy="1555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780000" y="2852640"/>
            <a:ext cx="682560" cy="1730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6300720" y="2708280"/>
            <a:ext cx="1509840" cy="1655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1619280" y="4724280"/>
            <a:ext cx="727200" cy="1827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3276720" y="5013360"/>
            <a:ext cx="1214280" cy="1209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3635280" y="5084640"/>
            <a:ext cx="1214640" cy="1209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6443640" y="5013360"/>
            <a:ext cx="1728720" cy="1592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0920" y="2421000"/>
            <a:ext cx="88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4653000"/>
            <a:ext cx="88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276720" y="189000"/>
            <a:ext cx="280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más ropa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1657440" cy="1575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067280" y="981000"/>
            <a:ext cx="1428480" cy="1873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227640" y="1125360"/>
            <a:ext cx="1636920" cy="1525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258920" y="2997360"/>
            <a:ext cx="1819080" cy="1369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012000" y="2781360"/>
            <a:ext cx="1800000" cy="1733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3851280" y="2924280"/>
            <a:ext cx="1687680" cy="1385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2411280" y="4653000"/>
            <a:ext cx="1457280" cy="2022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4859280" y="4869000"/>
            <a:ext cx="2089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9:47:37Z</dcterms:created>
  <dc:creator>CSeccombe</dc:creator>
  <dc:description/>
  <dc:language>en-US</dc:language>
  <cp:lastModifiedBy>CSeccombe</cp:lastModifiedBy>
  <dcterms:modified xsi:type="dcterms:W3CDTF">2008-01-11T12:07:01Z</dcterms:modified>
  <cp:revision>3</cp:revision>
  <dc:subject/>
  <dc:title>Slide 1</dc:title>
</cp:coreProperties>
</file>