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32F9-D051-438D-BF0B-3159F26C5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986D-DF49-40DA-9746-3AF60FDF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DAD9-8FBE-4BE5-9BAC-CABF4C0E0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5C9D-E05E-41A8-A1B5-2C4BDF2F8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F76D-5786-413C-998D-FC3D67B1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94CC-B001-4A2F-8B71-5BB66B05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35E1-CDC3-4D37-B405-F3DC30DF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58B5-61AB-4CE7-B644-453583BF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B1CC-4629-4055-BB4B-4F5B16FF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9D7A-B99A-4A60-9683-B3A0DAD2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2744-DD53-41C3-97F8-C294AC46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8F36-4EAC-454C-BB43-CAADCBE8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46F0-122E-48C1-BC6A-A0366A9C5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76720" y="189000"/>
            <a:ext cx="2808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La Ropa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58920" y="1052640"/>
            <a:ext cx="1293840" cy="1368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419640" y="981000"/>
            <a:ext cx="1369800" cy="165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187280" y="2909880"/>
            <a:ext cx="1513080" cy="142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780000" y="2852640"/>
            <a:ext cx="682560" cy="1730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5292720" y="2852640"/>
            <a:ext cx="1509840" cy="1656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1619280" y="4724280"/>
            <a:ext cx="727200" cy="1827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3276720" y="5013360"/>
            <a:ext cx="1214280" cy="1209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3635280" y="5084640"/>
            <a:ext cx="1214640" cy="1209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5508720" y="4869000"/>
            <a:ext cx="17287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1812960" cy="1917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492360" y="404640"/>
            <a:ext cx="1668600" cy="2016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042920" y="2789280"/>
            <a:ext cx="1657440" cy="1555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3780000" y="2852640"/>
            <a:ext cx="682560" cy="1730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6300720" y="2708280"/>
            <a:ext cx="1509840" cy="1655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1619280" y="4724280"/>
            <a:ext cx="727200" cy="1827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3276720" y="5013360"/>
            <a:ext cx="1214280" cy="1209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3635280" y="5084640"/>
            <a:ext cx="1214640" cy="1209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6443640" y="5013360"/>
            <a:ext cx="1728720" cy="1592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50920" y="2421000"/>
            <a:ext cx="88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4653000"/>
            <a:ext cx="88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3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80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276720" y="189000"/>
            <a:ext cx="2808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más ropa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03280" y="1125360"/>
            <a:ext cx="1657440" cy="1575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067280" y="981000"/>
            <a:ext cx="1428480" cy="1873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227640" y="1125360"/>
            <a:ext cx="1636920" cy="1525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258920" y="2997360"/>
            <a:ext cx="1819080" cy="1369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6012000" y="2781360"/>
            <a:ext cx="1800000" cy="1733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3851280" y="2924280"/>
            <a:ext cx="1687680" cy="1385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2411280" y="4653000"/>
            <a:ext cx="1457280" cy="2022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8"/>
          <a:stretch/>
        </p:blipFill>
        <p:spPr>
          <a:xfrm>
            <a:off x="4859280" y="4869000"/>
            <a:ext cx="20890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19:47:37Z</dcterms:created>
  <dc:creator>CSeccombe</dc:creator>
  <dc:description/>
  <dc:language>en-US</dc:language>
  <cp:lastModifiedBy>CSeccombe</cp:lastModifiedBy>
  <dcterms:modified xsi:type="dcterms:W3CDTF">2008-01-11T12:07:01Z</dcterms:modified>
  <cp:revision>3</cp:revision>
  <dc:subject/>
  <dc:title>Slide 1</dc:title>
</cp:coreProperties>
</file>