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015-43B7-4B39-BACD-AD1C008D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B88-FB68-4183-8AAB-D60C64E6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E76-28D3-4CF6-AA52-AEFDF89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662-FD45-4187-934A-E1EC42BD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723-3B5D-45F8-896A-5AF7B117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4A0-D27C-4D92-BADC-C353C2A1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968-21C2-497E-A769-987EEE7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4D9-BA13-45EC-872D-752CF20A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5D7-A922-40F0-88CB-840FA83B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998-191E-49C9-8071-B49F71C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5A9-7421-4E84-9406-68CE529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500-5296-4867-894C-893701DF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74E-F6B7-4C43-B40B-10FEEAE3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pain flag spanish"/>
          <p:cNvPicPr/>
          <p:nvPr/>
        </p:nvPicPr>
        <p:blipFill>
          <a:blip r:embed="rId1"/>
          <a:stretch/>
        </p:blipFill>
        <p:spPr>
          <a:xfrm>
            <a:off x="1476360" y="1341360"/>
            <a:ext cx="5904000" cy="3828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03640" y="6643800"/>
            <a:ext cx="41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57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omic Sans MS"/>
              </a:rPr>
              <a:t>Madri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72480" cy="5229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80920" y="814320"/>
            <a:ext cx="7382160" cy="5229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72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13440" cy="519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62480" cy="604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318360" cy="3849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239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005360" cy="626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8000" y="1557360"/>
            <a:ext cx="5329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ur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807080" cy="640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553080" cy="6103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308480" cy="64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00520" cy="626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28:54Z</dcterms:created>
  <dc:creator>Clare</dc:creator>
  <dc:description/>
  <dc:language>en-US</dc:language>
  <cp:lastModifiedBy>Clare</cp:lastModifiedBy>
  <dcterms:modified xsi:type="dcterms:W3CDTF">2008-09-12T09:24:45Z</dcterms:modified>
  <cp:revision>7</cp:revision>
  <dc:subject/>
  <dc:title>Slide 1</dc:title>
</cp:coreProperties>
</file>