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861-7700-42E1-8DF5-BF7907DB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A15-DC65-4004-A365-7B245AE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B2E-0090-40E2-94F6-60651737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439-E61B-40AE-99E5-E1710146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657-BA07-437E-B67C-A06046D3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C3E-F2B8-4643-8DA5-9EBBC96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C25-48DF-4F2E-B85C-A6A23CA5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A54-D4EB-468E-9EDC-A9EAF26D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290-76C8-48D2-AE85-569196B4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828-24B4-4656-BA96-F0D1CE7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15C-5079-4F02-A5C8-459D9A33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E64-890C-405E-8853-C7B810E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CC59-EB79-48C1-8BC3-5CABA8AF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pain flag spanish"/>
          <p:cNvPicPr/>
          <p:nvPr/>
        </p:nvPicPr>
        <p:blipFill>
          <a:blip r:embed="rId1"/>
          <a:stretch/>
        </p:blipFill>
        <p:spPr>
          <a:xfrm>
            <a:off x="1476360" y="1341360"/>
            <a:ext cx="5904000" cy="3828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03640" y="6643800"/>
            <a:ext cx="41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57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omic Sans MS"/>
              </a:rPr>
              <a:t>Madri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72480" cy="5229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80920" y="814320"/>
            <a:ext cx="7382160" cy="5229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72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13440" cy="519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62480" cy="604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318360" cy="3849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239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005360" cy="626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8000" y="1557360"/>
            <a:ext cx="5329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ur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807080" cy="640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553080" cy="6103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308480" cy="64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00520" cy="626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28:54Z</dcterms:created>
  <dc:creator>Clare</dc:creator>
  <dc:description/>
  <dc:language>en-US</dc:language>
  <cp:lastModifiedBy>Clare</cp:lastModifiedBy>
  <dcterms:modified xsi:type="dcterms:W3CDTF">2008-09-12T09:24:45Z</dcterms:modified>
  <cp:revision>7</cp:revision>
  <dc:subject/>
  <dc:title>Slide 1</dc:title>
</cp:coreProperties>
</file>