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D7D-2B20-4202-BE28-D1079105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AC9-CA74-44BA-83C3-83D72E9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726-38C6-4B18-86B2-C72AF299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1DD-853C-42DF-ABC7-3296AEC5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02C-B479-491B-9E51-A80E66A4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BC0-97F8-4CE5-8968-731F7F87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0E5-AFE4-4D81-BE00-251BADDF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862-F78D-49E4-B212-3F5D2F1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1FD-5B9C-4553-B439-8BC5CDD2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F6D-34F7-4803-B326-05BB03D4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9C6-7184-4B10-93CC-E35E6EDD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FDB-E028-4767-BE2E-1820B9F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5F64-78F8-49E4-9E1E-8D4BC3847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uk/imgres?imgurl=http://www.carter.k12.ky.us/ECHS/French%2520Site%2520Pictures/france_flag.png&amp;imgrefurl=http://www.carter.k12.ky.us/ECHS/french%2520travel%2520abroad%2520page.htm&amp;h=533&amp;w=800&amp;sz=3&amp;hl=en&amp;start=6&amp;um=1&amp;usg=__ut3YQJ2cvWWeeqkjH3sXzkWyqYY=&amp;tbnid=gXlsB2M65uFppM:&amp;tbnh=95&amp;tbnw=143&amp;prev=/images%3Fq%3Dfrance%2Bflag%26um%3D1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pain flag spanish"/>
          <p:cNvPicPr/>
          <p:nvPr/>
        </p:nvPicPr>
        <p:blipFill>
          <a:blip r:embed="rId1"/>
          <a:stretch/>
        </p:blipFill>
        <p:spPr>
          <a:xfrm>
            <a:off x="971640" y="1557360"/>
            <a:ext cx="1728720" cy="112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.  Which is Spain’s fla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557360"/>
            <a:ext cx="1727280" cy="114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03640" y="6453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8 CS 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6.  Which is Spain’s capital cit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 Lisb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adri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C.  Dub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86440" y="1413000"/>
            <a:ext cx="2257560" cy="352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.  Who is King of Spai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11893" b="0"/>
          <a:stretch/>
        </p:blipFill>
        <p:spPr>
          <a:xfrm>
            <a:off x="3492360" y="1413000"/>
            <a:ext cx="2374920" cy="338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5640" y="1484280"/>
            <a:ext cx="1886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.  Which currency does Spain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llar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uro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 P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04640"/>
            <a:ext cx="8640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.  Which of these foods is NOT Spanish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08908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294000" cy="200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2757600" cy="207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98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198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437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4292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239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5.  Which of these is NOT in Spain 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76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30848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692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00520" cy="626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692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72480" cy="522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13440" cy="519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197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28:54Z</dcterms:created>
  <dc:creator>Clare</dc:creator>
  <dc:description/>
  <dc:language>en-US</dc:language>
  <cp:lastModifiedBy>Clare</cp:lastModifiedBy>
  <dcterms:modified xsi:type="dcterms:W3CDTF">2008-09-12T09:25:37Z</dcterms:modified>
  <cp:revision>7</cp:revision>
  <dc:subject/>
  <dc:title>Slide 1</dc:title>
</cp:coreProperties>
</file>