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F9B-5E1D-4B07-81B8-20046257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D7C-FA1B-4677-A3BB-B2E6338D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C44-C0F0-4137-B5C7-A765E4C6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A81-08A6-435B-821D-00CFA01B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B05-E7E1-498B-84C5-1497A4A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1B6-0D39-4D69-8685-76AE216A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CC3-BEC3-4B11-8369-0B25AD05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D0D-2E37-4D4E-B3EC-0DFB9ADD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6F9-ED16-48F4-9403-FAAD6249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3E5-47F1-437C-8BAE-DCD80BB4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8B7-674E-46AD-A60C-238E591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280-7456-4EAC-B4EC-49B8D9C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465B-C435-48E3-9561-5FE92F43E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uk/imgres?imgurl=http://www.carter.k12.ky.us/ECHS/French%2520Site%2520Pictures/france_flag.png&amp;imgrefurl=http://www.carter.k12.ky.us/ECHS/french%2520travel%2520abroad%2520page.htm&amp;h=533&amp;w=800&amp;sz=3&amp;hl=en&amp;start=6&amp;um=1&amp;usg=__ut3YQJ2cvWWeeqkjH3sXzkWyqYY=&amp;tbnid=gXlsB2M65uFppM:&amp;tbnh=95&amp;tbnw=143&amp;prev=/images%3Fq%3Dfrance%2Bflag%26um%3D1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pain flag spanish"/>
          <p:cNvPicPr/>
          <p:nvPr/>
        </p:nvPicPr>
        <p:blipFill>
          <a:blip r:embed="rId1"/>
          <a:stretch/>
        </p:blipFill>
        <p:spPr>
          <a:xfrm>
            <a:off x="971640" y="1557360"/>
            <a:ext cx="1728720" cy="1120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40464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.  Which is Spain’s fla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1557360"/>
            <a:ext cx="1727280" cy="114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300720" y="1557360"/>
            <a:ext cx="1800360" cy="1200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03640" y="645336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MFL Sunderland 2008 CS 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40464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6.  Which is Spain’s capital cit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 Lisbo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adrid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C.  Dub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86440" y="1413000"/>
            <a:ext cx="2257560" cy="352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40464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.  Who is King of Spai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B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11893" b="0"/>
          <a:stretch/>
        </p:blipFill>
        <p:spPr>
          <a:xfrm>
            <a:off x="3492360" y="1413000"/>
            <a:ext cx="2374920" cy="338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55640" y="1484280"/>
            <a:ext cx="1886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40464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.  Which currency does Spain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ollar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uro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. P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404640"/>
            <a:ext cx="8640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.  Which of these foods is NOT Spanish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08908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294000" cy="200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003640" y="422100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2757600" cy="207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198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1989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437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429264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985080" cy="5239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5.  Which of these is NOT in Spain 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765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308480" cy="6480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87280" y="692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00520" cy="626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42920" y="69228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72480" cy="522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341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13440" cy="5192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197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9:28:54Z</dcterms:created>
  <dc:creator>Clare</dc:creator>
  <dc:description/>
  <dc:language>en-US</dc:language>
  <cp:lastModifiedBy>Clare</cp:lastModifiedBy>
  <dcterms:modified xsi:type="dcterms:W3CDTF">2008-09-12T09:25:37Z</dcterms:modified>
  <cp:revision>7</cp:revision>
  <dc:subject/>
  <dc:title>Slide 1</dc:title>
</cp:coreProperties>
</file>