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027-3E11-4399-8729-DCBA7148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53B-A859-455C-A5E6-E2A0EBC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414-3151-45C5-83E2-74312D09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E78-85F4-403C-999B-D7827ED2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C37-C019-4269-A564-908414E0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184-BB46-48D4-98A7-6302C9AA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3F9-2681-4C95-A980-BDDA7C02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D4B-3914-45EF-B94A-F2CEF66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A74-8ECD-4E54-ACDD-D2C60289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871-FCBC-4F7E-9BD2-14B0529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A1F-6706-4863-A5D9-EC75B6F8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8ED-E604-4E54-BA0B-5D9BE02B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1CEC-CA89-4B02-8A27-CE27CD9E5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89000"/>
            <a:ext cx="828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ucky Lott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48360" y="2133720"/>
            <a:ext cx="3095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ucky Lott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643800"/>
            <a:ext cx="41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08 BH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sunderlandschools.org/mfl-sunderland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0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e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2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cator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31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42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diecisé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53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64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iecisie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75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8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97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208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2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219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diecioch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230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3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4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5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6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ecinue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7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8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98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9:25:51Z</dcterms:created>
  <dc:creator>dalehopper</dc:creator>
  <dc:description/>
  <dc:language>en-US</dc:language>
  <cp:lastModifiedBy>Clare</cp:lastModifiedBy>
  <dcterms:modified xsi:type="dcterms:W3CDTF">2008-09-12T09:45:56Z</dcterms:modified>
  <cp:revision>5</cp:revision>
  <dc:subject/>
  <dc:title>Slide 1</dc:title>
</cp:coreProperties>
</file>