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341-2154-4BEF-8DFF-B6D4E231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09E-9141-4231-981D-64E34470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BFD-02DB-4007-A952-144AA503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35C-D77F-4940-85E2-6FC4706B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994-C795-41AD-8C3C-579B045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3D1-6A02-4995-9B25-ED2ACE4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561-1CB8-43B0-BFB6-5CA40C08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B1A-EC3C-4D5E-A22E-20281991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E08-CE4A-4E67-964C-230B4AC2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F86-33A9-478C-B3F4-DF67296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76B-7F1F-4C3A-A16A-3149EE3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9BE-6AA6-4C2A-86A6-097E713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139-3734-4F54-A0AB-48A6EACF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89000"/>
            <a:ext cx="82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ucky Lot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48360" y="2133720"/>
            <a:ext cx="309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ucky Lot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643800"/>
            <a:ext cx="41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BH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5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0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e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2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tor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31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42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53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64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cisie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75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197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08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19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diecioch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230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4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5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6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7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e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8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95280" y="2205000"/>
            <a:ext cx="3672000" cy="4249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516640"/>
            <a:ext cx="36720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5805360"/>
            <a:ext cx="43308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6021360"/>
            <a:ext cx="433440" cy="43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805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6021360"/>
            <a:ext cx="4334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6000" y="5589720"/>
            <a:ext cx="433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602136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595008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0720" y="5589720"/>
            <a:ext cx="4334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2720" y="602136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558972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68360" y="558972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5734080"/>
            <a:ext cx="4334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602136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72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518080"/>
            <a:ext cx="433440" cy="432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5950080"/>
            <a:ext cx="4334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9280" y="5518080"/>
            <a:ext cx="43308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551808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5662440"/>
            <a:ext cx="4334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5950080"/>
            <a:ext cx="433440" cy="431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5878440"/>
            <a:ext cx="4334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1989000"/>
            <a:ext cx="6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88000" y="1413000"/>
            <a:ext cx="3960720" cy="37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8.67052E-007 L -4.16667E-006 -0.58728 E">
                                      <p:cBhvr>
                                        <p:cTn id="9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9:25:51Z</dcterms:created>
  <dc:creator>dalehopper</dc:creator>
  <dc:description/>
  <dc:language>en-US</dc:language>
  <cp:lastModifiedBy>Clare</cp:lastModifiedBy>
  <dcterms:modified xsi:type="dcterms:W3CDTF">2008-09-12T09:45:56Z</dcterms:modified>
  <cp:revision>5</cp:revision>
  <dc:subject/>
  <dc:title>Slide 1</dc:title>
</cp:coreProperties>
</file>